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  <p:sldId id="345" r:id="rId107"/>
    <p:sldId id="346" r:id="rId108"/>
    <p:sldId id="347" r:id="rId109"/>
    <p:sldId id="348" r:id="rId110"/>
    <p:sldId id="349" r:id="rId111"/>
    <p:sldId id="350" r:id="rId112"/>
    <p:sldId id="351" r:id="rId113"/>
    <p:sldId id="352" r:id="rId114"/>
    <p:sldId id="353" r:id="rId115"/>
    <p:sldId id="354" r:id="rId116"/>
    <p:sldId id="355" r:id="rId117"/>
    <p:sldId id="356" r:id="rId118"/>
    <p:sldId id="357" r:id="rId119"/>
    <p:sldId id="358" r:id="rId120"/>
    <p:sldId id="359" r:id="rId121"/>
    <p:sldId id="360" r:id="rId122"/>
    <p:sldId id="361" r:id="rId123"/>
    <p:sldId id="362" r:id="rId124"/>
    <p:sldId id="363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slide" Target="slides/slide90.xml"/><Relationship Id="rId108" Type="http://schemas.openxmlformats.org/officeDocument/2006/relationships/slide" Target="slides/slide91.xml"/><Relationship Id="rId109" Type="http://schemas.openxmlformats.org/officeDocument/2006/relationships/slide" Target="slides/slide92.xml"/><Relationship Id="rId110" Type="http://schemas.openxmlformats.org/officeDocument/2006/relationships/slide" Target="slides/slide93.xml"/><Relationship Id="rId111" Type="http://schemas.openxmlformats.org/officeDocument/2006/relationships/slide" Target="slides/slide94.xml"/><Relationship Id="rId112" Type="http://schemas.openxmlformats.org/officeDocument/2006/relationships/slide" Target="slides/slide95.xml"/><Relationship Id="rId113" Type="http://schemas.openxmlformats.org/officeDocument/2006/relationships/slide" Target="slides/slide96.xml"/><Relationship Id="rId114" Type="http://schemas.openxmlformats.org/officeDocument/2006/relationships/slide" Target="slides/slide97.xml"/><Relationship Id="rId115" Type="http://schemas.openxmlformats.org/officeDocument/2006/relationships/slide" Target="slides/slide98.xml"/><Relationship Id="rId116" Type="http://schemas.openxmlformats.org/officeDocument/2006/relationships/slide" Target="slides/slide99.xml"/><Relationship Id="rId117" Type="http://schemas.openxmlformats.org/officeDocument/2006/relationships/slide" Target="slides/slide100.xml"/><Relationship Id="rId118" Type="http://schemas.openxmlformats.org/officeDocument/2006/relationships/slide" Target="slides/slide101.xml"/><Relationship Id="rId119" Type="http://schemas.openxmlformats.org/officeDocument/2006/relationships/slide" Target="slides/slide102.xml"/><Relationship Id="rId120" Type="http://schemas.openxmlformats.org/officeDocument/2006/relationships/slide" Target="slides/slide103.xml"/><Relationship Id="rId121" Type="http://schemas.openxmlformats.org/officeDocument/2006/relationships/slide" Target="slides/slide104.xml"/><Relationship Id="rId122" Type="http://schemas.openxmlformats.org/officeDocument/2006/relationships/slide" Target="slides/slide105.xml"/><Relationship Id="rId123" Type="http://schemas.openxmlformats.org/officeDocument/2006/relationships/slide" Target="slides/slide106.xml"/><Relationship Id="rId124" Type="http://schemas.openxmlformats.org/officeDocument/2006/relationships/slide" Target="slides/slide107.xml"/><Relationship Id="rId125" Type="http://schemas.openxmlformats.org/officeDocument/2006/relationships/slide" Target="slides/slide108.xml"/><Relationship Id="rId1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E73-7DED-44D3-8832-5A6802FE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78D-F936-432B-85AA-9407610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E4542-DA0F-439D-B03D-E01F2978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DEF79-3271-4EC7-9028-9F692747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E91A2-81E4-4E7C-90CA-3E7705B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25D0-CF91-49AE-8D10-768BD8EF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2F402-C9A6-4431-BFD7-B29F57C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352C9-0B28-414C-AA85-3EB65BB8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03B50-42CD-4C51-B405-B3ED5A7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03319-B0C4-447A-AEF1-DC09EC2B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16B78-B813-42DE-9A17-6935A3B8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FF8945-D111-4E4F-8C53-A2BAD023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8DB-8943-4723-B0D9-16D3990A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363F79-D9EE-463C-BA1A-21337465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E61F0B-6B2E-4DBD-BCE5-6D51EAC9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098B73-2C16-4AFC-8B44-E021C4A6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F6A77C-D793-4E24-A2FB-2FAFED58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9384E2-34DA-446D-8A46-59EB104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4D06B7-0F16-4327-872A-B429402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0CEEF2-D439-4903-91D4-E90E055D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38B5C5-E48D-4715-A42C-67852342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282ED1-3CDF-44B7-8316-22A350D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BE76F4-C93A-443E-B529-138EEDC4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8D5-0529-4091-96A0-0ECBF9ED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DDB2D2-64F3-4E77-B8A6-FE491C62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2D331-6414-420F-A255-1FBB6EDE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DEB54-3C8B-46C1-A91B-251E493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E9A5E-E7F8-4CCF-B8E9-FA98E816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F64B8-AE86-403D-96A6-A4F8A04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EC0A2-EDD1-4CEA-9C7E-F9EF6F29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16DCB-A874-4AAA-9E7F-75ED1809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59FDA-7C59-46BC-A500-137A032A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3559C-D49F-4C79-AA6C-A243C3A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42055-3ED5-4A8E-8865-EEB638E9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E381-C0E4-4C22-8E37-7EBE937C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26CCE-FAAA-4651-8C56-59BF39BB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6B4E4-1F2A-4CE1-8DE2-24A36247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DAE4B-4234-4143-81F7-F101AA4E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EA478-F4AB-4440-AE9C-DEC0D967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3BFD4-F2D1-4AB2-A563-C9D1D9E0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BE1AA-30C6-4177-9059-EA5C6A8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0F546-48BD-4B9D-99B2-A887F691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C72C8-B32C-4FE1-B92E-95279155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69744-45D1-403A-A1C4-1CF35EA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A809E-C81D-43D9-815F-E1D96CF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D52F-7B51-46FE-ADAD-080CAFDC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26683-B276-489C-81AF-D8E02369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54221-7290-4359-A8D7-CC50713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89F14-EA4C-41A3-87E7-7B866C9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2DFFA-7B7A-49FF-B704-D655B041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2787C-CF12-425C-A979-0D9BA1D4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17F1F2-05F9-4E2D-898D-7A1939C3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9E5DBF-8FE6-4954-A3B8-5E1D15C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D69F2F-71AB-4662-80A6-EAF80590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883F84-9399-4358-8EBC-CABC9AD1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AF1044-B6F6-4564-9666-5D5C729F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DBC4-48AA-4CF3-A555-A4B82188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F1DC06-CFAE-498E-A363-7C4E895C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911005-5C59-4D5D-99AB-AA8DFB9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21B968-23DF-4E74-BC9A-710A48A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159B54-76AC-4947-9A45-A787BF3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43E93F-6D65-41F3-8359-95023683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8C3B28-A599-4642-8D46-4E48ABE6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3ADCCB-3CD2-459C-8656-7C1A45C6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E96DE-A07F-4A9E-8916-4DDE13C4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D4160-EF93-49FA-B97D-F6868D93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A4AB4-80B4-470C-B8C5-D8FDAFAA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7309-A7BF-4AA1-A4C5-F3D83BC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006B1-37F4-476F-8243-2950015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47BB1-762F-4AC3-B372-A7BD50C4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76A21-3E44-4F64-A88B-96F060C8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7534A-5832-4264-90F6-B0BA5200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7F4E6-DA02-4E9F-ABBA-1A976BE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1AA3C-F05F-497E-A873-728B27AC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17A8B-4B99-42D4-B90E-6F28BF8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BF75E-85B9-48EC-AD95-7469A733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E8E94-E0A9-44B6-9AD4-D819743D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A40FA-C1DB-4F18-BD7A-21D43E3B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0FF6-2864-4EBB-B5A8-77E0CE4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574AD-67ED-4732-8D73-D2A1C987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AA3D0-7B5A-4988-9A39-5970DF6F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0EC48-E305-4678-9C16-951719D9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330FE-5D09-45C2-BC9D-AAEAA9BA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08CE7-A568-40DA-8290-E2895C5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4997B-0C02-4D4D-AA56-FBFEBED5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59E3B-0A76-4CD1-A8ED-FDB7529F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D7F17-3885-4A27-8EF2-0D45CF9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295BE-3A9F-4089-B201-6F35D70B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C986E-7AD3-41CF-90E0-0255A639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DA3-3DFC-42B7-B01D-2E5675D5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4AF74-8328-4155-9F1A-67885B4C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2F8C6C-62AA-41A8-942A-30A08162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CCE8EB-252C-4C81-ADCE-6F65C36C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06AC4E-B2CA-467C-A2FB-501BB5A2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3478BD-9F5C-46DD-8083-220209CD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32CE8B-D537-421D-A188-15C67EB7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FC546E-70EA-4815-99A3-89D95A1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067F31-92F8-4A57-BDB3-CA01606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060A35-AC44-44AA-9E85-7EA23A4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E25FD9-C0D4-48AD-AB38-915455A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0C93-2D14-4725-9BED-9D47344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417511-2135-44F6-A120-9CA82980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1F2016-0940-4D09-999F-16DB5342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E3890B-04F9-4E63-B63C-939FC302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09F-FEC8-4CB7-A6B7-49E5840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06E2-31AD-404F-9D69-440DC5A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AFB3-C326-42D2-A9A0-B598043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F42A-2B8A-431A-9C02-E89C9B13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010D-2AE4-4354-93DC-C05316CC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441F-DE05-4A35-9439-9C4AF9C3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C077-DDF8-4519-890E-578EA8AA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FC1D-6123-40DF-A03C-9BB1F5FE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DBB5-30BF-47E7-8B1A-6A82F143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5461-F0F1-48AE-8941-BB10666F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1F32-E0E2-4341-BEE0-33601D29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8D6-0722-41A0-8ACE-16C37DB0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5681-331F-420D-8BAC-1D90D582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4DAD-13D8-47ED-B333-51E20E1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1D48-8E0B-4BD9-B64B-EAE0B52E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6F4E-5C62-4CDF-AAF4-C45F2C8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F925-142F-4F9A-899B-5AB13AE6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076F-EF9C-47E6-A6BD-9D88250B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4589-20EC-467F-9C8E-D5B12B82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15C5-21A9-4CA7-8195-844A2B88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77EA-A192-46D4-B1C7-66CB1D92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38CD-D9DD-46D5-B09B-0ED8C80F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B3D-4FED-4CC3-A702-B8C69152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DDE3-A534-4CB6-86DF-8BB0A726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FAB4-5B52-4348-9F96-E9654F09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04FE-FF0C-4929-B3D5-6054B4E2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A104-7EAC-4A07-89D6-0A7A1EE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243D-CC55-4C8A-B51D-F27335E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E93E-EA66-4755-9F69-19E2F641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F35E-04A8-4DD0-8A9D-2913BDBA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C662-0156-4A34-965B-87E04F33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C404B-B4CA-4F4A-8BD3-AF0D9739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E678-CEA7-4DD7-B2F3-1C5C074B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50C-EBC5-44D8-8995-53D4968E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DCAA-088B-41CD-BA7F-85B2B55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77903-FD34-408B-87F5-F01EFD01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34A27-CC02-4E31-8638-C5A671CC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6B779-F87F-4718-A644-C581AF75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86D4-C0CE-4A96-8D5F-18B488C7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02AA-6977-4F84-B3BD-6934251B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F640F-168F-4AC2-82AA-9C6EDE8C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61DD-41C7-47F3-968C-218E8D4C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89A9-63CD-413D-912C-F28A6521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39861-E951-4FE6-ADCB-2C6E184E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8C5-803C-4CDC-8FEF-5F1EEF9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13DA5-C422-4F90-A535-3F80EBC9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10792-F48B-49A2-9A03-DEBBAD12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83C91-E68C-4464-8B33-5C4653B0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6BA13-7B2E-4B05-AFC2-DDC13A73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501A-623C-4EE7-A8E1-56B23538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D0C55-A358-4B10-8837-4A20714F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9A6C2-C153-4EB4-9C73-1D578D2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0A21-F106-41DE-9D7E-762976B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0152-C2D4-4EFF-9C7D-235F096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2078-5B57-4FFF-B419-62296CC9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7E5-043E-4152-97EF-6A19AE2F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4DBA-5304-4148-8590-8404758B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6C731-9C2A-483D-9AD7-AA52855D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6AC1E-B4A4-48A3-9477-F2AD375F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19FF9-692D-450D-8934-97E24FFC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1FF8-66C8-419B-82C9-F2AED157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409F-0B88-409B-8194-D4E44DDE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54F73-31F1-4BDF-A911-E8AD3D19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29408-76AA-4845-8ED0-A1CD68BD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C343-29DF-41A5-AA04-FE7A35DB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BD2A-E58A-41A9-9114-7B2BC7F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C1B-01EF-4FF5-99AA-7CB7C94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05B6-181C-4CFB-9540-1C27571D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E759A-9D8B-4B91-80D2-5E741824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A690-F4AD-4D34-BB18-5C7BF156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13D7-86B4-44A3-B07E-8F0F50E8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95D03-D667-448E-B81A-0E361CF8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4A32-D8C9-4AE7-A87A-5EE54F8E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CFF36-9E03-40B9-B939-DB8376F9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68D6A-77D3-4F1C-8C8F-BEE52D4D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109E8-2F4B-415E-B94C-6D41F7A1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8655A-F338-4DD2-8E41-2E640F96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289-BEF5-4F39-870F-EE8DEFC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4FC71-E1F0-4E55-B99D-79E40E94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29EC5-3EAF-4392-8E92-E5D55F7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1E976-FEF8-4C18-A78A-F10856EC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F62A9-4635-43C7-BA0E-40FA8EEC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371600" y="4803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2A1D2-CB0C-43F1-8466-70F72C77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51560" y="3887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37160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51560" y="4803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6F65-AF3E-4AE5-9641-E3071E0D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3556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699880" y="3887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37160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3556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699880" y="4803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7B96B-7329-45EB-A2A1-F59DAB15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A2723-29E8-47AF-9D09-204C597E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D6F55-D402-43C0-A76A-DC6F231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887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1BF1B-5D74-44D8-A108-899923A1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696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944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112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972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624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808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736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504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952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304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92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440"/>
              <a:ext cx="7985160" cy="265284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92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256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648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9012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904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96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336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336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768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832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960"/>
              <a:ext cx="9131400" cy="295956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3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760"/>
              <a:ext cx="9131400" cy="212292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432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432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5044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24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9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6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1280"/>
              <a:ext cx="9140760" cy="2949480"/>
              <a:chOff x="0" y="259128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128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36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EFC0-DC2B-4AEB-98C9-10AE06C45E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998360"/>
            <a:ext cx="77724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285840" y="2805120"/>
            <a:ext cx="1440" cy="303372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ftr" idx="2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B1CD-8757-4118-B7A6-E2903D8D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dt" idx="3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1440" y="0"/>
            <a:ext cx="9149040" cy="6852960"/>
            <a:chOff x="1440" y="0"/>
            <a:chExt cx="9149040" cy="6852960"/>
          </a:xfrm>
        </p:grpSpPr>
        <p:sp>
          <p:nvSpPr>
            <p:cNvPr id="565" name=""/>
            <p:cNvSpPr/>
            <p:nvPr/>
          </p:nvSpPr>
          <p:spPr>
            <a:xfrm>
              <a:off x="8008920" y="4169880"/>
              <a:ext cx="1141560" cy="26830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550360" y="602424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016920" y="669132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57200" y="0"/>
              <a:ext cx="8093160" cy="6852600"/>
              <a:chOff x="457200" y="0"/>
              <a:chExt cx="8093160" cy="6852600"/>
            </a:xfrm>
          </p:grpSpPr>
          <p:sp>
            <p:nvSpPr>
              <p:cNvPr id="569" name=""/>
              <p:cNvSpPr/>
              <p:nvPr/>
            </p:nvSpPr>
            <p:spPr>
              <a:xfrm>
                <a:off x="4427640" y="0"/>
                <a:ext cx="114120" cy="685260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0"/>
                <a:ext cx="276120" cy="685260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30880" y="0"/>
                <a:ext cx="534960" cy="685260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35600" y="0"/>
                <a:ext cx="677880" cy="685260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264360" y="0"/>
                <a:ext cx="885600" cy="685260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40640" y="0"/>
                <a:ext cx="1095120" cy="685260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178760" y="0"/>
                <a:ext cx="1371600" cy="685260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08440" y="0"/>
                <a:ext cx="237960" cy="685260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22640" y="0"/>
                <a:ext cx="476280" cy="685260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86160" y="0"/>
                <a:ext cx="674640" cy="685260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90640" y="0"/>
                <a:ext cx="912960" cy="685260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0"/>
                <a:ext cx="1170000" cy="685260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57200" y="0"/>
                <a:ext cx="1333440" cy="685260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9360" y="4606560"/>
              <a:ext cx="962280" cy="22464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360" y="617688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81960" y="0"/>
              <a:ext cx="1562040" cy="283608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360" y="0"/>
              <a:ext cx="1362240" cy="22370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40" y="436500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0" y="374076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0" y="49888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1440" y="62370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0" y="561312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dt" idx="31"/>
          </p:nvPr>
        </p:nvSpPr>
        <p:spPr>
          <a:xfrm>
            <a:off x="45684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ftr" idx="32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822-579F-4BA3-A2D2-03DD46585C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0" y="0"/>
            <a:ext cx="9148320" cy="6852960"/>
            <a:chOff x="0" y="0"/>
            <a:chExt cx="9148320" cy="6852960"/>
          </a:xfrm>
        </p:grpSpPr>
        <p:sp>
          <p:nvSpPr>
            <p:cNvPr id="643" name=""/>
            <p:cNvSpPr/>
            <p:nvPr/>
          </p:nvSpPr>
          <p:spPr>
            <a:xfrm>
              <a:off x="8007120" y="4169880"/>
              <a:ext cx="1141200" cy="26830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548560" y="602424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15120" y="669132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455400" y="0"/>
              <a:ext cx="8092440" cy="6852600"/>
              <a:chOff x="455400" y="0"/>
              <a:chExt cx="8092440" cy="6852600"/>
            </a:xfrm>
          </p:grpSpPr>
          <p:sp>
            <p:nvSpPr>
              <p:cNvPr id="647" name=""/>
              <p:cNvSpPr/>
              <p:nvPr/>
            </p:nvSpPr>
            <p:spPr>
              <a:xfrm>
                <a:off x="4425480" y="0"/>
                <a:ext cx="113760" cy="685260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901760" y="0"/>
                <a:ext cx="275760" cy="685260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328720" y="0"/>
                <a:ext cx="534600" cy="685260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33440" y="0"/>
                <a:ext cx="677520" cy="685260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62200" y="0"/>
                <a:ext cx="885240" cy="685260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738480" y="0"/>
                <a:ext cx="1094760" cy="685260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6600" y="0"/>
                <a:ext cx="1371240" cy="685260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06280" y="0"/>
                <a:ext cx="237600" cy="685260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20480" y="0"/>
                <a:ext cx="475920" cy="685260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84000" y="0"/>
                <a:ext cx="674280" cy="685260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88480" y="0"/>
                <a:ext cx="912600" cy="685260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112400" y="0"/>
                <a:ext cx="1169640" cy="685260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55400" y="0"/>
                <a:ext cx="1333080" cy="685260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7560" y="4606560"/>
              <a:ext cx="961920" cy="22464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60" y="617688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80160" y="0"/>
              <a:ext cx="1561680" cy="283608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60" y="0"/>
              <a:ext cx="1361880" cy="22370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436500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374076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49888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0" y="62370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0" y="561312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dt" idx="34"/>
          </p:nvPr>
        </p:nvSpPr>
        <p:spPr>
          <a:xfrm>
            <a:off x="45684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ftr" idx="35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C468-D362-479F-9A9B-E133389314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9159840" cy="6859080"/>
            <a:chOff x="0" y="0"/>
            <a:chExt cx="9159840" cy="6859080"/>
          </a:xfrm>
        </p:grpSpPr>
        <p:sp>
          <p:nvSpPr>
            <p:cNvPr id="721" name=""/>
            <p:cNvSpPr/>
            <p:nvPr/>
          </p:nvSpPr>
          <p:spPr>
            <a:xfrm>
              <a:off x="8305920" y="1440"/>
              <a:ext cx="838080" cy="68576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0"/>
              <a:ext cx="30456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43200" y="0"/>
              <a:ext cx="68580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81280" y="0"/>
              <a:ext cx="381240" cy="6859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33720" y="0"/>
              <a:ext cx="609480" cy="6859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2120" y="0"/>
              <a:ext cx="914400" cy="6859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" y="0"/>
              <a:ext cx="30492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0"/>
              <a:ext cx="45720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29000" y="0"/>
              <a:ext cx="380880" cy="6859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419720" y="0"/>
              <a:ext cx="83808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81080" y="0"/>
              <a:ext cx="228600" cy="68590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238720" y="0"/>
              <a:ext cx="399960" cy="68590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91520" y="0"/>
              <a:ext cx="22860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15200" y="0"/>
              <a:ext cx="1066680" cy="6859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62720" y="0"/>
              <a:ext cx="99036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95880" y="0"/>
              <a:ext cx="83844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34320" y="0"/>
              <a:ext cx="38088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54480" y="0"/>
              <a:ext cx="241200" cy="6859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55880" y="0"/>
              <a:ext cx="53352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0" y="615276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613980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ftr" idx="37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AA72-CBF1-4B91-ABB7-4F1192410F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dt" idx="39"/>
          </p:nvPr>
        </p:nvSpPr>
        <p:spPr>
          <a:xfrm>
            <a:off x="456840" y="6249960"/>
            <a:ext cx="2133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0" y="0"/>
            <a:ext cx="9159840" cy="6859080"/>
            <a:chOff x="0" y="0"/>
            <a:chExt cx="9159840" cy="6859080"/>
          </a:xfrm>
        </p:grpSpPr>
        <p:sp>
          <p:nvSpPr>
            <p:cNvPr id="784" name=""/>
            <p:cNvSpPr/>
            <p:nvPr/>
          </p:nvSpPr>
          <p:spPr>
            <a:xfrm>
              <a:off x="8305920" y="1440"/>
              <a:ext cx="838080" cy="68576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76520" y="0"/>
              <a:ext cx="30456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43200" y="0"/>
              <a:ext cx="68580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81280" y="0"/>
              <a:ext cx="381240" cy="6859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133720" y="0"/>
              <a:ext cx="609480" cy="6859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2120" y="0"/>
              <a:ext cx="914400" cy="6859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7200" y="0"/>
              <a:ext cx="30492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0"/>
              <a:ext cx="45720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29000" y="0"/>
              <a:ext cx="380880" cy="6859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19720" y="0"/>
              <a:ext cx="83808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81080" y="0"/>
              <a:ext cx="228600" cy="68590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38720" y="0"/>
              <a:ext cx="399960" cy="685908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91520" y="0"/>
              <a:ext cx="22860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15200" y="0"/>
              <a:ext cx="1066680" cy="6859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62720" y="0"/>
              <a:ext cx="99036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95880" y="0"/>
              <a:ext cx="83844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934320" y="0"/>
              <a:ext cx="38088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54480" y="0"/>
              <a:ext cx="241200" cy="6859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55880" y="0"/>
              <a:ext cx="533520" cy="685908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40" y="615276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0" y="613980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40"/>
          </p:nvPr>
        </p:nvSpPr>
        <p:spPr>
          <a:xfrm>
            <a:off x="45684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41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B8CB-B128-41A8-982E-2E4C7542D8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4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4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1611-B4DE-41E8-A3D4-98E80C912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998360"/>
            <a:ext cx="77724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"/>
          <p:cNvSpPr/>
          <p:nvPr/>
        </p:nvSpPr>
        <p:spPr>
          <a:xfrm>
            <a:off x="285840" y="2805120"/>
            <a:ext cx="1440" cy="303372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ftr" idx="46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4FB7-755D-4C3E-8C25-4A056596E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dt" idx="48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696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944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112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972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624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808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736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504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952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304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92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440"/>
              <a:ext cx="7985160" cy="265284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92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256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648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9012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904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96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336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336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768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832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960"/>
              <a:ext cx="9131400" cy="295956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3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760"/>
              <a:ext cx="9131400" cy="212292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432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432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5044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24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9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6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1280"/>
              <a:ext cx="9140760" cy="2949480"/>
              <a:chOff x="0" y="259128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128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36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4E15-D489-489F-9232-EB848E3179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82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6910-2D32-41C2-BFB7-674075A8A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779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476-1934-4623-A050-44FC2F8CF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FB6-F855-4088-9CAF-9507E3C00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C4CD-94E6-40B6-82C5-4E6479D2C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1440" y="0"/>
            <a:ext cx="9149040" cy="6852960"/>
            <a:chOff x="1440" y="0"/>
            <a:chExt cx="9149040" cy="6852960"/>
          </a:xfrm>
        </p:grpSpPr>
        <p:sp>
          <p:nvSpPr>
            <p:cNvPr id="326" name=""/>
            <p:cNvSpPr/>
            <p:nvPr/>
          </p:nvSpPr>
          <p:spPr>
            <a:xfrm>
              <a:off x="8008920" y="4169880"/>
              <a:ext cx="1141560" cy="26830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550360" y="602424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016920" y="669132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57200" y="0"/>
              <a:ext cx="8093160" cy="6852600"/>
              <a:chOff x="457200" y="0"/>
              <a:chExt cx="8093160" cy="6852600"/>
            </a:xfrm>
          </p:grpSpPr>
          <p:sp>
            <p:nvSpPr>
              <p:cNvPr id="330" name=""/>
              <p:cNvSpPr/>
              <p:nvPr/>
            </p:nvSpPr>
            <p:spPr>
              <a:xfrm>
                <a:off x="4427640" y="0"/>
                <a:ext cx="114120" cy="685260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903920" y="0"/>
                <a:ext cx="276120" cy="685260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30880" y="0"/>
                <a:ext cx="534960" cy="685260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35600" y="0"/>
                <a:ext cx="677880" cy="685260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64360" y="0"/>
                <a:ext cx="885600" cy="685260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0640" y="0"/>
                <a:ext cx="1095120" cy="685260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78760" y="0"/>
                <a:ext cx="1371600" cy="685260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08440" y="0"/>
                <a:ext cx="237960" cy="685260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22640" y="0"/>
                <a:ext cx="476280" cy="685260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86160" y="0"/>
                <a:ext cx="674640" cy="685260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90640" y="0"/>
                <a:ext cx="912960" cy="685260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14560" y="0"/>
                <a:ext cx="1170000" cy="685260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7200" y="0"/>
                <a:ext cx="1333440" cy="685260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9360" y="4606560"/>
              <a:ext cx="962280" cy="22464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360" y="617688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1960" y="0"/>
              <a:ext cx="1562040" cy="283608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360" y="0"/>
              <a:ext cx="1362240" cy="22370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0" y="436500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40" y="374076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0" y="49888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5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440" y="62370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0" y="561312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19"/>
          </p:nvPr>
        </p:nvSpPr>
        <p:spPr>
          <a:xfrm>
            <a:off x="45684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0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8D31-F5E9-4E5D-AB65-49574E454B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0" y="0"/>
            <a:ext cx="9148320" cy="6852960"/>
            <a:chOff x="0" y="0"/>
            <a:chExt cx="9148320" cy="6852960"/>
          </a:xfrm>
        </p:grpSpPr>
        <p:sp>
          <p:nvSpPr>
            <p:cNvPr id="404" name=""/>
            <p:cNvSpPr/>
            <p:nvPr/>
          </p:nvSpPr>
          <p:spPr>
            <a:xfrm>
              <a:off x="8007120" y="4169880"/>
              <a:ext cx="1141200" cy="26830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548560" y="602424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15120" y="669132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455400" y="0"/>
              <a:ext cx="8092440" cy="6852600"/>
              <a:chOff x="455400" y="0"/>
              <a:chExt cx="8092440" cy="6852600"/>
            </a:xfrm>
          </p:grpSpPr>
          <p:sp>
            <p:nvSpPr>
              <p:cNvPr id="408" name=""/>
              <p:cNvSpPr/>
              <p:nvPr/>
            </p:nvSpPr>
            <p:spPr>
              <a:xfrm>
                <a:off x="4425480" y="0"/>
                <a:ext cx="113760" cy="685260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901760" y="0"/>
                <a:ext cx="275760" cy="685260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28720" y="0"/>
                <a:ext cx="534600" cy="685260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33440" y="0"/>
                <a:ext cx="677520" cy="685260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262200" y="0"/>
                <a:ext cx="885240" cy="685260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738480" y="0"/>
                <a:ext cx="1094760" cy="685260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76600" y="0"/>
                <a:ext cx="1371240" cy="685260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06280" y="0"/>
                <a:ext cx="237600" cy="685260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20480" y="0"/>
                <a:ext cx="475920" cy="685260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84000" y="0"/>
                <a:ext cx="674280" cy="685260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8480" y="0"/>
                <a:ext cx="912600" cy="685260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2400" y="0"/>
                <a:ext cx="1169640" cy="685260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5400" y="0"/>
                <a:ext cx="1333080" cy="685260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7560" y="4606560"/>
              <a:ext cx="961920" cy="22464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60" y="617688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0160" y="0"/>
              <a:ext cx="1561680" cy="283608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60" y="0"/>
              <a:ext cx="1361880" cy="22370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436500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374076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49888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0" y="62370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561312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dt" idx="22"/>
          </p:nvPr>
        </p:nvSpPr>
        <p:spPr>
          <a:xfrm>
            <a:off x="45684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5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1419-40E4-48D0-8E23-717F56E2BF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828A-17E5-4033-9C70-55DE286CF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8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6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0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6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900000" y="0"/>
            <a:ext cx="7632720" cy="4208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ระเบียบสำนักนายกรัฐมนตร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ว่าด้วยงานสารบรรณ พ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๒๕๒๖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และที่แก้ไขเพิ่มเติ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113120" y="5792760"/>
            <a:ext cx="932796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ขอสงวนลิขสิทธิ์เอกสา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ชุดนี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ห้ามทำซ้ำเพื่อจำหน่าย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จัดทำโดยนางกฤตยา จันทรเก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1640" y="1844640"/>
            <a:ext cx="4103640" cy="11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7000" spc="-1" strike="noStrike">
                <a:solidFill>
                  <a:srgbClr val="000000"/>
                </a:solidFill>
                <a:latin typeface="Arial"/>
              </a:rPr>
              <a:t>หนังสือราชการ</a:t>
            </a:r>
            <a:endParaRPr b="0" lang="en-US" sz="7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211280" y="3284280"/>
            <a:ext cx="4932360" cy="2522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th-TH" sz="7200" spc="-1" strike="noStrike">
                <a:solidFill>
                  <a:srgbClr val="ffffff"/>
                </a:solidFill>
                <a:latin typeface="Verdana"/>
              </a:rPr>
              <a:t>เอกสารที่เป็น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fffff"/>
                </a:solidFill>
                <a:latin typeface="Verdana"/>
              </a:rPr>
              <a:t>หลักฐานในราชการ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744720" cy="3762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417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การทำลายหนังสื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4680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n-US" sz="4800" spc="-1" strike="noStrike">
                <a:solidFill>
                  <a:srgbClr val="0066cc"/>
                </a:solidFill>
                <a:latin typeface="Verdana"/>
              </a:rPr>
              <a:t>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ภายใน ๖๐ วัน หลังจากวันสิ้นปีปฏิทิ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ให้เจ้าหน้าที่ผู้รับผิดชอบในการเก็บหนังสือสำรว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หนังสือที่ครบอายุการเก็บในปีนั้น  ไม่ว่าจะเป็นหนังสื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ที่เก็บไว้เอง หรือที่ฝากเก็บไว้ที่สำนักหอจดหมายเหต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แห่งชาติ  กรมศิลปากร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3962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จัดทำบัญชีหนังสือขอทำลาย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เสนอหัวหน้าส่วนราชการระดับกรม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ซึ่งรวมถึงผู้ว่าราชการจังหวัด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เพื่อแต่งตั้งคณะกรรมการทำลายหนังสื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7920000" cy="93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cc"/>
                </a:solidFill>
                <a:latin typeface="Arial"/>
              </a:rPr>
              <a:t>  </a:t>
            </a: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คณะกรรมการทำลายหนังสื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180720" y="1774440"/>
            <a:ext cx="8962920" cy="46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ให้หัวหน้าส่วนราชการระดับกรม หรือผู้ว่าราชการจังหวัด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แต่งตั้งคณะกรรมการทำลายหนังสือ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Verdana"/>
                <a:cs typeface="Browallia New"/>
              </a:rPr>
              <a:t>๏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ประกอบด้วย  ประธานกรรมการ และกรรมการอีกอย่างน้อ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๒ คน โดยปกติให้แต่งตั้งจากข้าราชการระดับ ๓ หรื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เทียบเท่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993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หน้าที่ของคณะกรรมการทำลายหนังสื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-360" y="1052640"/>
            <a:ext cx="8962920" cy="6121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พิจารณาบัญชีหนังสือขอทำลา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ถ้าเห็นว่าหนังสือฉบับใด ไม่ควรทำลาย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และควรขยายเวลาการเก็บ ให้ลงความเห็นว่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จะขยายเวลาเก็บไว้ถึงเมื่อใดในช่องการพิจารณ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ของบัญชีหนังสือขอทำลาย แล้วแก้ไขอายุการเก็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หนังสือในตรากำหนดเก็บ โดยประธานกรรมการ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ลงลายมือชื่อกำกับการแก้ไ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0" y="766800"/>
            <a:ext cx="8820000" cy="525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๓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ถ้าเห็นควรให้ทำลายให้กรอกเครื่องหมาย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(   )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ลงในช่องการพิจารณ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๔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เสนอรายงานผลการพิจารณา พร้อมทั้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ความเห็นแย้งเสนอหัวหน้าส่วนราชการ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ระดับกรม หรือ ผู้ว่าราชการจังหวัด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เพื่อพิจารณาสั่งการ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๕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ควบคุมการทำลาย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7" name=""/>
          <p:cNvSpPr/>
          <p:nvPr/>
        </p:nvSpPr>
        <p:spPr>
          <a:xfrm>
            <a:off x="4211640" y="5446800"/>
            <a:ext cx="72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7524720" y="6922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-360" y="1413000"/>
            <a:ext cx="8962920" cy="4178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th-TH" sz="1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เมื่อหัวหน้าส่วนราชการระดับกรมได้รับรายงานจา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คณะกรรมการทำลายหนังสือ ถ้าเห็นว่าหนังสือเรื่องใ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ยังไม่ควรทำลาย ให้สั่งการให้เก็บหนังสือนั้นไว้จนถึ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เวลาทำลายงวดต่อไ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0" name=""/>
          <p:cNvSpPr/>
          <p:nvPr/>
        </p:nvSpPr>
        <p:spPr>
          <a:xfrm>
            <a:off x="4211640" y="5446800"/>
            <a:ext cx="72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324000" y="1558800"/>
            <a:ext cx="8423280" cy="3167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Browallia New"/>
              </a:rPr>
              <a:t>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ถ้าเห็นว่าหนังสือเรื่องใดควรทำลาย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ให้ส่งบัญชีหนังสือขอทำลายไปให้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สำนักหอจดหมายเหตุแห่งชาติฯ พิจารณ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"/>
          <p:cNvSpPr/>
          <p:nvPr/>
        </p:nvSpPr>
        <p:spPr>
          <a:xfrm>
            <a:off x="4211640" y="5446800"/>
            <a:ext cx="72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180720" y="259920"/>
            <a:ext cx="8962920" cy="6599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ถ้าสำนักหอจดหมายเหตุแห่งชาติฯ เห็นว่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หนังสือฉบับใดควรขยายเวลาการเก็บไว้อย่างใด หรื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ให้เก็บไว้ตลอดไป ให้แจ้งส่วนราชการนั้นทราบ แล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ให้ส่วนราชการนั้นทำการแก้ไขตามที่แจ้งม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หนังสือฉบับใดควรให้ส่งไปเก็บไว้ที่สำนักหอจดหมายเหต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ห่งชาติฯ ก็ให้ส่วนราชการนั้นปฏิบัติตา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เพื่อประโยชน์ในการนี้ สำนักหอจดหมายเหตุแห่งชาติ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จะส่งเจ้าหน้าที่มาร่วมตรวจสอบหนังสือของส่วนราชการ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นั้นก็ได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"/>
          <p:cNvSpPr/>
          <p:nvPr/>
        </p:nvSpPr>
        <p:spPr>
          <a:xfrm>
            <a:off x="4211640" y="5446800"/>
            <a:ext cx="72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268000" y="1197000"/>
            <a:ext cx="4753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วิธีการทำลายหนังสื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324000" y="2420640"/>
            <a:ext cx="8424720" cy="374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หนังสือทั่วไป ที่มิใช่เอกสารลับ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๑ โดยวิธีการเผา หรื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๒ โดยวิธีการอื่นใดที่ไม่ให้หนังสืออ่าน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เป็นเรื่องได้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7" name=""/>
          <p:cNvSpPr/>
          <p:nvPr/>
        </p:nvSpPr>
        <p:spPr>
          <a:xfrm>
            <a:off x="4211640" y="5446800"/>
            <a:ext cx="72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1979640" cy="122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ได้แก่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0" y="1603440"/>
            <a:ext cx="9144000" cy="525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หนังสือที่มีไปมาระหว่างส่วนราชการ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หนังสือที่ส่วนราชการมีไปถึงหน่วยงานอื่นใด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ซึ่งมิใช่ส่วนราชการ หรือที่มีไปถึงบุคคลภายนอ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๓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หนังสือที่หน่วยงานอื่นใด ซึ่งมิใช่ส่วนราชการ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หรือบุคคลภายนอกมีมาถึงส่วนราชการ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388360" cy="645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๔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เอกสารที่ทางราชการจัดทำขึ้นเพื่อเป็น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หลักฐานในราชการ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๕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เอกสารที่ทางราชการจัดทำขึ้นตาม 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กฎหมาย ระเบียบ หรือข้อบังคับ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4800" spc="-1" strike="noStrike">
                <a:solidFill>
                  <a:srgbClr val="ffff66"/>
                </a:solidFill>
                <a:latin typeface="Angsana New"/>
              </a:rPr>
              <a:t>๖</a:t>
            </a:r>
            <a:r>
              <a:rPr b="1" lang="th-TH" sz="4800" spc="-1" strike="noStrike">
                <a:solidFill>
                  <a:srgbClr val="ffff66"/>
                </a:solidFill>
                <a:latin typeface="Angsana New"/>
              </a:rPr>
              <a:t>. </a:t>
            </a:r>
            <a:r>
              <a:rPr b="1" lang="th-TH" sz="5400" spc="-1" strike="noStrike">
                <a:solidFill>
                  <a:srgbClr val="ffff66"/>
                </a:solidFill>
                <a:latin typeface="Angsana New"/>
              </a:rPr>
              <a:t>ข้อมูลข่าวสารหรือหนังสือที่ได้รับจาก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66"/>
                </a:solidFill>
                <a:latin typeface="Angsana New"/>
              </a:rPr>
              <a:t>     </a:t>
            </a:r>
            <a:r>
              <a:rPr b="1" lang="en-US" sz="5400" spc="-1" strike="noStrike">
                <a:solidFill>
                  <a:srgbClr val="ffff66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ffff66"/>
                </a:solidFill>
                <a:latin typeface="Angsana New"/>
              </a:rPr>
              <a:t>ระบบสารบรรณอิเล็กทรอนิกส์</a:t>
            </a:r>
            <a:r>
              <a:rPr b="1" lang="th-TH" sz="4800" spc="-1" strike="noStrike">
                <a:solidFill>
                  <a:srgbClr val="ffff66"/>
                </a:solidFill>
                <a:latin typeface="Angsana New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00000" y="2567160"/>
            <a:ext cx="7667640" cy="58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                                   </a:t>
            </a: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การติดต่อราชการ    นอกจากจะดำเนินการโดยหนังสือที่เป็นเอกสาร   สามารถดำเนินการด้วยระบบสารบรรณอิเล็กทรอนิกส์ได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547200"/>
            <a:ext cx="8748720" cy="165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1" lang="th-TH" sz="6600" spc="-1" strike="noStrike">
                <a:solidFill>
                  <a:srgbClr val="ffffff"/>
                </a:solidFill>
                <a:latin typeface="Arial"/>
              </a:rPr>
              <a:t>ระบบสารบรรณ    </a:t>
            </a:r>
            <a:br>
              <a:rPr sz="6600"/>
            </a:br>
            <a:r>
              <a:rPr b="1" lang="th-TH" sz="6600" spc="-1" strike="noStrike">
                <a:solidFill>
                  <a:srgbClr val="ffffff"/>
                </a:solidFill>
                <a:latin typeface="Arial"/>
              </a:rPr>
              <a:t>             อิเล็กทรอนิกส์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280836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6264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ngsana New"/>
              </a:rPr>
              <a:t>“</a:t>
            </a:r>
            <a:r>
              <a:rPr b="1" lang="en-US" sz="8000" spc="-1" strike="noStrike">
                <a:solidFill>
                  <a:srgbClr val="000000"/>
                </a:solidFill>
                <a:latin typeface="Angsana New"/>
              </a:rPr>
              <a:t>อิเล็กทรอนิกส์”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539640" y="1917720"/>
            <a:ext cx="8244000" cy="37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การประยุกต์ใช้วิธีการทางอิเล็กตรอนไฟฟ้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คลื่นแม่เหล็กไฟฟ้า หรือวิธีอื่นใดในลักษณะคล้ายกัน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และหมายความรวมถึงการประยุกต์ใช้วิธีการทางแส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วิธีการทางแม่เหล็ก   หรืออุปกรณ์ที่เกี่ยวข้องกับการ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ประยุกต์ใช้วิธีต่าง ๆ  เช่นว่านั้น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0" y="1484280"/>
            <a:ext cx="9144000" cy="69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ลายมือชื่อดิจิทั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Digital Signature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คือ  ลายมือชื่ออิเล็กทรอนิกส์ที่สร้างขึ้น โดยการนำข้อมูลอิเล็กทรอนิกส์มาแปลงด้วยระบบอสมมาตร  บนพื้นฐานวิทยาการเข้ารหัสลับและใช้กับกุญแจคู่ที่นำมาคำนวณร่วมกันระหว่าง กุญแจส่วนตัว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Private Key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และกุญแจสาธารณ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Public Key)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เพื่อตรวจสอบและยืนยันตัวผู้ลงลายมือชื่อดิจิทัลนั้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480360" cy="792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ชนิดและรูปแบบหนังสือราชการ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นังสือภายนอ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นังสือภายใน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๒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๓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นังสือประทับตรา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๓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นังสือสั่งการ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คำสั่ง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ระเบียบ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๕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ข้อบังคับ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๖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๕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นังสือประชาสัมพันธ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ประกาศ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ถลงการณ์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๘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ข่าว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๙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๖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นังสือที่เจ้าหน้าที่ทำขึ้นหรือรับไว้เป็นหลักฐานในราชการ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Browallia New"/>
              </a:rPr>
              <a:t>๏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นังสือรับรอง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๑๐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รายงานการประชุม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แบบที่ ๑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บันทึ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ไม่มีแบบ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นังสืออื่น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ไม่มีแบบ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828720"/>
            <a:ext cx="9144000" cy="9009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         </a:t>
            </a:r>
            <a:r>
              <a:rPr b="1" lang="hi-IN" sz="3900" spc="-1" strike="noStrike">
                <a:solidFill>
                  <a:srgbClr val="ffffff"/>
                </a:solidFill>
                <a:latin typeface="Arial"/>
              </a:rPr>
              <a:t>๏ หนังสือหรือเอกสารอื่นใดที่เกิดขึ้นเนื่องจากการปฏิบัติงาน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900" spc="-1" strike="noStrike">
                <a:solidFill>
                  <a:srgbClr val="ffffff"/>
                </a:solidFill>
                <a:latin typeface="Arial"/>
              </a:rPr>
              <a:t>ของเจ้าหน้าที่เพื่อเป็นหลักฐานในราชการ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i-IN" sz="3900" spc="-1" strike="noStrike">
                <a:solidFill>
                  <a:srgbClr val="ffff66"/>
                </a:solidFill>
                <a:latin typeface="Arial"/>
              </a:rPr>
              <a:t>๏ ภาพถ่าย ฟิล์ม แถบบันทึกเสียง แถบบันทึกภาพ และ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900" spc="-1" strike="noStrike">
                <a:solidFill>
                  <a:srgbClr val="ffff66"/>
                </a:solidFill>
                <a:latin typeface="Arial"/>
              </a:rPr>
              <a:t>สื่อกลางบันทึกข้อมูล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hi-IN" sz="3900" spc="-1" strike="noStrike">
                <a:solidFill>
                  <a:srgbClr val="ffffff"/>
                </a:solidFill>
                <a:latin typeface="Arial"/>
              </a:rPr>
              <a:t>๏ หนังสือของบุคคลภายนอกที่ยื่นต่อเจ้าหน้าที่ และเจ้าหน้าที่ได้รับเข้าทะเบียนรับหนังสือของทางราชการแล้ว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900" spc="-1" strike="noStrike">
                <a:solidFill>
                  <a:srgbClr val="ffffff"/>
                </a:solidFill>
                <a:latin typeface="Arial"/>
              </a:rPr>
              <a:t>มีรูปแบบตามที่กระทรวง  ทบวง กรม จะกำหนดขึ้นใช้ตามความเหมาะสม  เว้นแต่มีแบบตามกฎหมายเฉพาะเรื่องให้ทำตามแบบ เช่น โฉนด แผนที่ แบบ แผนผัง สัญญา หลักฐานการสืบสวนและสอบสวน และคำร้อง เป็นต้น</a:t>
            </a:r>
            <a:r>
              <a:rPr b="1" lang="en-US" sz="39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2700000" y="0"/>
            <a:ext cx="3313080" cy="1052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หนังสืออื่น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484360" y="44280"/>
            <a:ext cx="4392720" cy="1152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cc66"/>
                </a:solidFill>
                <a:latin typeface="Arial"/>
              </a:rPr>
              <a:t>หนังสือภายนอก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0" y="547200"/>
            <a:ext cx="9144000" cy="580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หนังสือติดต่อราชการที่เป็น</a:t>
            </a:r>
            <a:r>
              <a:rPr b="1" lang="hi-IN" sz="5400" spc="-1" strike="noStrike">
                <a:solidFill>
                  <a:srgbClr val="ffff00"/>
                </a:solidFill>
                <a:latin typeface="Verdana"/>
              </a:rPr>
              <a:t>แบบพิธี</a:t>
            </a:r>
            <a:r>
              <a:rPr b="1" lang="en-US" sz="54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ติดต่อระหว่างส่วนราชการ หรือ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ที่ส่วนราชการมีถึงหน่วยงานอื่นใดซึ่งมิใช่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ส่วนราชการ หรือที่มีถึงบุคคลภายนอก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  <a:cs typeface="Browallia New"/>
              </a:rPr>
              <a:t>๏ โดยใช้กระดาษตราครุ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3995640" y="404640"/>
          <a:ext cx="100800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404640"/>
                    <a:ext cx="1008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1619280" y="9079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258920" y="5475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เร็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06920" y="6167520"/>
            <a:ext cx="172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ลั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564000" y="92160"/>
            <a:ext cx="1944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219640" y="90792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่วนราชการเจ้าของหนังส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87280" y="19731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40328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ื่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403280" y="226224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อ้างถึ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332000" y="262260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ิ่งที่ส่งมา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114560" y="530064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่วนราชการเจ้าของเรื่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140360" y="41511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คำลงท้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924360" y="451008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ลงชื่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99564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พิมพ์ชื่อเต็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995640" y="5159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ตำแหน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67548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1116000" y="2637000"/>
            <a:ext cx="741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            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ข้อความ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591200" y="56624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โท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2360" y="60228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โทรส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435640" y="12682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ที่ตั้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356000" y="15588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วัน เดือน 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93080" y="260280"/>
            <a:ext cx="1439640" cy="1312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แบบที่ 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91520" cy="272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ระเบียบสำนักนายกรัฐมนตรี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ว่าด้วยงานสารบรรณ พ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๒๕๒๖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และที่แก้ไขเพิ่มเติม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ฉบับที่ ๒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๒๕๔๘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00000" y="3141720"/>
            <a:ext cx="7632720" cy="2665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๏ ออกโดยมติคณะรัฐมนตร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๏ เป็นระเบียบสำนักนายกรัฐมนตรีที่เป็น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ระเบียบกลา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755640" y="2852640"/>
            <a:ext cx="8064360" cy="417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มาตรฐานกระดา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โดยปกติ ให้ใช้กระดาษปอนด์ขาว น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6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กรัมต่อเมตร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²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Browallia New"/>
              </a:rPr>
              <a:t>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ขนาด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4 = 21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ม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29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ม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Browallia New"/>
              </a:rPr>
              <a:t>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ขนาด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5 = 14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ม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21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ม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Browallia New"/>
              </a:rPr>
              <a:t>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ขนาด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8 =  52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ม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74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ม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826920" y="2998800"/>
            <a:ext cx="7417080" cy="58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มาตรฐานซอง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Browallia New"/>
              </a:rPr>
              <a:t>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ขนาด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ใช้บรรจุหนังสือ โดยไม่ต้องพั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Browallia New"/>
              </a:rPr>
              <a:t>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ขนาด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ใช้บรรจุหนังสือ พั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Browallia New"/>
              </a:rPr>
              <a:t>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ขนาด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ใช้บรรจุหนังสือ พั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cs typeface="Browallia New"/>
              </a:rPr>
              <a:t>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ขนาด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ใช้บรรจุหนังสือ พับ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84360" y="1628640"/>
          <a:ext cx="7920000" cy="439416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9" name=""/>
          <p:cNvGraphicFramePr/>
          <p:nvPr/>
        </p:nvGraphicFramePr>
        <p:xfrm>
          <a:off x="1116000" y="2060640"/>
          <a:ext cx="8636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8636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1" name=""/>
          <p:cNvSpPr/>
          <p:nvPr/>
        </p:nvSpPr>
        <p:spPr>
          <a:xfrm>
            <a:off x="2050920" y="206064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ด่วนมา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050920" y="256716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rial"/>
              </a:rPr>
              <a:t>สำนักนายกรัฐมนตร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rial"/>
              </a:rPr>
              <a:t>ทำเนียบรัฐบาล กทม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</a:rPr>
              <a:t>. 10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rial"/>
              </a:rPr>
              <a:t>ที่ นร 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</a:rPr>
              <a:t>0106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08360" y="371808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เรียน  ปลัดกระทรวงมหาด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กระทรวงมหาด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ถนนอัษฎางค์ กรุงเทพ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10200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2916360" y="476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ngsana New"/>
              </a:rPr>
              <a:t>วิธีการจ่าหน้าซอง</a:t>
            </a:r>
            <a:endParaRPr b="0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ngsana New"/>
              <a:ea typeface="Angsana New"/>
            </a:endParaRPr>
          </a:p>
        </p:txBody>
      </p:sp>
      <p:sp>
        <p:nvSpPr>
          <p:cNvPr id="1015" name=""/>
          <p:cNvSpPr/>
          <p:nvPr/>
        </p:nvSpPr>
        <p:spPr>
          <a:xfrm>
            <a:off x="1563840" y="5014800"/>
            <a:ext cx="221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3347640" y="3284640"/>
            <a:ext cx="1655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669960" y="355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008000" y="547560"/>
            <a:ext cx="8136000" cy="1051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Browallia New"/>
                <a:ea typeface="Browallia New"/>
              </a:rPr>
              <a:t>                  </a:t>
            </a:r>
            <a:r>
              <a:rPr b="1" lang="th-TH" sz="5400" spc="-1" strike="noStrike">
                <a:solidFill>
                  <a:srgbClr val="ff3300"/>
                </a:solidFill>
                <a:latin typeface="Browallia New"/>
                <a:cs typeface="Browallia New"/>
              </a:rPr>
              <a:t>ชั้นความเร็วของเอกส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    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นังสือที่ต้องจัดส่ง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    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ำเนินการทางสารบรร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    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วยความรวดเร็วเป็นพิเศ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Browallia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3300"/>
                </a:solidFill>
                <a:latin typeface="Browallia New"/>
                <a:cs typeface="Browallia New"/>
              </a:rPr>
              <a:t>ด่วนที่สุด  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ฏิบัติในทันทีที่ได้รับหนังสื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3300"/>
                </a:solidFill>
                <a:latin typeface="Browallia New"/>
                <a:ea typeface="Browallia New"/>
              </a:rPr>
              <a:t>(2) </a:t>
            </a:r>
            <a:r>
              <a:rPr b="1" lang="th-TH" sz="4800" spc="-1" strike="noStrike">
                <a:solidFill>
                  <a:srgbClr val="ff3300"/>
                </a:solidFill>
                <a:latin typeface="Browallia New"/>
                <a:cs typeface="Browallia New"/>
              </a:rPr>
              <a:t>ด่วนมาก  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ฏิบัติโดยเร็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3300"/>
                </a:solidFill>
                <a:latin typeface="Browallia New"/>
                <a:ea typeface="Browallia New"/>
              </a:rPr>
              <a:t>(3) </a:t>
            </a:r>
            <a:r>
              <a:rPr b="1" lang="th-TH" sz="4800" spc="-1" strike="noStrike">
                <a:solidFill>
                  <a:srgbClr val="ff3300"/>
                </a:solidFill>
                <a:latin typeface="Browallia New"/>
                <a:cs typeface="Browallia New"/>
              </a:rPr>
              <a:t>ด่วน         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ฏิบัติเร็วกว่าปกติ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        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ท่าที่จะทำได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1944720" cy="26654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468360" y="836640"/>
            <a:ext cx="647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186920" y="1052640"/>
            <a:ext cx="1800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826920" y="3790800"/>
            <a:ext cx="831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cc3300"/>
                </a:solidFill>
                <a:latin typeface="Angsana New"/>
              </a:rPr>
              <a:t>   </a:t>
            </a:r>
            <a:r>
              <a:rPr b="1" lang="hi-IN" sz="5400" spc="-1" strike="noStrike">
                <a:solidFill>
                  <a:srgbClr val="000000"/>
                </a:solidFill>
                <a:latin typeface="Angsana New"/>
              </a:rPr>
              <a:t>ให้ผู้รับปฏิบัติเช่นเดียวกับได้รับหนังสือ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</a:rPr>
              <a:t>เว้นแต่ ในกรณีจำเป็นต้องยืนยันเป็นหนังสือ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</a:rPr>
              <a:t>ให้ทำหนังสือยืนยันตามไปทันท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356000" y="1700280"/>
            <a:ext cx="43228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th-TH" sz="5400" spc="-1" strike="noStrike">
                <a:solidFill>
                  <a:srgbClr val="ff3300"/>
                </a:solidFill>
                <a:latin typeface="Arial"/>
              </a:rPr>
              <a:t>การส่งข้อควา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3300"/>
                </a:solidFill>
                <a:latin typeface="Arial"/>
              </a:rPr>
              <a:t>ทางเครื่องมือสื่อส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59892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81636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เลขที่หนังสื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-360" y="1484280"/>
            <a:ext cx="8893080" cy="5114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รหัสตัวพยัญชนะประจำกระทรวง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สำนักนายกรัฐมนตรี  </a:t>
            </a:r>
            <a:r>
              <a:rPr b="1" lang="hi-IN" sz="4800" spc="-1" strike="noStrike">
                <a:solidFill>
                  <a:srgbClr val="ffff66"/>
                </a:solidFill>
                <a:latin typeface="Verdana"/>
              </a:rPr>
              <a:t>นร</a:t>
            </a:r>
            <a:r>
              <a:rPr b="1" lang="en-US" sz="4800" spc="-1" strike="noStrike">
                <a:solidFill>
                  <a:srgbClr val="66ff33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หรือ รหัสตัวพยัญชนะประจำจังหวัด        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จังหวัดกระบี่        </a:t>
            </a:r>
            <a:r>
              <a:rPr b="1" lang="hi-IN" sz="4800" spc="-1" strike="noStrike">
                <a:solidFill>
                  <a:srgbClr val="ffff66"/>
                </a:solidFill>
                <a:latin typeface="Verdana"/>
              </a:rPr>
              <a:t>กบ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Verdana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เลขประจำของเจ้าของเรื่อง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211280" y="-360"/>
            <a:ext cx="2808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หนังสือเวีย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63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หนังสือที่มีถึงผู้รับ</a:t>
            </a:r>
            <a:r>
              <a:rPr b="1" lang="hi-IN" sz="4000" spc="-1" strike="noStrike">
                <a:solidFill>
                  <a:srgbClr val="ff3300"/>
                </a:solidFill>
                <a:latin typeface="Angsana New"/>
              </a:rPr>
              <a:t>เป็นจำนวนมาก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                                   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มี</a:t>
            </a:r>
            <a:r>
              <a:rPr b="1" lang="hi-IN" sz="4000" spc="-1" strike="noStrike">
                <a:solidFill>
                  <a:srgbClr val="ff3300"/>
                </a:solidFill>
                <a:latin typeface="Angsana New"/>
              </a:rPr>
              <a:t>ใจความอย่างเดียวกัน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  <a:cs typeface="Browallia New"/>
              </a:rPr>
              <a:t>๏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ให้เพิ่มรหัส </a:t>
            </a:r>
            <a:r>
              <a:rPr b="1" lang="hi-IN" sz="4000" spc="-1" strike="noStrike">
                <a:solidFill>
                  <a:srgbClr val="ff3300"/>
                </a:solidFill>
                <a:latin typeface="Angsana New"/>
              </a:rPr>
              <a:t>ว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หน้าเลขทะเบียนหนังสือส่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                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นร ๐๑๐๕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ว 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</a:t>
            </a:r>
            <a:r>
              <a:rPr b="1" lang="hi-IN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๏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เลขทะเบียนหนังสือส่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               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ใช้</a:t>
            </a:r>
            <a:r>
              <a:rPr b="1" lang="hi-IN" sz="4000" spc="-1" strike="noStrike">
                <a:solidFill>
                  <a:srgbClr val="ff3300"/>
                </a:solidFill>
                <a:latin typeface="Angsana New"/>
              </a:rPr>
              <a:t>เลขที่หนังสือเวียนโดยเฉพาะ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เริ่มตั้งแต่เลข  ๑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               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เรียงตามลำดับไปจนสิ้นปีปฏิทิ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        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หรือ ใช้</a:t>
            </a:r>
            <a:r>
              <a:rPr b="1" lang="hi-IN" sz="4000" spc="-1" strike="noStrike">
                <a:solidFill>
                  <a:srgbClr val="ff3300"/>
                </a:solidFill>
                <a:latin typeface="Angsana New"/>
              </a:rPr>
              <a:t>เลขที่ของหนังสือทั่วไป  </a:t>
            </a:r>
            <a:r>
              <a:rPr b="1" lang="hi-IN" sz="4000" spc="-1" strike="noStrike">
                <a:solidFill>
                  <a:srgbClr val="000000"/>
                </a:solidFill>
                <a:latin typeface="Angsana New"/>
              </a:rPr>
              <a:t>ตามแบบหนังสือภายนอ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042920" y="333360"/>
            <a:ext cx="194472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ff"/>
                </a:solidFill>
                <a:latin typeface="Arial"/>
              </a:rPr>
              <a:t>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4048200" y="404640"/>
          <a:ext cx="95724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8200" y="404640"/>
                    <a:ext cx="95724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3" name=""/>
          <p:cNvSpPr/>
          <p:nvPr/>
        </p:nvSpPr>
        <p:spPr>
          <a:xfrm>
            <a:off x="1619280" y="9079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ที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258920" y="5475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เร็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706920" y="6167520"/>
            <a:ext cx="172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ลั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564000" y="92160"/>
            <a:ext cx="1944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219640" y="907920"/>
            <a:ext cx="324000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ส่วนราชการเจ้าของหนังส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187280" y="19731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40328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ื่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403280" y="226224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อ้างถึ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332000" y="262260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ิ่งที่ส่งมา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114560" y="530064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่วนราชการเจ้าของเรื่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95640" y="42228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คำลงท้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635280" y="4510080"/>
            <a:ext cx="12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ลงชื่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5128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พิมพ์ชื่อเต็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851280" y="52308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ตำแหน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67548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591200" y="55911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โท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692360" y="59515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โทรส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35640" y="141300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ที่ตั้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356000" y="1700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วัน เดือน 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1907640" y="3644640"/>
            <a:ext cx="5689800" cy="230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ให้ลงชื่อส่วนราชการ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หรือ สถานที่ราชกา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11280" y="475920"/>
            <a:ext cx="8136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โดยหลักการ ส่วนราชการเจ้าของหนังสื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จะต้องสัมพันธ์กับผู้ลงนามในหนังสือ</a:t>
            </a:r>
            <a:r>
              <a:rPr b="1" lang="th-TH" sz="4000" spc="-1" strike="noStrike">
                <a:solidFill>
                  <a:srgbClr val="ffff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3600360" cy="367344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443640" y="2567160"/>
            <a:ext cx="122400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6659280" y="3284640"/>
            <a:ext cx="431640" cy="1946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40360" y="5375160"/>
            <a:ext cx="1295640" cy="717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755640" y="2925720"/>
            <a:ext cx="324000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900000" y="836640"/>
            <a:ext cx="712800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cc"/>
                </a:solidFill>
                <a:latin typeface="Browallia New"/>
                <a:ea typeface="Browallia New"/>
              </a:rPr>
              <a:t>    </a:t>
            </a:r>
            <a:r>
              <a:rPr b="1" lang="hi-IN" sz="5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ามหมายของงานสารบรร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11280" y="1990800"/>
            <a:ext cx="8064360" cy="6677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งานที่เกี่ยวกับการบริหารงานเอกส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๏ เริ่มตั้งแต่การจัดทำ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๏ การรับ  การส่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๏ การเก็บรักษา  การยืม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๏ จนถึงการทำลา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9" name=""/>
          <p:cNvGraphicFramePr/>
          <p:nvPr/>
        </p:nvGraphicFramePr>
        <p:xfrm>
          <a:off x="3995640" y="0"/>
          <a:ext cx="9572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0"/>
                    <a:ext cx="957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5580000" y="404640"/>
            <a:ext cx="287820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กระทรว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116000" y="4842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Arial"/>
              </a:rPr>
              <a:t>ที่ มท ๐๒๐๑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508720" y="1052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ที่ตั้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042920" y="178128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เรื่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56000" y="5451480"/>
            <a:ext cx="3024360" cy="173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ปลัดกระทรว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044720" y="2206800"/>
            <a:ext cx="86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เรีย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843280" y="48420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Arial"/>
              </a:rPr>
              <a:t>๒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995640" y="37908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cc"/>
                </a:solidFill>
                <a:latin typeface="Angsana New"/>
              </a:rPr>
              <a:t>ขอแสดงความนับถื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132000" y="1341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5400000">
            <a:off x="2687760" y="773640"/>
            <a:ext cx="8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116000" y="1341360"/>
            <a:ext cx="316872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ngsanaUPC"/>
              </a:rPr>
              <a:t>ทะเบียนกลางของกระทรว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356000" y="47991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hi-IN" sz="3600" spc="-1" strike="noStrike">
                <a:solidFill>
                  <a:srgbClr val="0033cc"/>
                </a:solidFill>
                <a:latin typeface="Arial"/>
              </a:rPr>
              <a:t>พิมพ์ชื่อและนามสกุล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042920" y="55911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โท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042920" y="6029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โทรสา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042920" y="51595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สำนั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042920" y="47260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กรม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7" name=""/>
          <p:cNvGraphicFramePr/>
          <p:nvPr/>
        </p:nvGraphicFramePr>
        <p:xfrm>
          <a:off x="3995640" y="0"/>
          <a:ext cx="9572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0"/>
                    <a:ext cx="957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9" name=""/>
          <p:cNvSpPr/>
          <p:nvPr/>
        </p:nvSpPr>
        <p:spPr>
          <a:xfrm>
            <a:off x="1116000" y="4842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Arial"/>
              </a:rPr>
              <a:t>ที่ นร ๐๒๐๕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580000" y="476280"/>
            <a:ext cx="266400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กรม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.........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508720" y="1052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ที่ตั้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116000" y="184464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เรื่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67280" y="5149800"/>
            <a:ext cx="3240000" cy="157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อธิบดีกรม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......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116000" y="23511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เรีย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916360" y="476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6600"/>
                </a:solidFill>
                <a:latin typeface="Arial"/>
              </a:rPr>
              <a:t>๒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716360" y="4438800"/>
            <a:ext cx="36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140360" y="371808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ngsana New"/>
              </a:rPr>
              <a:t>ขอแสดงความนับถ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84328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rot="5400000">
            <a:off x="2759400" y="773640"/>
            <a:ext cx="8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547640" y="1413000"/>
            <a:ext cx="3095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ทะเบียนกลางของกร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138560" y="45831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พิมพ์ชื่อและนามสกุ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26920" y="53751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สำนักงา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26920" y="5813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โท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26920" y="63118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โทรสา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5" name=""/>
          <p:cNvGraphicFramePr/>
          <p:nvPr/>
        </p:nvGraphicFramePr>
        <p:xfrm>
          <a:off x="3995640" y="0"/>
          <a:ext cx="9572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0"/>
                    <a:ext cx="957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"/>
          <p:cNvSpPr/>
          <p:nvPr/>
        </p:nvSpPr>
        <p:spPr>
          <a:xfrm>
            <a:off x="1116000" y="4842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Arial"/>
              </a:rPr>
              <a:t>ที่ อย ๐๐๑๖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219640" y="260280"/>
            <a:ext cx="316872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ศาลากลางจังหวัด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219640" y="9158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ที่ตั้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116000" y="184464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เรื่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276720" y="5581800"/>
            <a:ext cx="4392360" cy="157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116000" y="23511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เรีย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771640" y="484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6600"/>
                </a:solidFill>
                <a:latin typeface="Arial"/>
              </a:rPr>
              <a:t>๒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716360" y="4438800"/>
            <a:ext cx="36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11640" y="414504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ngsana New"/>
              </a:rPr>
              <a:t>ขอแสดงความนับถื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84328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rot="5400000">
            <a:off x="2687760" y="773640"/>
            <a:ext cx="8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476360" y="1413000"/>
            <a:ext cx="309564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ngsanaUPC"/>
              </a:rPr>
              <a:t>ทะเบียนกลางของจังหวั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995640" y="50148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พิมพ์ชื่อและนามสกุ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26920" y="57340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โท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26920" y="53751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สำนั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826920" y="6173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โทรสา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4048200" y="404640"/>
          <a:ext cx="95724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8200" y="404640"/>
                    <a:ext cx="95724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6" name=""/>
          <p:cNvSpPr/>
          <p:nvPr/>
        </p:nvSpPr>
        <p:spPr>
          <a:xfrm>
            <a:off x="1619280" y="9079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258920" y="5475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เร็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706920" y="6167520"/>
            <a:ext cx="172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ลั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564000" y="92160"/>
            <a:ext cx="1944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219640" y="620640"/>
            <a:ext cx="324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่วนราชการเจ้าของหนังส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187280" y="19731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40328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ื่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403280" y="226224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อ้างถึ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332000" y="262260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ิ่งที่ส่งมา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692360" y="515952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่วนราชการเจ้าของเรื่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788000" y="429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คำลงท้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84720" y="4510080"/>
            <a:ext cx="86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ลงชื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716360" y="47991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พิมพ์ชื่อเต็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643280" y="508464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ตำแหน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67548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1655640" y="2637000"/>
            <a:ext cx="694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            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ข้อควา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434600" y="566244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โท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๐ ๒๒๘๒ ๒๖๙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92360" y="595152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โทรสาร ๐ ๒๒๘๒ ๗๘๙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435640" y="12682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ที่ตั้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5832720" cy="10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rial"/>
              </a:rPr>
              <a:t>ส่วนราชการเจ้าของเรื่อง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250560" y="1774800"/>
            <a:ext cx="8893080" cy="5084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h-TH" sz="4800" spc="-1" strike="noStrike">
                <a:solidFill>
                  <a:srgbClr val="ffffff"/>
                </a:solidFill>
                <a:latin typeface="Verdana"/>
                <a:cs typeface="Browallia New"/>
              </a:rPr>
              <a:t>๏  ร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ะดับกระทรวง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ให้ลงชื่อส่วนราชการ</a:t>
            </a:r>
            <a:r>
              <a:rPr b="1" lang="th-TH" sz="4800" spc="-1" strike="noStrike">
                <a:solidFill>
                  <a:srgbClr val="ffffff"/>
                </a:solidFill>
                <a:latin typeface="Verdana"/>
              </a:rPr>
              <a:t>เจ้าของเรื่อง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ทั้งในระดับกรม และ</a:t>
            </a:r>
            <a:r>
              <a:rPr b="1" lang="th-TH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กอ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ระดับกรมลงมา</a:t>
            </a:r>
            <a:r>
              <a:rPr b="1" lang="th-TH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ให้ลงชื่อส่วนราชการ</a:t>
            </a:r>
            <a:r>
              <a:rPr b="1" lang="th-TH" sz="4800" spc="-1" strike="noStrike">
                <a:solidFill>
                  <a:srgbClr val="ffffff"/>
                </a:solidFill>
                <a:latin typeface="Verdana"/>
              </a:rPr>
              <a:t>เจ้าของเรื่อ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เพียงระดับกอง หรือ</a:t>
            </a:r>
            <a:r>
              <a:rPr b="1" lang="th-TH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หน่วยงานที่รับผิดชอบ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187280" y="1413000"/>
            <a:ext cx="6048720" cy="2087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Verdana"/>
              </a:rPr>
              <a:t>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  <a:cs typeface="Browallia New"/>
              </a:rPr>
              <a:t>๏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ให้ลงชื่อคณะกรรมการเป็น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ส่วนราชการเจ้าของหนังสื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"/>
          <p:cNvSpPr/>
          <p:nvPr/>
        </p:nvSpPr>
        <p:spPr>
          <a:xfrm>
            <a:off x="1187280" y="3790800"/>
            <a:ext cx="7272360" cy="201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Verdana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  <a:cs typeface="Browallia New"/>
              </a:rPr>
              <a:t>๏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ให้ลงชื่อส่วนราชการเจ้าของเรื่อ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เป็น “ฝ่ายเลขานุการ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355640" y="5446800"/>
            <a:ext cx="2808360" cy="1123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ประธานกรรมการ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หรือเลขานุ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3995640" y="0"/>
          <a:ext cx="9572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0"/>
                    <a:ext cx="957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116000" y="4842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Arial"/>
              </a:rPr>
              <a:t>ที่ นร ๐๑๐๕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219640" y="333360"/>
            <a:ext cx="3673440" cy="157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คณะกรรมกา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219640" y="9158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ที่ตั้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116000" y="178128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เรื่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116000" y="221148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เรีย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843280" y="4842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Arial"/>
              </a:rPr>
              <a:t>๒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427640" y="37180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ขอแสดงความนับถื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619280" y="1341360"/>
            <a:ext cx="28782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ทะเบียนกองเจ้าของเรื่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19640" y="314172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5400000">
            <a:off x="2759400" y="773640"/>
            <a:ext cx="8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067280" y="443880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พิมพ์ชื่อและนามสกุล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ตำแหน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84360" y="5308560"/>
            <a:ext cx="26636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ฝ่ายเลขานุกา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828720" y="57340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โท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826920" y="6200640"/>
            <a:ext cx="25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โทรสาร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916000" y="1341000"/>
            <a:ext cx="338436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วัน เดือน ป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908000" y="2782440"/>
            <a:ext cx="5616720" cy="20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         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๓๐  ธันวาคม  ๒๕๕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หรือ  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0 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ธันวาคม 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184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5400" spc="-1" strike="noStrike">
                <a:solidFill>
                  <a:srgbClr val="ff6600"/>
                </a:solidFill>
                <a:latin typeface="Angsana New"/>
              </a:rPr>
              <a:t>เว้นแต่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ถ้าเป็นคำสั่ง  ระเบียบ   ประกา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ั่ง  ณ  วันที่  ๓๐  ธันวาคม 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๒๕๕๐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ประกาศ  ณ  วันที่  ๓๐  ธันวาคม           ๒๕๕๐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"/>
          <p:cNvSpPr/>
          <p:nvPr/>
        </p:nvSpPr>
        <p:spPr>
          <a:xfrm>
            <a:off x="6156360" y="2492280"/>
            <a:ext cx="936720" cy="936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6948360" y="3500280"/>
            <a:ext cx="865440" cy="865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394920" y="620280"/>
            <a:ext cx="8280360" cy="58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คำสั่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ชื่อส่วนราชการหรือตำแหน่งของผู้มีอำนาจที่ออกคำสั่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ที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........../ (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เลขปีพุทธศักราชที่ออกคำสั่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เรื่อ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ข้อควา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ทั้งนี้ ตั้งแต่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สั่ง ณ วันที่            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.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ลงชื่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พิมพ์ชื่อเต็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</a:rPr>
              <a:t>ตำแหน่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2" name=""/>
          <p:cNvSpPr/>
          <p:nvPr/>
        </p:nvSpPr>
        <p:spPr>
          <a:xfrm>
            <a:off x="2930400" y="572436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543480" y="5554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140360" y="6238800"/>
            <a:ext cx="502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767120" y="6319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4140360" y="0"/>
          <a:ext cx="9572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0"/>
                    <a:ext cx="957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"/>
          <p:cNvSpPr/>
          <p:nvPr/>
        </p:nvSpPr>
        <p:spPr>
          <a:xfrm>
            <a:off x="6443640" y="4367160"/>
            <a:ext cx="1081080" cy="863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7596000" y="4799160"/>
            <a:ext cx="1152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"/>
          <p:cNvGrpSpPr/>
          <p:nvPr/>
        </p:nvGrpSpPr>
        <p:grpSpPr>
          <a:xfrm>
            <a:off x="1469880" y="481320"/>
            <a:ext cx="6419520" cy="6374160"/>
            <a:chOff x="1469880" y="481320"/>
            <a:chExt cx="6419520" cy="6374160"/>
          </a:xfrm>
        </p:grpSpPr>
        <p:sp>
          <p:nvSpPr>
            <p:cNvPr id="935" name="_s1718278"/>
            <p:cNvSpPr/>
            <p:nvPr/>
          </p:nvSpPr>
          <p:spPr>
            <a:xfrm>
              <a:off x="2307240" y="1358280"/>
              <a:ext cx="4745160" cy="46202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_s1718279"/>
            <p:cNvSpPr/>
            <p:nvPr/>
          </p:nvSpPr>
          <p:spPr>
            <a:xfrm rot="3600000">
              <a:off x="2369160" y="1296000"/>
              <a:ext cx="4620240" cy="47451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_s1718280"/>
            <p:cNvSpPr/>
            <p:nvPr/>
          </p:nvSpPr>
          <p:spPr>
            <a:xfrm rot="7200000">
              <a:off x="2369160" y="1295640"/>
              <a:ext cx="4620240" cy="47451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_s1718281"/>
            <p:cNvSpPr/>
            <p:nvPr/>
          </p:nvSpPr>
          <p:spPr>
            <a:xfrm rot="10800000">
              <a:off x="2306880" y="1358280"/>
              <a:ext cx="4745160" cy="46202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_s1718282"/>
            <p:cNvSpPr/>
            <p:nvPr/>
          </p:nvSpPr>
          <p:spPr>
            <a:xfrm rot="14400000">
              <a:off x="2369520" y="1295280"/>
              <a:ext cx="4620240" cy="47451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_s1718283"/>
            <p:cNvSpPr/>
            <p:nvPr/>
          </p:nvSpPr>
          <p:spPr>
            <a:xfrm rot="18000000">
              <a:off x="2369520" y="1295640"/>
              <a:ext cx="4620240" cy="47451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_s1718284"/>
            <p:cNvSpPr/>
            <p:nvPr/>
          </p:nvSpPr>
          <p:spPr>
            <a:xfrm>
              <a:off x="5308560" y="1386720"/>
              <a:ext cx="9194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600" spc="-1" strike="noStrike">
                  <a:solidFill>
                    <a:srgbClr val="000000"/>
                  </a:solidFill>
                  <a:latin typeface="Times New Roman"/>
                </a:rPr>
                <a:t>การส่ง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_s1718285"/>
            <p:cNvSpPr/>
            <p:nvPr/>
          </p:nvSpPr>
          <p:spPr>
            <a:xfrm>
              <a:off x="6396120" y="3219840"/>
              <a:ext cx="9194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600" spc="-1" strike="noStrike">
                  <a:solidFill>
                    <a:srgbClr val="000000"/>
                  </a:solidFill>
                  <a:latin typeface="Times New Roman"/>
                </a:rPr>
                <a:t>การเก็บ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600" spc="-1" strike="noStrike">
                  <a:solidFill>
                    <a:srgbClr val="000000"/>
                  </a:solidFill>
                  <a:latin typeface="Times New Roman"/>
                </a:rPr>
                <a:t>รักษา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_s1718286"/>
            <p:cNvSpPr/>
            <p:nvPr/>
          </p:nvSpPr>
          <p:spPr>
            <a:xfrm>
              <a:off x="2045520" y="3219840"/>
              <a:ext cx="9194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100" spc="-1" strike="noStrike">
                  <a:solidFill>
                    <a:srgbClr val="000000"/>
                  </a:solidFill>
                  <a:latin typeface="Times New Roman"/>
                </a:rPr>
                <a:t>การจัดทำ</a:t>
              </a:r>
              <a:endParaRPr b="0" lang="en-US" sz="5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_s1718287"/>
            <p:cNvSpPr/>
            <p:nvPr/>
          </p:nvSpPr>
          <p:spPr>
            <a:xfrm>
              <a:off x="3133080" y="1384560"/>
              <a:ext cx="9194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600" spc="-1" strike="noStrike">
                  <a:solidFill>
                    <a:srgbClr val="000000"/>
                  </a:solidFill>
                  <a:latin typeface="Times New Roman"/>
                </a:rPr>
                <a:t>การรับ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_s1718288"/>
            <p:cNvSpPr/>
            <p:nvPr/>
          </p:nvSpPr>
          <p:spPr>
            <a:xfrm>
              <a:off x="5308560" y="5054760"/>
              <a:ext cx="9194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600" spc="-1" strike="noStrike">
                  <a:solidFill>
                    <a:srgbClr val="000000"/>
                  </a:solidFill>
                  <a:latin typeface="Times New Roman"/>
                </a:rPr>
                <a:t>การยืม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_s1718289"/>
            <p:cNvSpPr/>
            <p:nvPr/>
          </p:nvSpPr>
          <p:spPr>
            <a:xfrm>
              <a:off x="3133080" y="5054760"/>
              <a:ext cx="9194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600" spc="-1" strike="noStrike">
                  <a:solidFill>
                    <a:srgbClr val="000000"/>
                  </a:solidFill>
                  <a:latin typeface="Times New Roman"/>
                </a:rPr>
                <a:t>การทำลาย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971640" y="3500280"/>
            <a:ext cx="431640" cy="43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35280" y="530064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771640" y="333360"/>
            <a:ext cx="403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วงจรงานสารบรรณ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551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คำขึ้นต้น และ คำลงท้าย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ให้ใช้ตามฐานะของผู้รับ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ตาม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ตารางภาคผนวก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2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เช่น 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ประธานรัฐสภา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นายกรัฐมนตรี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ประธานศาลฎีกา  ฯลฯ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5400" spc="-1" strike="noStrike">
                <a:solidFill>
                  <a:srgbClr val="ffff66"/>
                </a:solidFill>
                <a:latin typeface="Angsana New"/>
              </a:rPr>
              <a:t>“ </a:t>
            </a:r>
            <a:r>
              <a:rPr b="1" lang="en-US" sz="5400" spc="-1" strike="noStrike">
                <a:solidFill>
                  <a:srgbClr val="ffff66"/>
                </a:solidFill>
                <a:latin typeface="Angsana New"/>
              </a:rPr>
              <a:t>กราบเรียน”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ngsana New"/>
              </a:rPr>
              <a:t>      </a:t>
            </a:r>
            <a:r>
              <a:rPr b="1" lang="en-US" sz="5400" spc="-1" strike="noStrike">
                <a:solidFill>
                  <a:srgbClr val="ffff66"/>
                </a:solidFill>
                <a:latin typeface="Angsana New"/>
                <a:ea typeface="Browallia New"/>
              </a:rPr>
              <a:t>     “</a:t>
            </a:r>
            <a:r>
              <a:rPr b="1" lang="en-US" sz="5400" spc="-1" strike="noStrike">
                <a:solidFill>
                  <a:srgbClr val="ffff66"/>
                </a:solidFill>
                <a:latin typeface="Angsana New"/>
              </a:rPr>
              <a:t>ขอแสดงความนับถืออย่างยิ่ง”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070920" cy="2089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Browallia New"/>
              </a:rPr>
              <a:t>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แล้วตามด้วยตำแหน่งของผู้ที่หนังสือนั้นมีถึง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หรือชื่อบุคคลกรณีไม่เกี่ยวกับตำแหน่งหน้าที่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"/>
          <p:cNvSpPr/>
          <p:nvPr/>
        </p:nvSpPr>
        <p:spPr>
          <a:xfrm>
            <a:off x="684360" y="2351160"/>
            <a:ext cx="7921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คำถาม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: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จะต้องใส่คำว่า  ฯพณฯ  ด้วยหรือไม่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780000" y="3284640"/>
            <a:ext cx="34560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ฯพณฯ นายกรัฐมนตร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340000" y="4006800"/>
            <a:ext cx="14400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เรีย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995640" y="4006800"/>
            <a:ext cx="352764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ท่านรองนายกรัฐมนตรี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411280" y="3284640"/>
            <a:ext cx="187164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กราบเรีย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21417600">
            <a:off x="4208400" y="2852640"/>
            <a:ext cx="6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020000" y="6022800"/>
            <a:ext cx="1297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995640" y="3575160"/>
            <a:ext cx="5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332000" y="1268280"/>
            <a:ext cx="698508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11280" y="1774800"/>
            <a:ext cx="8208720" cy="5212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๏ ให้อ้างถึงหนังสือที่เคยติดต่อกันมาก่อนแล้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ทุกครั้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๏ ให้อ้างถึงหนังสือฉบับสุดท้ายที่เคยติดต่อกั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เพียงฉบับเดียว </a:t>
            </a:r>
            <a:r>
              <a:rPr b="1" lang="hi-IN" sz="4800" spc="-1" strike="noStrike">
                <a:solidFill>
                  <a:srgbClr val="ff3300"/>
                </a:solidFill>
                <a:latin typeface="Arial"/>
              </a:rPr>
              <a:t>เว้นแต่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เป็นสาระสำคั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780000" y="692280"/>
            <a:ext cx="17287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อ้างถึ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ngsana Ne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สิ่งที่ส่งมาด้วย   ภาพถ่ายหนังสือสำนักนายกรัฐมนตรี ลับ ด่วน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                           </a:t>
            </a: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ที่ นร ๐๑๐๕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๒๐๐๓ ลงวันที่ ๑๓ เมษายน  ๒๕๕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"/>
          <p:cNvSpPr/>
          <p:nvPr/>
        </p:nvSpPr>
        <p:spPr>
          <a:xfrm>
            <a:off x="2268360" y="1628640"/>
            <a:ext cx="77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340000" y="1558800"/>
            <a:ext cx="136836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6600"/>
                </a:solidFill>
                <a:latin typeface="Arial"/>
              </a:rPr>
              <a:t>สำเน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916360" y="162864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916360" y="620640"/>
            <a:ext cx="345744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สิ่งที่ส่งมาด้ว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6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โทร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๐ ๒๒๘๒ ๒๖๙๔ ต่อ ๒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๖๘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โทรสาร ๐ ๒๒๘๒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๗๘๙๖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สำเนาส่ง ผู้ตรวจราชการสำนักนายกรัฐมนตร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ประจำเขตตรวจราชการที่ ๑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๑๗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9" name=""/>
          <p:cNvSpPr/>
          <p:nvPr/>
        </p:nvSpPr>
        <p:spPr>
          <a:xfrm>
            <a:off x="1908000" y="260280"/>
            <a:ext cx="604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rial"/>
              </a:rPr>
              <a:t>เพื่อประโยชน์ในการติดต่อ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3500280"/>
            <a:ext cx="914400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ไปรษณีย์อิเล็กทรอนิกส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rittaya.J@opm.go.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0" y="1699920"/>
            <a:ext cx="9144000" cy="3459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โทร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๐ ๒๒๘๒ ๒๖๙๔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โทรสาร ๐ ๒๒๘๒ </a:t>
            </a:r>
            <a:r>
              <a:rPr b="1" lang="th-TH" sz="4800" spc="-1" strike="noStrike">
                <a:solidFill>
                  <a:srgbClr val="000000"/>
                </a:solidFill>
                <a:latin typeface="Verdana"/>
              </a:rPr>
              <a:t>๗๘๙๖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ไปรษณีย์อิเล็กทรอนิกส์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krittaya.J@opm.go.t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"/>
          <p:cNvSpPr/>
          <p:nvPr/>
        </p:nvSpPr>
        <p:spPr>
          <a:xfrm>
            <a:off x="612720" y="4869000"/>
            <a:ext cx="240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รหั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kritt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971640" y="1774800"/>
            <a:ext cx="3527280" cy="468000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4643280" y="1774800"/>
            <a:ext cx="3529080" cy="460836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2916360" y="476280"/>
            <a:ext cx="36622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การพิมพ์หนังสือราช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0" y="15588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พิมพ์ไม่ต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  <a:ea typeface="Browallia New"/>
              </a:rPr>
              <a:t>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มีความรู้ในตัวสะกด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ตัวการันต์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และตัวย่อ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1"/>
          <a:stretch/>
        </p:blipFill>
        <p:spPr>
          <a:xfrm>
            <a:off x="5508720" y="1990800"/>
            <a:ext cx="26636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0" y="1413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Browallia New"/>
              </a:rPr>
              <a:t> 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๏  </a:t>
            </a:r>
            <a:r>
              <a:rPr b="1" lang="th-TH" sz="5000" spc="-1" strike="noStrike">
                <a:solidFill>
                  <a:srgbClr val="ffffff"/>
                </a:solidFill>
                <a:latin typeface="Angsana New"/>
              </a:rPr>
              <a:t>การเว้นวรรคโดยทั่วไป ให้เว้น ๒ จังหวะเคา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th-TH" sz="5000" spc="-1" strike="noStrike">
                <a:solidFill>
                  <a:srgbClr val="ffffff"/>
                </a:solidFill>
                <a:latin typeface="Angsana New"/>
              </a:rPr>
              <a:t>การเว้นวรรคระหว่างหัวข้อเรื่องกับเรื่อง 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Angsana New"/>
              </a:rPr>
              <a:t>           </a:t>
            </a:r>
            <a:r>
              <a:rPr b="1" lang="th-TH" sz="5000" spc="-1" strike="noStrike">
                <a:solidFill>
                  <a:srgbClr val="ffffff"/>
                </a:solidFill>
                <a:latin typeface="Angsana New"/>
              </a:rPr>
              <a:t>ให้เว้น ๒ จังหวะเคา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39720" y="333360"/>
            <a:ext cx="6564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จัดวรรคตอนให้ถูกต้อ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55640" y="3860640"/>
            <a:ext cx="8388360" cy="3902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5000" spc="-1" strike="noStrike">
                <a:solidFill>
                  <a:srgbClr val="ffffff"/>
                </a:solidFill>
                <a:latin typeface="Arial"/>
              </a:rPr>
              <a:t>๏ การเว้นวรรคในเนื้อหา  เรื่องที่พิมพ์มีเนื้อห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5000" spc="-1" strike="noStrike">
                <a:solidFill>
                  <a:srgbClr val="ffffff"/>
                </a:solidFill>
                <a:latin typeface="Arial"/>
              </a:rPr>
              <a:t>เดียวกัน ให้เว้น ๑ จังหวะเคาะ เนื้อหาต่างกัน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5000" spc="-1" strike="noStrike">
                <a:solidFill>
                  <a:srgbClr val="ffffff"/>
                </a:solidFill>
                <a:latin typeface="Arial"/>
              </a:rPr>
              <a:t>ให้เว้น ๒ จังหวะเคา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2123640" y="0"/>
            <a:ext cx="4969080" cy="68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4067280" y="411120"/>
          <a:ext cx="94428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11120"/>
                    <a:ext cx="9442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5" name=""/>
          <p:cNvGraphicFramePr/>
          <p:nvPr/>
        </p:nvGraphicFramePr>
        <p:xfrm>
          <a:off x="2195640" y="189000"/>
          <a:ext cx="5400720" cy="655632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65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6" name=""/>
          <p:cNvSpPr/>
          <p:nvPr/>
        </p:nvSpPr>
        <p:spPr>
          <a:xfrm>
            <a:off x="2195640" y="98280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ที่ นร ๐๕๐๖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๑                    สำนักนายกรัฐมนตร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ทำเนียบรัฐบาล กทม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๑๐๓๐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68360" y="1197000"/>
            <a:ext cx="1655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500720" y="620640"/>
            <a:ext cx="0" cy="1370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608200" y="476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967120" y="464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356000" y="1774800"/>
            <a:ext cx="18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๒ มกราคม ๒๕๕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500720" y="2276640"/>
            <a:ext cx="0" cy="23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067280" y="45100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ขอแสดงความนับถ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51280" y="5230800"/>
            <a:ext cx="3395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...........................................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ปลัดสำนักนายกรัฐมนตร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2340000" y="333000"/>
            <a:ext cx="417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</a:rPr>
              <a:t>ขอบเขตการใช้บังคับ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1484280"/>
            <a:ext cx="9144000" cy="8136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ใช้บังคับกับ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ส่วนราชการ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”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    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 “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ส่วนราชการ” หมายถึง กระทรวง ทบวง กรม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สำนักงาน หรือ  หน่วยงานอื่นใดของรัฐ   ทั้งใ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ราชการบริหารส่วนกลาง  ส่วนภูมิภาค  ส่วนท้องถิ่น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ส่วนราชการในต่างประเทศ และให้หมายความรวมถึงคณะกรรมการด้ว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/>
          </p:nvPr>
        </p:nvSpPr>
        <p:spPr>
          <a:xfrm>
            <a:off x="0" y="547560"/>
            <a:ext cx="9144000" cy="532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cs typeface="Browallia New"/>
              </a:rPr>
              <a:t>๏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มีข้อความมากกว่า ๑ หน้า  หน้าต่อไปไม่ต้องใช้กระดาษตราครุ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cs typeface="Browallia New"/>
              </a:rPr>
              <a:t>๏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ปกติให้พิมพ์ ๒๕ บรรทั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cs typeface="Browallia New"/>
              </a:rPr>
              <a:t>๏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ระยะ</a:t>
            </a:r>
            <a:r>
              <a:rPr b="1" lang="en-US" sz="4000" spc="-1" strike="noStrike">
                <a:solidFill>
                  <a:srgbClr val="ff3300"/>
                </a:solidFill>
                <a:latin typeface="Angsana New"/>
              </a:rPr>
              <a:t>กั้นหน้า ๓ ซ</a:t>
            </a:r>
            <a:r>
              <a:rPr b="1" lang="en-US" sz="4000" spc="-1" strike="noStrike">
                <a:solidFill>
                  <a:srgbClr val="ff3300"/>
                </a:solidFill>
                <a:latin typeface="Angsana New"/>
              </a:rPr>
              <a:t>.</a:t>
            </a:r>
            <a:r>
              <a:rPr b="1" lang="en-US" sz="4000" spc="-1" strike="noStrike">
                <a:solidFill>
                  <a:srgbClr val="ff3300"/>
                </a:solidFill>
                <a:latin typeface="Angsana New"/>
              </a:rPr>
              <a:t>ม</a:t>
            </a:r>
            <a:r>
              <a:rPr b="1" lang="en-US" sz="4000" spc="-1" strike="noStrike">
                <a:solidFill>
                  <a:srgbClr val="ff3300"/>
                </a:solidFill>
                <a:latin typeface="Angsana New"/>
              </a:rPr>
              <a:t>. </a:t>
            </a:r>
            <a:r>
              <a:rPr b="1" lang="en-US" sz="4000" spc="-1" strike="noStrike">
                <a:solidFill>
                  <a:srgbClr val="ff3300"/>
                </a:solidFill>
                <a:latin typeface="Angsana New"/>
              </a:rPr>
              <a:t>กั้นหลัง ๒ ซ</a:t>
            </a:r>
            <a:r>
              <a:rPr b="1" lang="en-US" sz="4000" spc="-1" strike="noStrike">
                <a:solidFill>
                  <a:srgbClr val="ff3300"/>
                </a:solidFill>
                <a:latin typeface="Angsana New"/>
              </a:rPr>
              <a:t>.</a:t>
            </a:r>
            <a:r>
              <a:rPr b="1" lang="en-US" sz="4000" spc="-1" strike="noStrike">
                <a:solidFill>
                  <a:srgbClr val="ff3300"/>
                </a:solidFill>
                <a:latin typeface="Angsana New"/>
              </a:rPr>
              <a:t>ม</a:t>
            </a:r>
            <a:r>
              <a:rPr b="1" lang="en-US" sz="4000" spc="-1" strike="noStrike">
                <a:solidFill>
                  <a:srgbClr val="ff3300"/>
                </a:solidFill>
                <a:latin typeface="Angsana Ne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cs typeface="Browallia New"/>
              </a:rPr>
              <a:t>๏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ถ้าคำสุดท้ายมีหลายพยางค์ ไม่สามารถพิมพ์จบในบรรทั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เดียวกัน  ให้ใช้เครื่องหมาย –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ยติภังค์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6" name=""/>
          <p:cNvGraphicFramePr/>
          <p:nvPr/>
        </p:nvGraphicFramePr>
        <p:xfrm>
          <a:off x="1547640" y="4367160"/>
          <a:ext cx="5545440" cy="1476360"/>
        </p:xfrm>
        <a:graphic>
          <a:graphicData uri="http://schemas.openxmlformats.org/drawingml/2006/table">
            <a:tbl>
              <a:tblPr/>
              <a:tblGrid>
                <a:gridCol w="554544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ตำ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วจ                            อธิ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บด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ำ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นียบ                           มาตร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slow"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cs typeface="Browallia New"/>
              </a:rPr>
              <a:t>๏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ต้องพิมพ์เลขหน้าไว้ระหว่างเครื่องหมายยติภังค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cs typeface="Browallia New"/>
              </a:rPr>
              <a:t>๏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ให้พิมพ์คำต่อเนื่องของข้อความที่ด้านล่างทางมุมขว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ของหน้านั้น ๆ แล้วตามด้วย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จุดสามจุด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227640" y="5518080"/>
            <a:ext cx="237672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การอนุมัต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395520" y="1844640"/>
            <a:ext cx="1421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hi-IN" sz="5400" spc="-1" strike="noStrike">
                <a:solidFill>
                  <a:srgbClr val="ffffff"/>
                </a:solidFill>
                <a:latin typeface="Angsana New"/>
              </a:rPr>
              <a:t>๒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0" y="2998440"/>
            <a:ext cx="9144000" cy="360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Browallia New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ngsana New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684360" y="1990800"/>
          <a:ext cx="7775280" cy="4527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54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                                         </a:t>
                      </a: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- </a:t>
                      </a: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๒ </a:t>
                      </a: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อได้โปรดแจ้งผลการพิจารณาให้สำนักนายกรัฐมนตรีทราบต่อไปด้วย  จักขอบคุณมา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         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ึงเรียนมาเพื่อโปรดพิจารณาดำเนินการต่อไป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                                          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อแสดงความนับถือ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0" y="363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๏  ควรมีข้อความของหนังสือเหลือไปพิมพ์ในหน้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สุดท้ายอย่างน้อย ๒ บรรทัดก่อนพิมพ์คำลงท้า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187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โดยปกติให้มีสำเนาคู่ฉบับ เก็บไว้ที่ต้นเรื่อง ๑ ฉบับ และให้มีสำเนาเก็บไว้ที่หน่วยงานสารบรรณกลาง ๑ ฉบับ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995640" cy="425124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3744720" cy="410652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3"/>
          <a:stretch/>
        </p:blipFill>
        <p:spPr>
          <a:xfrm>
            <a:off x="4716360" y="2637000"/>
            <a:ext cx="3313080" cy="39607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5796000" y="559116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020000" y="5375160"/>
            <a:ext cx="109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ตรว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ร่า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พิมพ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251840" y="57340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2000" spc="-1" strike="noStrike">
                <a:solidFill>
                  <a:srgbClr val="0000ff"/>
                </a:solidFill>
                <a:latin typeface="Arial"/>
              </a:rPr>
              <a:t>กฤตย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0" y="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608200" y="476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967120" y="464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52000" cy="605016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6804000" y="4799160"/>
            <a:ext cx="136836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ตรว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ร่า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พิมพ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500720" y="5446800"/>
            <a:ext cx="2089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30080" y="508464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3333ff"/>
                </a:solidFill>
                <a:latin typeface="Arial"/>
              </a:rPr>
              <a:t>กฤตย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640" y="1052640"/>
            <a:ext cx="8280360" cy="314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สำเนาคู่ฉบับ ให้ผู้ลงชื่อลงลายมือชื่อหรือลายมือชื่อย่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และให้ผู้ร่าง ผู้พิมพ์ ผู้ตรวจ ลงลายมือชื่อหรือลายมือชื่อย่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ไว้ที่ขอบล่างด้านขวาของหนังสื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-360" y="404640"/>
            <a:ext cx="8893080" cy="5834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๏  มีคำว่า “สำเนา” ไว้กึ่งกลางหน้าเหนือบรรทัดแรก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๏  ให้ใช้คำว่า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“สำเนาถูกต้อง”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๏  ให้เจ้าหน้าที่ตั้งแต่ระดับ ๒ หรือเทียบเท่าขึ้นไป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ซึ่งเป็นเจ้าของเรื่อง ลงลายมือชื่อรับรอง พร้อมทั้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ลงชื่อตัวบรรจง ตำแหน่ง  และ วัน เดือน ปี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ที่ขอบล่างของหนังสือ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9" name=""/>
          <p:cNvSpPr/>
          <p:nvPr/>
        </p:nvSpPr>
        <p:spPr>
          <a:xfrm>
            <a:off x="1639080" y="333360"/>
            <a:ext cx="62643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การรับรองสำเนาเอกสา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4392720" cy="119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cc66"/>
                </a:solidFill>
                <a:latin typeface="Arial"/>
              </a:rPr>
              <a:t>หนังสือภายใน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80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ใช้ติดต่อราชการที่เป็น</a:t>
            </a:r>
            <a:r>
              <a:rPr b="1" lang="th-TH" sz="5400" spc="-1" strike="noStrike">
                <a:solidFill>
                  <a:srgbClr val="ffff00"/>
                </a:solidFill>
                <a:latin typeface="Verdana"/>
              </a:rPr>
              <a:t>แบบพิธีน้อยกว่า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ติดต่อภายในกระทรวง ทบวง กรม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หรือจังหวัดเดียวกัน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th-TH" sz="5400" spc="-1" strike="noStrike">
                <a:solidFill>
                  <a:srgbClr val="ffffff"/>
                </a:solidFill>
                <a:latin typeface="Verdana"/>
              </a:rPr>
              <a:t> ใช้กระดาษบันทึกข้อความ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th-TH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46836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1600200" y="333360"/>
          <a:ext cx="5238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360"/>
                    <a:ext cx="523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"/>
          <p:cNvSpPr/>
          <p:nvPr/>
        </p:nvSpPr>
        <p:spPr>
          <a:xfrm>
            <a:off x="3852720" y="9216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050920" y="40464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เร็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635280" y="404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Arial"/>
              </a:rPr>
              <a:t>บันทึกข้อคว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692360" y="1197000"/>
            <a:ext cx="26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47640" y="7668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ส่วนราชการ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547640" y="1125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ที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วันที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527120" y="1812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547640" y="14842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เรื่อง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547640" y="2016000"/>
            <a:ext cx="331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คำขึ้น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140360" y="6338880"/>
            <a:ext cx="14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624560" y="77796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411280" y="32846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ข้อความ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..............................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332000" y="2421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อ้างถึง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ไม่ม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403280" y="285264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สิ่งที่ส่งมาด้วย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ไม่ม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2567160"/>
            <a:ext cx="14032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ข้อควรระวั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348000" y="4869000"/>
            <a:ext cx="96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ลงชื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924360" y="5375160"/>
            <a:ext cx="282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พิมพ์ชื่อเต็ม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ตำแหน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211640" y="4222800"/>
            <a:ext cx="432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ขอแสดงความนับถือ 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ไม่มี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411280" y="4222800"/>
            <a:ext cx="16416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ข้อควรระวั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6"/>
          <p:cNvSpPr/>
          <p:nvPr/>
        </p:nvSpPr>
        <p:spPr>
          <a:xfrm>
            <a:off x="0" y="2801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5" name="Object 5"/>
          <p:cNvGraphicFramePr/>
          <p:nvPr/>
        </p:nvGraphicFramePr>
        <p:xfrm>
          <a:off x="1600200" y="333360"/>
          <a:ext cx="5238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360"/>
                    <a:ext cx="523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7" name="Text Box 10"/>
          <p:cNvSpPr/>
          <p:nvPr/>
        </p:nvSpPr>
        <p:spPr>
          <a:xfrm>
            <a:off x="3852720" y="9216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 Box 11"/>
          <p:cNvSpPr/>
          <p:nvPr/>
        </p:nvSpPr>
        <p:spPr>
          <a:xfrm>
            <a:off x="2050920" y="40464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เร็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 Box 12"/>
          <p:cNvSpPr/>
          <p:nvPr/>
        </p:nvSpPr>
        <p:spPr>
          <a:xfrm>
            <a:off x="3635280" y="404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บันทึกข้อคว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13"/>
          <p:cNvSpPr/>
          <p:nvPr/>
        </p:nvSpPr>
        <p:spPr>
          <a:xfrm>
            <a:off x="1692360" y="1197000"/>
            <a:ext cx="26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 Box 14"/>
          <p:cNvSpPr/>
          <p:nvPr/>
        </p:nvSpPr>
        <p:spPr>
          <a:xfrm>
            <a:off x="1547640" y="7668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่วนราชกา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15"/>
          <p:cNvSpPr/>
          <p:nvPr/>
        </p:nvSpPr>
        <p:spPr>
          <a:xfrm>
            <a:off x="1547640" y="1125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ที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 ...................................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วันที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 Box 16"/>
          <p:cNvSpPr/>
          <p:nvPr/>
        </p:nvSpPr>
        <p:spPr>
          <a:xfrm>
            <a:off x="1527120" y="1812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17"/>
          <p:cNvSpPr/>
          <p:nvPr/>
        </p:nvSpPr>
        <p:spPr>
          <a:xfrm>
            <a:off x="1547640" y="155880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ื่อ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 Box 18"/>
          <p:cNvSpPr/>
          <p:nvPr/>
        </p:nvSpPr>
        <p:spPr>
          <a:xfrm>
            <a:off x="1547640" y="2016000"/>
            <a:ext cx="1079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คำขึ้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1835280" y="4222800"/>
            <a:ext cx="525600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ลงชื่อ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พิมพ์ชื่อเต็ม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23"/>
          <p:cNvSpPr/>
          <p:nvPr/>
        </p:nvSpPr>
        <p:spPr>
          <a:xfrm>
            <a:off x="3851280" y="6093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Text Box 24"/>
          <p:cNvSpPr/>
          <p:nvPr/>
        </p:nvSpPr>
        <p:spPr>
          <a:xfrm>
            <a:off x="2484360" y="285264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ข้อควา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2843280" y="692280"/>
            <a:ext cx="151272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กระทรว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Text Box 27"/>
          <p:cNvSpPr/>
          <p:nvPr/>
        </p:nvSpPr>
        <p:spPr>
          <a:xfrm>
            <a:off x="4211640" y="5300640"/>
            <a:ext cx="2376360" cy="137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ปลัดกระทรว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Text Box 28"/>
          <p:cNvSpPr/>
          <p:nvPr/>
        </p:nvSpPr>
        <p:spPr>
          <a:xfrm>
            <a:off x="1620720" y="1052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มท ๐๒๐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Text Box 30"/>
          <p:cNvSpPr/>
          <p:nvPr/>
        </p:nvSpPr>
        <p:spPr>
          <a:xfrm>
            <a:off x="4500720" y="982800"/>
            <a:ext cx="287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๕  มกราคม  ๒๕๔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 Box 31"/>
          <p:cNvSpPr/>
          <p:nvPr/>
        </p:nvSpPr>
        <p:spPr>
          <a:xfrm>
            <a:off x="1547640" y="1484280"/>
            <a:ext cx="38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ขออนุมัติเดินทางไป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 Box 35"/>
          <p:cNvSpPr/>
          <p:nvPr/>
        </p:nvSpPr>
        <p:spPr>
          <a:xfrm>
            <a:off x="4356000" y="692280"/>
            <a:ext cx="352908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6600"/>
                </a:solidFill>
                <a:latin typeface="Arial"/>
              </a:rPr>
              <a:t>กรม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......................... </a:t>
            </a:r>
            <a:r>
              <a:rPr b="1" lang="hi-IN" sz="2800" spc="-1" strike="noStrike">
                <a:solidFill>
                  <a:srgbClr val="006600"/>
                </a:solidFill>
                <a:latin typeface="Arial"/>
              </a:rPr>
              <a:t>โทร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Text Box 37"/>
          <p:cNvSpPr/>
          <p:nvPr/>
        </p:nvSpPr>
        <p:spPr>
          <a:xfrm>
            <a:off x="2843280" y="105264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๔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2"/>
          <p:cNvSpPr/>
          <p:nvPr/>
        </p:nvSpPr>
        <p:spPr>
          <a:xfrm>
            <a:off x="0" y="2801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7" name="Object 3"/>
          <p:cNvGraphicFramePr/>
          <p:nvPr/>
        </p:nvGraphicFramePr>
        <p:xfrm>
          <a:off x="1600200" y="333360"/>
          <a:ext cx="5238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360"/>
                    <a:ext cx="523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9" name="Text Box 4"/>
          <p:cNvSpPr/>
          <p:nvPr/>
        </p:nvSpPr>
        <p:spPr>
          <a:xfrm>
            <a:off x="3852720" y="9216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5"/>
          <p:cNvSpPr/>
          <p:nvPr/>
        </p:nvSpPr>
        <p:spPr>
          <a:xfrm>
            <a:off x="2050920" y="40464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เร็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 Box 6"/>
          <p:cNvSpPr/>
          <p:nvPr/>
        </p:nvSpPr>
        <p:spPr>
          <a:xfrm>
            <a:off x="3635280" y="404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บันทึกข้อคว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Text Box 7"/>
          <p:cNvSpPr/>
          <p:nvPr/>
        </p:nvSpPr>
        <p:spPr>
          <a:xfrm>
            <a:off x="1692360" y="1197000"/>
            <a:ext cx="26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8"/>
          <p:cNvSpPr/>
          <p:nvPr/>
        </p:nvSpPr>
        <p:spPr>
          <a:xfrm>
            <a:off x="1547640" y="7668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่วนราชกา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 Box 9"/>
          <p:cNvSpPr/>
          <p:nvPr/>
        </p:nvSpPr>
        <p:spPr>
          <a:xfrm>
            <a:off x="1547640" y="1125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ที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วันที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 Box 10"/>
          <p:cNvSpPr/>
          <p:nvPr/>
        </p:nvSpPr>
        <p:spPr>
          <a:xfrm>
            <a:off x="1527120" y="1812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Text Box 11"/>
          <p:cNvSpPr/>
          <p:nvPr/>
        </p:nvSpPr>
        <p:spPr>
          <a:xfrm>
            <a:off x="1547640" y="155880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ื่อ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Text Box 12"/>
          <p:cNvSpPr/>
          <p:nvPr/>
        </p:nvSpPr>
        <p:spPr>
          <a:xfrm>
            <a:off x="1547640" y="2016000"/>
            <a:ext cx="331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คำขึ้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1836360" y="4076280"/>
            <a:ext cx="525636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ลงชื่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พิมพ์ชื่อเต็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14"/>
          <p:cNvSpPr/>
          <p:nvPr/>
        </p:nvSpPr>
        <p:spPr>
          <a:xfrm>
            <a:off x="3708360" y="61675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 Box 15"/>
          <p:cNvSpPr/>
          <p:nvPr/>
        </p:nvSpPr>
        <p:spPr>
          <a:xfrm>
            <a:off x="1619280" y="2782800"/>
            <a:ext cx="61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        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ข้อความ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 Box 17"/>
          <p:cNvSpPr/>
          <p:nvPr/>
        </p:nvSpPr>
        <p:spPr>
          <a:xfrm>
            <a:off x="2843280" y="692280"/>
            <a:ext cx="115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กร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 Box 18"/>
          <p:cNvSpPr/>
          <p:nvPr/>
        </p:nvSpPr>
        <p:spPr>
          <a:xfrm>
            <a:off x="4500720" y="5159520"/>
            <a:ext cx="230328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อธิบดีกร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Text Box 19"/>
          <p:cNvSpPr/>
          <p:nvPr/>
        </p:nvSpPr>
        <p:spPr>
          <a:xfrm>
            <a:off x="1692360" y="1052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นร ๐๒๐๕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 Box 20"/>
          <p:cNvSpPr/>
          <p:nvPr/>
        </p:nvSpPr>
        <p:spPr>
          <a:xfrm>
            <a:off x="4624560" y="77796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 Box 21"/>
          <p:cNvSpPr/>
          <p:nvPr/>
        </p:nvSpPr>
        <p:spPr>
          <a:xfrm>
            <a:off x="4500720" y="987480"/>
            <a:ext cx="295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๕  มกราคม  ๒๕๔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Text Box 22"/>
          <p:cNvSpPr/>
          <p:nvPr/>
        </p:nvSpPr>
        <p:spPr>
          <a:xfrm>
            <a:off x="1547640" y="1484280"/>
            <a:ext cx="38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ขออนุมัติเดินทางไป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 Box 23"/>
          <p:cNvSpPr/>
          <p:nvPr/>
        </p:nvSpPr>
        <p:spPr>
          <a:xfrm>
            <a:off x="3995640" y="692280"/>
            <a:ext cx="3888000" cy="137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สำนั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กอ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..................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โทร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 Box 24"/>
          <p:cNvSpPr/>
          <p:nvPr/>
        </p:nvSpPr>
        <p:spPr>
          <a:xfrm>
            <a:off x="3059280" y="10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๔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03640" y="404640"/>
            <a:ext cx="3600720" cy="11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คณะกรรมการ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70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ณะบุคค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            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ที่ได้รับมอบหมาย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         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จากทางราชการ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                 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ให้ปฏิบัติงานเรื่องใด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Verdana"/>
              </a:rPr>
              <a:t>ซึ่งรวมถึง  คณะอนุกรรมการ  คณะทำงาน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Verdana"/>
              </a:rPr>
              <a:t>หรื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Verdana"/>
              </a:rPr>
              <a:t>คณะบุคคลอื่นที่ปฏิบัติงานในลักษณะเดียวกัน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3816360" cy="403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2"/>
          <p:cNvSpPr/>
          <p:nvPr/>
        </p:nvSpPr>
        <p:spPr>
          <a:xfrm>
            <a:off x="0" y="2801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0" name="Object 3"/>
          <p:cNvGraphicFramePr/>
          <p:nvPr/>
        </p:nvGraphicFramePr>
        <p:xfrm>
          <a:off x="1600200" y="333360"/>
          <a:ext cx="5238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360"/>
                    <a:ext cx="523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2" name="Text Box 4"/>
          <p:cNvSpPr/>
          <p:nvPr/>
        </p:nvSpPr>
        <p:spPr>
          <a:xfrm>
            <a:off x="3852720" y="9216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2050920" y="40464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เร็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6"/>
          <p:cNvSpPr/>
          <p:nvPr/>
        </p:nvSpPr>
        <p:spPr>
          <a:xfrm>
            <a:off x="3635280" y="404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บันทึกข้อคว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 Box 7"/>
          <p:cNvSpPr/>
          <p:nvPr/>
        </p:nvSpPr>
        <p:spPr>
          <a:xfrm>
            <a:off x="1692360" y="1197000"/>
            <a:ext cx="26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 Box 8"/>
          <p:cNvSpPr/>
          <p:nvPr/>
        </p:nvSpPr>
        <p:spPr>
          <a:xfrm>
            <a:off x="1547640" y="7668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่วนราชกา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 Box 9"/>
          <p:cNvSpPr/>
          <p:nvPr/>
        </p:nvSpPr>
        <p:spPr>
          <a:xfrm>
            <a:off x="1547640" y="1125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ที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วันที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Text Box 10"/>
          <p:cNvSpPr/>
          <p:nvPr/>
        </p:nvSpPr>
        <p:spPr>
          <a:xfrm>
            <a:off x="1527120" y="1812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Text Box 11"/>
          <p:cNvSpPr/>
          <p:nvPr/>
        </p:nvSpPr>
        <p:spPr>
          <a:xfrm>
            <a:off x="1547640" y="155880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เรื่อ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 Box 12"/>
          <p:cNvSpPr/>
          <p:nvPr/>
        </p:nvSpPr>
        <p:spPr>
          <a:xfrm>
            <a:off x="1547640" y="2016000"/>
            <a:ext cx="331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คำขึ้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1836360" y="4076280"/>
            <a:ext cx="525636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ลงชื่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พิมพ์ชื่อเต็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14"/>
          <p:cNvSpPr/>
          <p:nvPr/>
        </p:nvSpPr>
        <p:spPr>
          <a:xfrm>
            <a:off x="3708360" y="61675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 Box 15"/>
          <p:cNvSpPr/>
          <p:nvPr/>
        </p:nvSpPr>
        <p:spPr>
          <a:xfrm>
            <a:off x="1619280" y="2567160"/>
            <a:ext cx="61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ข้อความ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 Box 17"/>
          <p:cNvSpPr/>
          <p:nvPr/>
        </p:nvSpPr>
        <p:spPr>
          <a:xfrm>
            <a:off x="2771640" y="692280"/>
            <a:ext cx="129564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จังหวัด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 Box 18"/>
          <p:cNvSpPr/>
          <p:nvPr/>
        </p:nvSpPr>
        <p:spPr>
          <a:xfrm>
            <a:off x="4356000" y="5159520"/>
            <a:ext cx="33847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ผู้ว่าราชการจังหวัด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Text Box 20"/>
          <p:cNvSpPr/>
          <p:nvPr/>
        </p:nvSpPr>
        <p:spPr>
          <a:xfrm>
            <a:off x="4624560" y="77796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21"/>
          <p:cNvSpPr/>
          <p:nvPr/>
        </p:nvSpPr>
        <p:spPr>
          <a:xfrm>
            <a:off x="5003640" y="982800"/>
            <a:ext cx="2951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๕  มกราคม  ๒๕๔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 Box 22"/>
          <p:cNvSpPr/>
          <p:nvPr/>
        </p:nvSpPr>
        <p:spPr>
          <a:xfrm>
            <a:off x="1547640" y="1484280"/>
            <a:ext cx="38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ขออนุมัติเดินทางไป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4067280" y="692280"/>
            <a:ext cx="388764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สำนักงาน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 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โทร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630440" y="907920"/>
            <a:ext cx="20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อย ๐๐๑๖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๔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2"/>
          <p:cNvSpPr/>
          <p:nvPr/>
        </p:nvSpPr>
        <p:spPr>
          <a:xfrm>
            <a:off x="0" y="2801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2" name="Object 3"/>
          <p:cNvGraphicFramePr/>
          <p:nvPr/>
        </p:nvGraphicFramePr>
        <p:xfrm>
          <a:off x="1600200" y="333360"/>
          <a:ext cx="5238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360"/>
                    <a:ext cx="523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4" name="Text Box 4"/>
          <p:cNvSpPr/>
          <p:nvPr/>
        </p:nvSpPr>
        <p:spPr>
          <a:xfrm>
            <a:off x="3852720" y="9216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2050920" y="47628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เร็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Text Box 6"/>
          <p:cNvSpPr/>
          <p:nvPr/>
        </p:nvSpPr>
        <p:spPr>
          <a:xfrm>
            <a:off x="3635280" y="404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Arial"/>
              </a:rPr>
              <a:t>บันทึกข้อคว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Text Box 7"/>
          <p:cNvSpPr/>
          <p:nvPr/>
        </p:nvSpPr>
        <p:spPr>
          <a:xfrm>
            <a:off x="1692360" y="1197000"/>
            <a:ext cx="26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Text Box 8"/>
          <p:cNvSpPr/>
          <p:nvPr/>
        </p:nvSpPr>
        <p:spPr>
          <a:xfrm>
            <a:off x="1547640" y="7668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ส่วนราชการ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Text Box 9"/>
          <p:cNvSpPr/>
          <p:nvPr/>
        </p:nvSpPr>
        <p:spPr>
          <a:xfrm>
            <a:off x="1547640" y="1125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ที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วันที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Text Box 10"/>
          <p:cNvSpPr/>
          <p:nvPr/>
        </p:nvSpPr>
        <p:spPr>
          <a:xfrm>
            <a:off x="1527120" y="1812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 Box 11"/>
          <p:cNvSpPr/>
          <p:nvPr/>
        </p:nvSpPr>
        <p:spPr>
          <a:xfrm>
            <a:off x="1547640" y="14842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เรื่อง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Text Box 12"/>
          <p:cNvSpPr/>
          <p:nvPr/>
        </p:nvSpPr>
        <p:spPr>
          <a:xfrm>
            <a:off x="1547640" y="2016000"/>
            <a:ext cx="331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คำขึ้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2843280" y="4076280"/>
            <a:ext cx="5256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ลงชื่อ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พิมพ์ชื่อเต็ม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4"/>
          <p:cNvSpPr/>
          <p:nvPr/>
        </p:nvSpPr>
        <p:spPr>
          <a:xfrm>
            <a:off x="3708360" y="61675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Text Box 15"/>
          <p:cNvSpPr/>
          <p:nvPr/>
        </p:nvSpPr>
        <p:spPr>
          <a:xfrm>
            <a:off x="1547640" y="2925720"/>
            <a:ext cx="61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ข้อความ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Text Box 18"/>
          <p:cNvSpPr/>
          <p:nvPr/>
        </p:nvSpPr>
        <p:spPr>
          <a:xfrm>
            <a:off x="4859280" y="5159520"/>
            <a:ext cx="309564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ผู้อำนวยการสำนั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กอ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Text Box 19"/>
          <p:cNvSpPr/>
          <p:nvPr/>
        </p:nvSpPr>
        <p:spPr>
          <a:xfrm>
            <a:off x="1619280" y="105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นร ๐๑๐๕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Text Box 20"/>
          <p:cNvSpPr/>
          <p:nvPr/>
        </p:nvSpPr>
        <p:spPr>
          <a:xfrm>
            <a:off x="4624560" y="77796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Text Box 21"/>
          <p:cNvSpPr/>
          <p:nvPr/>
        </p:nvSpPr>
        <p:spPr>
          <a:xfrm>
            <a:off x="4500720" y="9874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๕  มกราคม  ๒๕๔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 Box 22"/>
          <p:cNvSpPr/>
          <p:nvPr/>
        </p:nvSpPr>
        <p:spPr>
          <a:xfrm>
            <a:off x="1763640" y="1413000"/>
            <a:ext cx="38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ขออนุมัติเดินทางไป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Text Box 25"/>
          <p:cNvSpPr/>
          <p:nvPr/>
        </p:nvSpPr>
        <p:spPr>
          <a:xfrm>
            <a:off x="2916360" y="692280"/>
            <a:ext cx="151128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สำนั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กอ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 Box 27"/>
          <p:cNvSpPr/>
          <p:nvPr/>
        </p:nvSpPr>
        <p:spPr>
          <a:xfrm>
            <a:off x="4427640" y="692280"/>
            <a:ext cx="374472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ส่ว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ฝ่า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โทร ๐ ๒๒๘๒ ๒๖๙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 Box 28"/>
          <p:cNvSpPr/>
          <p:nvPr/>
        </p:nvSpPr>
        <p:spPr>
          <a:xfrm>
            <a:off x="5580000" y="0"/>
            <a:ext cx="3564000" cy="1068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ใช้ติดต่อภายในกรมเดียวกั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9"/>
          <p:cNvSpPr/>
          <p:nvPr/>
        </p:nvSpPr>
        <p:spPr>
          <a:xfrm>
            <a:off x="2914560" y="1052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๔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2"/>
          <p:cNvSpPr/>
          <p:nvPr/>
        </p:nvSpPr>
        <p:spPr>
          <a:xfrm>
            <a:off x="0" y="2801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6" name="Object 3"/>
          <p:cNvGraphicFramePr/>
          <p:nvPr/>
        </p:nvGraphicFramePr>
        <p:xfrm>
          <a:off x="1600200" y="333360"/>
          <a:ext cx="5238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360"/>
                    <a:ext cx="523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8" name="Text Box 4"/>
          <p:cNvSpPr/>
          <p:nvPr/>
        </p:nvSpPr>
        <p:spPr>
          <a:xfrm>
            <a:off x="3852720" y="9216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 Box 5"/>
          <p:cNvSpPr/>
          <p:nvPr/>
        </p:nvSpPr>
        <p:spPr>
          <a:xfrm>
            <a:off x="2050920" y="47628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เร็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Text Box 6"/>
          <p:cNvSpPr/>
          <p:nvPr/>
        </p:nvSpPr>
        <p:spPr>
          <a:xfrm>
            <a:off x="3635280" y="404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Arial"/>
              </a:rPr>
              <a:t>บันทึกข้อคว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Text Box 7"/>
          <p:cNvSpPr/>
          <p:nvPr/>
        </p:nvSpPr>
        <p:spPr>
          <a:xfrm>
            <a:off x="1692360" y="1197000"/>
            <a:ext cx="26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Text Box 8"/>
          <p:cNvSpPr/>
          <p:nvPr/>
        </p:nvSpPr>
        <p:spPr>
          <a:xfrm>
            <a:off x="1547640" y="7668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ส่วนราชการ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Text Box 9"/>
          <p:cNvSpPr/>
          <p:nvPr/>
        </p:nvSpPr>
        <p:spPr>
          <a:xfrm>
            <a:off x="1547640" y="1125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ที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วันที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Text Box 10"/>
          <p:cNvSpPr/>
          <p:nvPr/>
        </p:nvSpPr>
        <p:spPr>
          <a:xfrm>
            <a:off x="1527120" y="1812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Text Box 11"/>
          <p:cNvSpPr/>
          <p:nvPr/>
        </p:nvSpPr>
        <p:spPr>
          <a:xfrm>
            <a:off x="1547640" y="14842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เรื่อง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.....................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Text Box 12"/>
          <p:cNvSpPr/>
          <p:nvPr/>
        </p:nvSpPr>
        <p:spPr>
          <a:xfrm>
            <a:off x="1547640" y="2016000"/>
            <a:ext cx="331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คำขึ้น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2771280" y="3933360"/>
            <a:ext cx="525636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ลงชื่อ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พิมพ์ชื่อเต็ม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14"/>
          <p:cNvSpPr/>
          <p:nvPr/>
        </p:nvSpPr>
        <p:spPr>
          <a:xfrm>
            <a:off x="3708360" y="61675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Arial"/>
              </a:rPr>
              <a:t>ชั้นความล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 Box 15"/>
          <p:cNvSpPr/>
          <p:nvPr/>
        </p:nvSpPr>
        <p:spPr>
          <a:xfrm>
            <a:off x="1547640" y="2925720"/>
            <a:ext cx="61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         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ข้อความ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..................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 Box 17"/>
          <p:cNvSpPr/>
          <p:nvPr/>
        </p:nvSpPr>
        <p:spPr>
          <a:xfrm>
            <a:off x="4572000" y="5014800"/>
            <a:ext cx="309564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ผู้อำนวยการสำนั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กอ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Text Box 18"/>
          <p:cNvSpPr/>
          <p:nvPr/>
        </p:nvSpPr>
        <p:spPr>
          <a:xfrm>
            <a:off x="1619280" y="1052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นร ๐๒๐๕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 Box 20"/>
          <p:cNvSpPr/>
          <p:nvPr/>
        </p:nvSpPr>
        <p:spPr>
          <a:xfrm>
            <a:off x="4500720" y="9874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๕  มกราคม  ๒๕๔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 Box 21"/>
          <p:cNvSpPr/>
          <p:nvPr/>
        </p:nvSpPr>
        <p:spPr>
          <a:xfrm>
            <a:off x="1763640" y="1413000"/>
            <a:ext cx="38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ขออนุมัติเดินทางไป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Text Box 24"/>
          <p:cNvSpPr/>
          <p:nvPr/>
        </p:nvSpPr>
        <p:spPr>
          <a:xfrm>
            <a:off x="2987640" y="620640"/>
            <a:ext cx="151308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สำนั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กอ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 Box 25"/>
          <p:cNvSpPr/>
          <p:nvPr/>
        </p:nvSpPr>
        <p:spPr>
          <a:xfrm>
            <a:off x="4427640" y="620640"/>
            <a:ext cx="367344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กร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..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โทร ๐ ๒๒๘๒ ๒๖๙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Text Box 26"/>
          <p:cNvSpPr/>
          <p:nvPr/>
        </p:nvSpPr>
        <p:spPr>
          <a:xfrm>
            <a:off x="5292720" y="-27000"/>
            <a:ext cx="3851280" cy="947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ติดต่อต่างกรมในกระทรวงเดียว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27"/>
          <p:cNvSpPr/>
          <p:nvPr/>
        </p:nvSpPr>
        <p:spPr>
          <a:xfrm>
            <a:off x="2843280" y="10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๔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144360" y="475920"/>
            <a:ext cx="8748720" cy="597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46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n-US" sz="4600" spc="-1" strike="noStrike">
                <a:solidFill>
                  <a:srgbClr val="ffff00"/>
                </a:solidFill>
                <a:latin typeface="Verdana"/>
              </a:rPr>
              <a:t>บันทึก”</a:t>
            </a:r>
            <a:r>
              <a:rPr b="1" lang="en-US" sz="4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คือ ข้อความซึ่งผู้ใต้บังคับบัญชา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เสนอต่อผู้บังคับบัญชา หรือ ผู้บังคับบัญชา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สั่งการแก่ผู้ใต้บังคับบัญชา หรือ ข้อความ</a:t>
            </a:r>
            <a:r>
              <a:rPr b="1" lang="th-TH" sz="4600" spc="-1" strike="noStrike">
                <a:solidFill>
                  <a:srgbClr val="ffffff"/>
                </a:solidFill>
                <a:latin typeface="Verdana"/>
              </a:rPr>
              <a:t>ที่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เจ้าหน้าที่หรือหน่วยงานระดับต่ำกว่ากรม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ติดต่อกันในการปฏิบัติราชการ 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โดยปกติ ใช้กระดาษบันทึกข้อความ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323640" y="1268280"/>
            <a:ext cx="8280360" cy="4394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โดยปกติ การจัดทำบันทึกเป็น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Verdana"/>
              </a:rPr>
              <a:t>เรื่องภายใน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ของหน่วยราชการ เพื่ออำนวย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ความสะดวกในการติดต่อและสั่งงานภายใน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ของหน่วยราชการนั้น 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4178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             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บันทึก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ระเบียบฯ ข้อ ๒๖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ให้มีหัวข้อดังต่อไปนี้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ชื่อหรือตำแหน่งที่บันทึกถึง โดยใช้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คำขึ้นต้นตามที่กำหนดไว้ในภาคผนวก ๒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0" y="1197000"/>
            <a:ext cx="9468000" cy="4680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สาระสำคัญของเรื่อง ให้ลงใจความของเรื่องที่บันทึก    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ถ้ามีเอกสารประกอบก็ให้ระบุไว้ด้วย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๓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ชื่อและตำแหน่ง ให้ลงชื่อและตำแหน่งของผู้บันทึก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ในกรณี</a:t>
            </a:r>
            <a:r>
              <a:rPr b="1" lang="hi-IN" sz="4800" spc="-1" strike="noStrike">
                <a:solidFill>
                  <a:srgbClr val="ffff00"/>
                </a:solidFill>
                <a:latin typeface="Verdana"/>
              </a:rPr>
              <a:t>ที่ไม่ใช้กระดาษบันทึกข้อความ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ให้ ลงวัน เดือน ปีที่บันทึกด้วย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324000" y="766800"/>
            <a:ext cx="8820000" cy="5759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0" lang="hi-IN" sz="4800" spc="-1" strike="noStrike">
                <a:solidFill>
                  <a:srgbClr val="ffffff"/>
                </a:solidFill>
                <a:latin typeface="Angsana New"/>
              </a:rPr>
              <a:t>๏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หนังสือที่ใช้ตรา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ประทับ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แทนการลงชื่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ของหัวหน้าส่วนราชการระดับกรมขึ้นไป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๏  ให้หัวหน้า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ส่วนราชการระดับกองหรือผู้ที่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ได้รับมอบหมายจากหัวหน้าส่วนราชการ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ระดับกรมขึ้นไป เป็นผู้รับผิดชอบลงชื่อย่อ 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กำกับตร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"/>
          <p:cNvSpPr/>
          <p:nvPr/>
        </p:nvSpPr>
        <p:spPr>
          <a:xfrm>
            <a:off x="1835280" y="260280"/>
            <a:ext cx="4897440" cy="173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th-TH" sz="5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th-TH" sz="5400" spc="-1" strike="noStrike">
                <a:solidFill>
                  <a:srgbClr val="ffcc66"/>
                </a:solidFill>
                <a:latin typeface="Arial"/>
              </a:rPr>
              <a:t>หนังสือประทับตร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-36360" y="114480"/>
            <a:ext cx="9144000" cy="6744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ให้ใช้เฉพาะกรณีที่ไม่ใช่เรื่องสำคัญ ได้แก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การขอรายละเอียดเพิ่มเติ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การส่งสำเนาหนังสือ สิ่งของ เอกสาร บรรณสาร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การตอบรับทราบที่ไม่เกี่ยวกับราชการสำคัญ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หรือการเงิ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การแจ้งผลงานที่ได้ดำเนินการไปแล้วให้ส่วนราชการ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ที่เกี่ยวข้องทรา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๕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การเตือนเรื่องค้า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๖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เรื่องที่หัวหน้าส่วนราชการระดับกรมขึ้นไปกำหนด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hi-IN" sz="4000" spc="-1" strike="noStrike">
                <a:solidFill>
                  <a:srgbClr val="ffffff"/>
                </a:solidFill>
                <a:latin typeface="Verdana"/>
              </a:rPr>
              <a:t>โดยทำเป็นคำสั่งให้ใช้หนังสือประทับตร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5" name=""/>
          <p:cNvGraphicFramePr/>
          <p:nvPr/>
        </p:nvGraphicFramePr>
        <p:xfrm>
          <a:off x="4067280" y="404640"/>
          <a:ext cx="95724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04640"/>
                    <a:ext cx="95724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7" name=""/>
          <p:cNvSpPr/>
          <p:nvPr/>
        </p:nvSpPr>
        <p:spPr>
          <a:xfrm>
            <a:off x="1619280" y="1274760"/>
            <a:ext cx="4316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ถึง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835280" y="1413000"/>
            <a:ext cx="468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ชื่อส่วนราชการ หน่วยงาน หรือชื่อบุคคล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3"/>
          <a:stretch/>
        </p:blipFill>
        <p:spPr>
          <a:xfrm rot="205800">
            <a:off x="4857480" y="3860280"/>
            <a:ext cx="1728720" cy="158760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/>
          <p:nvPr/>
        </p:nvSpPr>
        <p:spPr>
          <a:xfrm>
            <a:off x="4356000" y="4237200"/>
            <a:ext cx="288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ส่วนราชการเจ้าของหนังสื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706920" y="30240"/>
            <a:ext cx="172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ff0000"/>
                </a:solidFill>
                <a:latin typeface="Arial"/>
              </a:rPr>
              <a:t>ชั้นความลับ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95280" y="5230800"/>
            <a:ext cx="44640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ส่วนราชการเจ้าของเรื่อง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โทร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๐ ๒๒๘๒ ๒๖๙๔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โทรสาร ๐ ๒๒๘๒ ๗๘๙๖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619280" y="9828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ที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1692000" y="1484280"/>
            <a:ext cx="58323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ข้อความ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332000" y="620640"/>
            <a:ext cx="180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ff0000"/>
                </a:solidFill>
                <a:latin typeface="Arial"/>
              </a:rPr>
              <a:t>ชั้นความเร็ว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572000" y="4670280"/>
            <a:ext cx="27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66"/>
                </a:solidFill>
                <a:latin typeface="Arial"/>
              </a:rPr>
              <a:t>๒ มกราคม ๒๕๕๑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490920" y="6324480"/>
            <a:ext cx="223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ff0000"/>
                </a:solidFill>
                <a:latin typeface="Arial"/>
              </a:rPr>
              <a:t>ชั้นความลับ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867280" y="502920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3333ff"/>
                </a:solidFill>
                <a:latin typeface="Arial"/>
              </a:rPr>
              <a:t>กฤตย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651000" y="333360"/>
            <a:ext cx="1895400" cy="70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แบบที่ 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084720" y="379080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3333ff"/>
                </a:solidFill>
                <a:latin typeface="Arial"/>
              </a:rPr>
              <a:t>กฤตย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219640" y="443880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3333ff"/>
                </a:solidFill>
                <a:latin typeface="Arial"/>
              </a:rPr>
              <a:t>กฤตย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2448000" cy="934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3300"/>
                </a:solidFill>
                <a:latin typeface="Arial"/>
              </a:rPr>
              <a:t>ข้อยกเว้น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37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ffffff"/>
                </a:solidFill>
                <a:latin typeface="Angsana New"/>
              </a:rPr>
              <a:t>๑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.  </a:t>
            </a:r>
            <a:r>
              <a:rPr b="1" lang="hi-IN" sz="5400" spc="-1" strike="noStrike">
                <a:solidFill>
                  <a:srgbClr val="ffffff"/>
                </a:solidFill>
                <a:latin typeface="Angsana New"/>
              </a:rPr>
              <a:t>มีความจำเป็นจะต้องปฏิบัติงานสารบรร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5400" spc="-1" strike="noStrike">
                <a:solidFill>
                  <a:srgbClr val="ffffff"/>
                </a:solidFill>
                <a:latin typeface="Angsana New"/>
              </a:rPr>
              <a:t>นอกเหนือไปจากที่กำหนดไว้ในระเบียบฯ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5400" spc="-1" strike="noStrike">
                <a:solidFill>
                  <a:srgbClr val="ffffff"/>
                </a:solidFill>
                <a:latin typeface="Angsana New"/>
              </a:rPr>
              <a:t>ให้ขอทำความตกลงกับผู้รักษาการ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"/>
          <p:cNvSpPr/>
          <p:nvPr/>
        </p:nvSpPr>
        <p:spPr>
          <a:xfrm>
            <a:off x="4172760" y="4583160"/>
            <a:ext cx="5618520" cy="152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ผู้รักษา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ปลัดสำนักนายกรัฐมนตร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276720" y="5159520"/>
            <a:ext cx="1726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42560" y="4583160"/>
            <a:ext cx="3536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ส่วนราช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532720" cy="5662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ให้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เจ้าหน้าที่ของหน่วยงานสารบรรณกลา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ปฏิบัติดังนี้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๑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จัดลำดับความสำคัญและความเร่งด่วน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ของหนังสือ  เพื่อดำเนินการก่อนหลั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แต่ถ้าเป็นหนังสือที่มี </a:t>
            </a:r>
            <a:r>
              <a:rPr b="1" lang="th-TH" sz="4400" spc="-1" strike="noStrike">
                <a:solidFill>
                  <a:srgbClr val="ff6600"/>
                </a:solidFill>
                <a:latin typeface="Angsana New"/>
              </a:rPr>
              <a:t>ชั้นความลับ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ให้แยกออก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ปฏิบัติตามระเบียบว่าด้วยการรักษาความลับ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ของทางราชการ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3" name=""/>
          <p:cNvSpPr/>
          <p:nvPr/>
        </p:nvSpPr>
        <p:spPr>
          <a:xfrm>
            <a:off x="3492360" y="260280"/>
            <a:ext cx="28083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การรับหนังสื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68000" y="404280"/>
            <a:ext cx="6443640" cy="60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เปิดซองตรวจเอกสาร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หากไม่ถูกต้อ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gsana New"/>
              </a:rPr>
              <a:t>        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ให้ติดต่อส่วนราชการเจ้าของเรื่อ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หรือหน่วยงานที่ออกหนังสื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เพื่อดำเนินการให้ถูกต้อง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หรือบันทึกข้อบกพร่องไว้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เป็นหลักฐาน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แล้วจึงดำเนินการเรื่องนั้นต่อไป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394920" y="2684520"/>
            <a:ext cx="8497800" cy="22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Verdana"/>
              </a:rPr>
              <a:t>๓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hi-IN" sz="5400" spc="-1" strike="noStrike">
                <a:solidFill>
                  <a:srgbClr val="000000"/>
                </a:solidFill>
                <a:latin typeface="Verdana"/>
              </a:rPr>
              <a:t>ประทับตรารับหนังสือ ตามแบบที่ ๑๒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Verdana"/>
              </a:rPr>
              <a:t>ที่มุมบนด้านขวาของหนังสื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06" name=""/>
          <p:cNvGraphicFramePr/>
          <p:nvPr/>
        </p:nvGraphicFramePr>
        <p:xfrm>
          <a:off x="5364000" y="404640"/>
          <a:ext cx="3384720" cy="21020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39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ื่อส่วนราชการ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ลขรับ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วันที่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วลา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ru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219280" y="692280"/>
            <a:ext cx="3924360" cy="792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วันที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เดือ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......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..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4920" y="1484280"/>
            <a:ext cx="1152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เลขทะเบียนรั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116000" y="168588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63640" y="162864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ลงวัน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060880" y="1697040"/>
            <a:ext cx="10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เรื่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804000" y="169704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การปฏิบัต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956720" y="1685880"/>
            <a:ext cx="13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หมายเหต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907920"/>
            <a:ext cx="251928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ทะเบียนหนังสือรั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Tahoma"/>
              </a:rPr>
              <a:t>๔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hi-IN" sz="4000" spc="-1" strike="noStrike">
                <a:solidFill>
                  <a:srgbClr val="000000"/>
                </a:solidFill>
                <a:latin typeface="Tahoma"/>
              </a:rPr>
              <a:t>ลงทะเบียนในทะเบียนหนังสือรับ            แบบที่ ๑๓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6" name=""/>
          <p:cNvGraphicFramePr/>
          <p:nvPr/>
        </p:nvGraphicFramePr>
        <p:xfrm>
          <a:off x="0" y="1413000"/>
          <a:ext cx="9144000" cy="5402160"/>
        </p:xfrm>
        <a:graphic>
          <a:graphicData uri="http://schemas.openxmlformats.org/drawingml/2006/table">
            <a:tbl>
              <a:tblPr/>
              <a:tblGrid>
                <a:gridCol w="1042920"/>
                <a:gridCol w="720720"/>
                <a:gridCol w="1079640"/>
                <a:gridCol w="720720"/>
                <a:gridCol w="792000"/>
                <a:gridCol w="2521080"/>
                <a:gridCol w="1224000"/>
                <a:gridCol w="1042920"/>
              </a:tblGrid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7" name=""/>
          <p:cNvSpPr/>
          <p:nvPr/>
        </p:nvSpPr>
        <p:spPr>
          <a:xfrm>
            <a:off x="2801520" y="1628640"/>
            <a:ext cx="8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จา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706920" y="162864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ถึ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700360" y="404280"/>
            <a:ext cx="3672000" cy="11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เลขทะเบียนรับ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345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Verdana"/>
              </a:rPr>
              <a:t>๏ ให้ลงเลขลำดับของทะเบียนหนังสือรับ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6000" spc="-1" strike="noStrike">
                <a:solidFill>
                  <a:srgbClr val="ffffff"/>
                </a:solidFill>
                <a:latin typeface="Verdana"/>
              </a:rPr>
              <a:t>เรียงลำดับติดต่อกันไปตลอด</a:t>
            </a:r>
            <a:r>
              <a:rPr b="1" lang="hi-IN" sz="6000" spc="-1" strike="noStrike">
                <a:solidFill>
                  <a:srgbClr val="ffcc66"/>
                </a:solidFill>
                <a:latin typeface="Verdana"/>
              </a:rPr>
              <a:t>ปีปฏิทิน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Verdana"/>
              </a:rPr>
              <a:t>๏ จะต้องตรงกับเลขที่ในตรารับหนังสือ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064360" cy="511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๕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จัดแยกหนังสือที่ลงทะเบียนรับแล้วส่งให้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ส่วนราชการที่เกี่ยวข้องดำเนินการ โดยให้ลงชื่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หน่วยงานที่รับหนังสือนั้นในช่อง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i="1" lang="hi-IN" sz="4800" spc="-1" strike="noStrike">
                <a:solidFill>
                  <a:srgbClr val="ff6600"/>
                </a:solidFill>
                <a:latin typeface="Angsana New"/>
              </a:rPr>
              <a:t>การปฏิบัติ</a:t>
            </a:r>
            <a:r>
              <a:rPr b="1" lang="en-US" sz="4800" spc="-1" strike="noStrike">
                <a:solidFill>
                  <a:srgbClr val="ff6600"/>
                </a:solidFill>
                <a:latin typeface="Angsana New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ถ้ามีชื่อบุคคลหรือตำแหน่งที่เกี่ยวข้อ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กับการรับหนังสือ ให้ลงชื่อหรือตำแหน่งไว้ด้วย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826560" y="982800"/>
            <a:ext cx="7705800" cy="5040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การส่งหนังสือที่ลงทะเบียนรับแล้วไปให้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ส่วนราชการที่เกี่ยวข้องดำเนินการ จะส่งโดยใช้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สมุดส่งหนังสือ หรือให้ผู้รับหนังสือลงชื่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และวัน เดือน ปีที่รับหนังสือไว้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เป็นหลักฐานในทะเบียนรับหนังสือก็ได้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4178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hi-IN" sz="4200" spc="-1" strike="noStrike">
                <a:solidFill>
                  <a:srgbClr val="ffffff"/>
                </a:solidFill>
                <a:latin typeface="Angsana New"/>
              </a:rPr>
              <a:t>การดำเนินการตามขั้นนี้ จะเสนอผ่านผู้บังคับบัญชา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ffffff"/>
                </a:solidFill>
                <a:latin typeface="Angsana New"/>
              </a:rPr>
              <a:t>ผู้ใดหรือไม่   ให้เป็นไปตามที่หัวหน้าส่วนราชการกำหนด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hi-IN" sz="4200" spc="-1" strike="noStrike">
                <a:solidFill>
                  <a:srgbClr val="ffffff"/>
                </a:solidFill>
                <a:latin typeface="Angsana New"/>
              </a:rPr>
              <a:t>ถ้าหนังสือรับนั้นจะต้องดำเนินเรื่องในหน่วยงานนั้นเอง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ffffff"/>
                </a:solidFill>
                <a:latin typeface="Angsana New"/>
              </a:rPr>
              <a:t>จนถึงขั้นได้ตอบหนังสือไปแล้ว ให้ลงทะเบียนว่าได้ส่งออกไป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ffffff"/>
                </a:solidFill>
                <a:latin typeface="Angsana New"/>
              </a:rPr>
              <a:t>โดยหนังสือที่เท่าใด  วัน  เดือน ปีใด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4681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การรับหนังสือภายในส่วนราชการเดียวกัน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เมื่อผู้รับได้รับหนังสือจากหน่วยงานสารบรรณกลา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แล้วให้ปฏิบัติตามวิธีการที่กล่าวข้างต้นโดยอนุโล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395280" y="1990800"/>
            <a:ext cx="8244000" cy="367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             </a:t>
            </a: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ให้เจ้าของเรื่องตรวจความเรียบร้อย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ของหนังสือ และสิ่งที่จะส่งไปด้วยให้ครบถ้วนแล้ว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ส่งเรื่องให้เจ้าหน้าที่ของหน่วยงานสารบรรณกลา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ngsana New"/>
              </a:rPr>
              <a:t>เพื่อส่งออ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6" name=""/>
          <p:cNvSpPr/>
          <p:nvPr/>
        </p:nvSpPr>
        <p:spPr>
          <a:xfrm>
            <a:off x="2459880" y="692280"/>
            <a:ext cx="4149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การส่งหนังสือ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0" y="1917720"/>
            <a:ext cx="9144000" cy="26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๒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มีกฎหมาย  หรือ ระเบียบว่าด้วยการรักษ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ความปลอดภัยแห่งชาติ  หรือ </a:t>
            </a:r>
            <a:r>
              <a:rPr b="1" lang="hi-IN" sz="4800" spc="-1" strike="noStrike">
                <a:solidFill>
                  <a:srgbClr val="ff0000"/>
                </a:solidFill>
                <a:latin typeface="Angsana New"/>
              </a:rPr>
              <a:t>ระเบียบว่าด้วยกา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ngsana New"/>
              </a:rPr>
              <a:t>       </a:t>
            </a:r>
            <a:r>
              <a:rPr b="1" lang="hi-IN" sz="4800" spc="-1" strike="noStrike">
                <a:solidFill>
                  <a:srgbClr val="ff0000"/>
                </a:solidFill>
                <a:latin typeface="Angsana New"/>
              </a:rPr>
              <a:t>รักษาความลับของทางราชการ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กำหนดเป็นอย่างอื่น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323640" y="1700280"/>
            <a:ext cx="8530920" cy="4176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ให้</a:t>
            </a:r>
            <a:r>
              <a:rPr b="1" lang="hi-IN" sz="4800" spc="-1" strike="noStrike">
                <a:solidFill>
                  <a:srgbClr val="ffff00"/>
                </a:solidFill>
                <a:latin typeface="Verdana"/>
              </a:rPr>
              <a:t>เจ้าหน้าที่สารบรรณกลาง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ดำเนินการ ดังนี้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ลงทะเบียนส่งหนังสือในทะเบียนหนังสือส่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ตามแบบที่ ๑๔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916360" y="547200"/>
            <a:ext cx="3528720" cy="11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เลขทะเบียนส่ง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686800" cy="2378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6000" spc="-1" strike="noStrike">
                <a:solidFill>
                  <a:srgbClr val="ffffff"/>
                </a:solidFill>
                <a:latin typeface="Verdana"/>
              </a:rPr>
              <a:t>ให้ลงเลขลำดับของทะเบียนหนังสือส่ง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246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6000" spc="-1" strike="noStrike">
                <a:solidFill>
                  <a:srgbClr val="ffffff"/>
                </a:solidFill>
                <a:latin typeface="Verdana"/>
              </a:rPr>
              <a:t>เรียงลำดับติดต่อกันไปตลอด</a:t>
            </a:r>
            <a:r>
              <a:rPr b="1" lang="hi-IN" sz="6000" spc="-1" strike="noStrike">
                <a:solidFill>
                  <a:srgbClr val="ffcc66"/>
                </a:solidFill>
                <a:latin typeface="Verdana"/>
              </a:rPr>
              <a:t>ปีปฏิทิน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0" name=""/>
          <p:cNvSpPr/>
          <p:nvPr/>
        </p:nvSpPr>
        <p:spPr>
          <a:xfrm>
            <a:off x="2084400" y="4292640"/>
            <a:ext cx="505764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</a:rPr>
              <a:t>ที่ นร ๐๑๐๖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7200" spc="-1" strike="noStrike">
                <a:solidFill>
                  <a:srgbClr val="ffffff"/>
                </a:solidFill>
                <a:latin typeface="Arial"/>
              </a:rPr>
              <a:t>๑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893080" cy="446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ลงเลขที่ และวัน เดือน ป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ในหนังสือที่จะส่งออก ทั้งในต้นฉบับ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และสำเนาคู่ฉบับ ให้ตรงกับเลขทะเบียน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หนังสือส่ง และวัน เดือน ปีในทะเบียนหนังสือส่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0" y="1699920"/>
            <a:ext cx="8531280" cy="41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๓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ตรวจความเรียบร้อยของหนังสือ ตลอดจน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สิ่งที่ส่งไปด้วยอีกครั้งหนึ่ง แล้วปิดผนึก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หนังสือที่ไม่มีความสำคัญมากนัก อาจส่งไปโดย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วิธีพับยึดติดด้วยแถบกาว กาว เย็บด้วยลวด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หรือวิธีอื่นแทนการบรรจุซอ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323640" y="1917360"/>
            <a:ext cx="8530920" cy="4249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๔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จัดส่งหนังสือโดยส่งทางไปรษณีย์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ให้ถือปฏิบัติตามระเบียบหรือวิธีการที่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การสื่อสารแห่งประเทศไทยกำหนด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4358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การส่งหนังสือซึ่งมิใช่การส่งโดยทางไปรษณีย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3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๏ ผู้ส่งต้องให้ผู้รับลงชื่อในสมุดส่งหนังสื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หรือใบรับ แล้วแต่กรณ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๏ ถ้าเป็นใบรับให้นำใบรับนั้น มาติดผนึ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ไว้ที่สำเนาคู่ฉบับ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771280" y="982440"/>
            <a:ext cx="3961080" cy="10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การเก็บหนังสือ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971640" y="2491920"/>
            <a:ext cx="7704000" cy="3457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๑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เก็บระหว่างปฏิบัติ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๒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เก็บเมื่อปฏิบัติเสร็จแล้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๓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เก็บไว้เพื่อใช้ในการตรวจสอบ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979640" y="982800"/>
            <a:ext cx="4968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การเก็บระหว่างปฏิบัติ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-36720" y="2206440"/>
            <a:ext cx="9180360" cy="41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การเก็บหนังสือที่ปฏิบัติยังไม่เสร็จ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ให้อยู่ในความรับผิดชอบของเจ้าของเรื่อง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โดยให้กำหนดวิธีเก็บให้เหมาะสมตามขั้นตอน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5400" spc="-1" strike="noStrike">
                <a:solidFill>
                  <a:srgbClr val="ffffff"/>
                </a:solidFill>
                <a:latin typeface="Verdana"/>
              </a:rPr>
              <a:t>การปฏิบัติงาน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69780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การเก็บเมื่อปฏิบัติเสร็จแล้ว</a:t>
            </a:r>
            <a:br>
              <a:rPr sz="5400"/>
            </a:br>
            <a:r>
              <a:rPr b="1" lang="hi-IN" sz="5400" spc="-1" strike="noStrike">
                <a:solidFill>
                  <a:srgbClr val="000000"/>
                </a:solidFill>
                <a:latin typeface="Arial"/>
              </a:rPr>
              <a:t>และไม่มีอะไรต้องปฏิบัติต่อไปอีก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0" y="2351160"/>
            <a:ext cx="9144000" cy="612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ให้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เจ้าหน้าที่เจ้าของเรื่อง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ปฏิบัติ ดังนี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จัดทำบัญชีหนังสือส่งเก็บตามแบบที่ ๑๙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อย่างน้อยให้มีต้นฉบับ และสำเนาคู่ฉบับ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ำหรับเจ้าของเรื่อง และหน่วยเก็บ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เก็บไว้อย่างละฉบั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0" y="1700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ส่งหนังสือและเรื่องปฏิบัติทั้งปวงที่เกี่ยวข้อ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ับหนังสือนั้น  พร้อมทั้งบัญชีหนังสือส่งเก็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ไปให้หน่วยเก็บที่ส่วนราชการนั้น ๆ กำหน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0" y="476280"/>
            <a:ext cx="9001080" cy="10513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rowallia New"/>
                <a:ea typeface="Browallia New"/>
              </a:rPr>
              <a:t>                 </a:t>
            </a:r>
            <a:r>
              <a:rPr b="1" lang="en-US" sz="5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ชั้นความลับของเอกส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) </a:t>
            </a:r>
            <a:r>
              <a:rPr b="1" lang="en-US" sz="4800" spc="-1" strike="noStrike">
                <a:solidFill>
                  <a:srgbClr val="ff3300"/>
                </a:solidFill>
                <a:latin typeface="Browallia New"/>
                <a:cs typeface="Browallia New"/>
              </a:rPr>
              <a:t>ลับที่สุด </a:t>
            </a:r>
            <a:r>
              <a:rPr b="1" lang="en-US" sz="4800" spc="-1" strike="noStrike">
                <a:solidFill>
                  <a:srgbClr val="ff3300"/>
                </a:solidFill>
                <a:latin typeface="Browallia New"/>
                <a:ea typeface="Browallia New"/>
              </a:rPr>
              <a:t>(Top Secret)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ปิดเผยทั้งหมด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งส่วนจะเสียหายต่อรัฐร้ายแรงที่สุ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2) </a:t>
            </a:r>
            <a:r>
              <a:rPr b="1" lang="en-US" sz="4800" spc="-1" strike="noStrike">
                <a:solidFill>
                  <a:srgbClr val="ff3300"/>
                </a:solidFill>
                <a:latin typeface="Browallia New"/>
                <a:cs typeface="Browallia New"/>
              </a:rPr>
              <a:t>ลับมาก </a:t>
            </a:r>
            <a:r>
              <a:rPr b="1" lang="en-US" sz="4800" spc="-1" strike="noStrike">
                <a:solidFill>
                  <a:srgbClr val="ff3300"/>
                </a:solidFill>
                <a:latin typeface="Browallia New"/>
                <a:ea typeface="Browallia New"/>
              </a:rPr>
              <a:t>(Secret)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ปิดเผยทั้งหมด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งส่วนจะเสียหายต่อรัฐร้ายแร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3) </a:t>
            </a:r>
            <a:r>
              <a:rPr b="1" lang="en-US" sz="4800" spc="-1" strike="noStrike">
                <a:solidFill>
                  <a:srgbClr val="ff3300"/>
                </a:solidFill>
                <a:latin typeface="Browallia New"/>
                <a:cs typeface="Browallia New"/>
              </a:rPr>
              <a:t>ลับ </a:t>
            </a:r>
            <a:r>
              <a:rPr b="1" lang="en-US" sz="4800" spc="-1" strike="noStrike">
                <a:solidFill>
                  <a:srgbClr val="ff3300"/>
                </a:solidFill>
                <a:latin typeface="Browallia New"/>
                <a:ea typeface="Browallia New"/>
              </a:rPr>
              <a:t>(Confidential)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ปิดเผยทั้งหมด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งส่วนจะเสียหายต่อรั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2800" indent="-332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rowallia New"/>
                <a:ea typeface="Browallia New"/>
              </a:rPr>
              <a:t>     </a:t>
            </a:r>
            <a:r>
              <a:rPr b="1" lang="en-US" sz="4800" spc="-1" strike="noStrike">
                <a:solidFill>
                  <a:srgbClr val="800000"/>
                </a:solidFill>
                <a:latin typeface="Browallia New"/>
                <a:ea typeface="Browallia New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0" y="1052640"/>
            <a:ext cx="9144000" cy="667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ให้</a:t>
            </a:r>
            <a:r>
              <a:rPr b="1" lang="th-TH" sz="4800" spc="-1" strike="noStrike">
                <a:solidFill>
                  <a:srgbClr val="ffff00"/>
                </a:solidFill>
                <a:latin typeface="Arial"/>
              </a:rPr>
              <a:t>เจ้าหน้าที่ผู้รับผิดชอบในการเก็บ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ปฏิบัติ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ดังนี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๑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ประทับตรากำหนดเก็บหนังสื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ไว้ที่มุมล่างด้านขวาของกระดาษแผ่นแร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ของหนังสือฉบับนั้น และลงลายมือชื่อย่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ำกับตร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4" name=""/>
          <p:cNvGraphicFramePr/>
          <p:nvPr/>
        </p:nvGraphicFramePr>
        <p:xfrm>
          <a:off x="4067280" y="0"/>
          <a:ext cx="507672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0"/>
                    <a:ext cx="5076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6" name=""/>
          <p:cNvSpPr/>
          <p:nvPr/>
        </p:nvSpPr>
        <p:spPr>
          <a:xfrm>
            <a:off x="5003640" y="6022800"/>
            <a:ext cx="2016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093080" y="595152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ห้ามทำล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24000" y="1558800"/>
            <a:ext cx="3492360" cy="43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หนังสือที่เก็บไว้ตลอดไ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ให้ประทับตราคำว่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4000" spc="-1" strike="noStrike">
                <a:solidFill>
                  <a:srgbClr val="ff0000"/>
                </a:solidFill>
                <a:latin typeface="Arial"/>
              </a:rPr>
              <a:t>ห้ามทำลาย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ด้วยหมึกสีแด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651640" y="6454800"/>
            <a:ext cx="1296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0" name=""/>
          <p:cNvGraphicFramePr/>
          <p:nvPr/>
        </p:nvGraphicFramePr>
        <p:xfrm>
          <a:off x="4067280" y="0"/>
          <a:ext cx="507672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0"/>
                    <a:ext cx="50767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6012000" y="587700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</a:rPr>
              <a:t>เก็บถึง พ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hi-IN" sz="4000" spc="-1" strike="noStrike">
                <a:solidFill>
                  <a:srgbClr val="000099"/>
                </a:solidFill>
                <a:latin typeface="Arial"/>
              </a:rPr>
              <a:t>ศ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775640" y="587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66"/>
                </a:solidFill>
                <a:latin typeface="Arial"/>
              </a:rPr>
              <a:t>๒๕๕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1197000"/>
            <a:ext cx="3673440" cy="679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หนังสือที่เก็บโดยม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ำหนดเวล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ให้ประทับตราคำว่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rial"/>
              </a:rPr>
              <a:t>เก็บถึง พ</a:t>
            </a:r>
            <a:r>
              <a:rPr b="1" lang="th-TH" sz="40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th-TH" sz="4000" spc="-1" strike="noStrike">
                <a:solidFill>
                  <a:srgbClr val="0000ff"/>
                </a:solidFill>
                <a:latin typeface="Arial"/>
              </a:rPr>
              <a:t>ศ</a:t>
            </a:r>
            <a:r>
              <a:rPr b="1" lang="th-TH" sz="4000" spc="-1" strike="noStrike">
                <a:solidFill>
                  <a:srgbClr val="0000ff"/>
                </a:solidFill>
                <a:latin typeface="Arial"/>
              </a:rPr>
              <a:t>. 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ด้วยหมึกสีน้ำเงิน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และลงเลขปีพุทธศักรา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ที่ให้เก็บถึ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788000" y="6167520"/>
            <a:ext cx="1152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1280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66"/>
                </a:solidFill>
                <a:latin typeface="Arial"/>
              </a:rPr>
              <a:t>การเก็บไว้เพื่อใช้ในการตรวจสอบ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144000" cy="5330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การเก็บหนังสือที่ปฏิบัติเสร็จเรียบร้อยแล้ว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แต่จำเป็นจะต้องใช้ในการตรวจสอบเป็นประจำ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ไม่สะดวกจะส่งไปเก็บยังหน่วยเก็บของส่วนราชการ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ให้เจ้าของเรื่องเก็บไว้เป็นเอกเทศ โดยให้แต่งตั้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เจ้าหน้าที่รับผิดชอบก็ได้ เมื่อหมดความจำเป็นที่จ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ต้องใช้ตรวจสอบแล้ว ให้จัดส่งหนังสือไปยังหน่วยเก็บ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ของส่วนราชการนั้น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2340000" y="2998800"/>
            <a:ext cx="4464000" cy="4786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"/>
              </a:rPr>
              <a:t>โดยปกติให้เก็บไว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"/>
              </a:rPr>
              <a:t>ไม่น้อยกว่า ๑๐ ปี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ubTitle"/>
          </p:nvPr>
        </p:nvSpPr>
        <p:spPr>
          <a:xfrm>
            <a:off x="2123640" y="1413000"/>
            <a:ext cx="4824360" cy="11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hi-IN" sz="6600" spc="-1" strike="noStrike">
                <a:solidFill>
                  <a:srgbClr val="000000"/>
                </a:solidFill>
                <a:latin typeface="Verdana"/>
              </a:rPr>
              <a:t>อายุการเก็บหนังสือ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0" name=""/>
          <p:cNvSpPr/>
          <p:nvPr/>
        </p:nvSpPr>
        <p:spPr>
          <a:xfrm>
            <a:off x="1023840" y="4038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0" y="1917720"/>
            <a:ext cx="9180360" cy="624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หนังสือที่ต้องสงวนไว้เป็นความลับ ให้ปฏิบัติตามกฎหม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หรือระเบียบว่าด้วยการรักษาความลับของทางราช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๒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หนังสือที่เป็นหลักฐานทางอรรถคดี สำนวนของศาล หรื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ของพนักงานสอบสวน หรือหนังสืออื่นใดที่มีกฎหมาย หรือระเบียบแบบแผนกำหนดไว้พิเศษแล้ว การเก็บให้เป็นไปตามกฎหมายหรือระเบียบว่าด้วยการนั้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3132000" y="836280"/>
            <a:ext cx="2952720" cy="86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3" name=""/>
          <p:cNvSpPr/>
          <p:nvPr/>
        </p:nvSpPr>
        <p:spPr>
          <a:xfrm>
            <a:off x="3071160" y="1052640"/>
            <a:ext cx="2577960" cy="751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rial"/>
              </a:rPr>
              <a:t>ข้อยกเว้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547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๓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.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หนังสือที่มีคุณค่าทางประวัติศาสตร์ทุกสาขาวิช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และมีคุณค่าต่อการศึกษาค้นคว้า วิจัย ให้เก็บไว้เป็นหลักฐานสำคั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ทางประวัติศาสตร์ของชาติตลอดไป หรือตามที่สำนักหอจดหมาย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เหตุแห่งชาติกำหน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๔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.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หนังสือที่ปฏิบัติงานเสร็จสิ้นแล้ว และเป็นคู่สำเนาที่มีต้นเรื่อ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จะค้นได้จากที่อื่น ให้เก็บไว้ไม่น้อยกว่า ๕ ป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๕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หนังสือที่เป็นเรื่องธรรมดาสามัญซึ่งไม่มีความสำคั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และเป็นเรื่องที่เกิดขึ้นเป็นประจำ เมื่อดำเนินการแล้วเสร็จให้เก็บไว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ไม่น้อยกว่า ๑ ป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539280" y="766800"/>
            <a:ext cx="8280360" cy="540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๖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เป็นหนังสือหรือเอกสารการรับเงิน การจ่ายเงินหรือการก่อหนี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ผูกพันทางการเงินที่ไม่เป็นหลักฐานแห่งการ ก่อ เปลี่ยนแปลง โอน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สงวน หรือระงับซึ่งสิทธิในทางการเงิน รวมถึงหนังสือหรือเอกสาร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เกี่ยวกับการเงิน การจ่ายเงินหรือการก่อหนี้ผูกพันทางการเงิน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ที่หมดความจำเป็นในการใช้  เป็นหลักฐานแห่งการก่อ เปลี่ยนแปลง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โอน สงวน หรือระงับซึ่งสิทธิในทางการเงิน เพราะได้มีหนังสื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รือเอกสารอื่นที่สามารถนำมาใช้อ้างอิงหรือทดแทนหนังสือหรื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เอกสารดังกล่าวแล้ว   </a:t>
            </a:r>
            <a:r>
              <a:rPr b="1" lang="hi-IN" sz="3200" spc="-1" strike="noStrike">
                <a:solidFill>
                  <a:srgbClr val="ffcc66"/>
                </a:solidFill>
                <a:latin typeface="Verdana"/>
              </a:rPr>
              <a:t>เมื่อสำนักงานตรวจเงินแผ่นดินตรวจแล้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66"/>
                </a:solidFill>
                <a:latin typeface="Verdana"/>
              </a:rPr>
              <a:t>ไม่มีปัญห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และไม่มีความจำเป็นต้องใช้ประกอบการตรวจสอ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หรือเพื่อการใด ๆ อีก ให้เก็บรักษาอย่างน้อยกว่า ๕ ป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250920" y="1213920"/>
            <a:ext cx="8532720" cy="5645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ให้เจ้าหน้าที่ระมัดระวังรักษาหนังสือให้อยู่ใน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สภาพใช้ราชการได้ทุกโอกาส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หากชำรุดเสียหาย  ต้องรีบซ่อมให้ใช้ราชการได้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เหมือนเดิม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ถ้าชำรุดเสียหายจนไม่สามารถซ่อมแซมได้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ให้รายงานผู้บังคับบัญชาทราบ และให้หมายเหต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hi-IN" sz="4400" spc="-1" strike="noStrike">
                <a:solidFill>
                  <a:srgbClr val="ffffff"/>
                </a:solidFill>
                <a:latin typeface="Verdana"/>
              </a:rPr>
              <a:t>ไว้ในทะเบียนเก็บด้วย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"/>
          <p:cNvSpPr/>
          <p:nvPr/>
        </p:nvSpPr>
        <p:spPr>
          <a:xfrm>
            <a:off x="2916360" y="260280"/>
            <a:ext cx="352728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การรักษาหนังสื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374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4600" spc="-1" strike="noStrike">
                <a:solidFill>
                  <a:srgbClr val="ffffff"/>
                </a:solidFill>
                <a:latin typeface="Verdana"/>
              </a:rPr>
              <a:t>หากสูญหาย ต้องหาสำเนามาแทน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ffffff"/>
                </a:solidFill>
                <a:latin typeface="Verdana"/>
                <a:cs typeface="Browallia New"/>
              </a:rPr>
              <a:t>๏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ถ้าหนังสือที่สูญหายเป็นเอกสารสิทธิตามกฎหมาย  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หรือหนังสือสำคัญที่เป็นการแสดงเอกสารสิทธิ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4800" spc="-1" strike="noStrike">
                <a:solidFill>
                  <a:srgbClr val="ffffff"/>
                </a:solidFill>
                <a:latin typeface="Verdana"/>
              </a:rPr>
              <a:t>ก็ให้แจ้งความต่อพนักงานสอบสวน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2:31:14Z</dcterms:created>
  <dc:creator>sp</dc:creator>
  <dc:description/>
  <dc:language>en-US</dc:language>
  <cp:lastModifiedBy>TrueFasterUser</cp:lastModifiedBy>
  <dcterms:modified xsi:type="dcterms:W3CDTF">2009-11-30T03:57:47Z</dcterms:modified>
  <cp:revision>731</cp:revision>
  <dc:subject/>
  <dc:title>ข้อยกเว้น</dc:title>
</cp:coreProperties>
</file>