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D854-C623-490E-8F67-3440BA8EE864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2913-A698-4040-AD96-0CE280F587C6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6938-B9EC-4958-BFF8-EFCE9C287640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DF69-DE04-4FE4-884B-642AE08BA73E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7163-5A50-4674-957A-DF98C671F204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7A27-FE51-44F3-82BA-7D051F8CAD19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D04C-C488-4770-83F8-5FB11D5C903E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031-BCE2-4716-8E8F-5708E5B0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41EC-17F2-49DD-8E2E-D6C97895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26DE-2B4E-492F-9524-B4A467FD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DCF-AD11-4B69-BE1C-D6A6B76D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7F7B-3446-4700-B21A-D6DFCEBB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159-4F48-4099-A20F-3932CF1D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78C8-570E-414B-B440-A29BC212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492E-1736-4877-B5E7-BA22D30A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3A8-9040-4014-9EDB-7964C139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54D-4A55-44DA-9FE1-098285D0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A94-B572-4F0E-97D0-F47DD343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05B-FDC5-4DA0-BA8B-CDE1F3CB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D596-A6D3-4049-BC34-DC45CFB4C3A7}" type="slidenum"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19000"/>
            </a:blip>
            <a:stretch/>
          </a:blipFill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5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660033"/>
                </a:solidFill>
                <a:latin typeface="Angsana New"/>
                <a:ea typeface="Angsana New"/>
              </a:rPr>
              <a:t>                                    </a:t>
            </a:r>
            <a:r>
              <a:rPr b="1" lang="th-TH" sz="5400" spc="-1" strike="noStrike">
                <a:solidFill>
                  <a:srgbClr val="660033"/>
                </a:solidFill>
                <a:latin typeface="Angsana New"/>
                <a:cs typeface="LilyUPC"/>
              </a:rPr>
              <a:t>โครงการอบรม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99"/>
                </a:solidFill>
                <a:latin typeface="Angsana New"/>
                <a:ea typeface="LilyUPC"/>
              </a:rPr>
              <a:t>            </a:t>
            </a:r>
            <a:r>
              <a:rPr b="1" lang="th-TH" sz="4400" spc="-1" strike="noStrike">
                <a:solidFill>
                  <a:srgbClr val="000099"/>
                </a:solidFill>
                <a:latin typeface="Angsana New"/>
                <a:cs typeface="LilyUPC"/>
              </a:rPr>
              <a:t>การจัดการความขัดแย้ง  จากการร้องเรียน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Angsana New"/>
                <a:ea typeface="LilyUPC"/>
              </a:rPr>
              <a:t>             </a:t>
            </a:r>
            <a:r>
              <a:rPr b="1" lang="th-TH" sz="4400" spc="-1" strike="noStrike">
                <a:solidFill>
                  <a:srgbClr val="000099"/>
                </a:solidFill>
                <a:latin typeface="Angsana New"/>
                <a:cs typeface="LilyUPC"/>
              </a:rPr>
              <a:t>การฟ้องร้อง ทางการแพทย์และสาธารณสุข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Angsana New"/>
                <a:ea typeface="LilyUPC"/>
              </a:rPr>
              <a:t>                                   </a:t>
            </a:r>
            <a:r>
              <a:rPr b="1" lang="th-TH" sz="4400" spc="-1" strike="noStrike">
                <a:solidFill>
                  <a:srgbClr val="000099"/>
                </a:solidFill>
                <a:latin typeface="Angsana New"/>
                <a:cs typeface="LilyUPC"/>
              </a:rPr>
              <a:t>และ  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Angsana New"/>
                <a:ea typeface="LilyUPC"/>
              </a:rPr>
              <a:t>        </a:t>
            </a:r>
            <a:r>
              <a:rPr b="1" lang="th-TH" sz="4400" spc="-1" strike="noStrike">
                <a:solidFill>
                  <a:srgbClr val="000099"/>
                </a:solidFill>
                <a:latin typeface="Angsana New"/>
                <a:cs typeface="LilyUPC"/>
              </a:rPr>
              <a:t>การไกล่เกลี่ยข้อพิพาทในสถานบริการสาธารณสุข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Angsana New"/>
                <a:ea typeface="LilyUPC"/>
              </a:rPr>
              <a:t>                            </a:t>
            </a:r>
            <a:r>
              <a:rPr b="1" lang="th-TH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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00ff"/>
                </a:solidFill>
                <a:latin typeface="JasmineUPC"/>
                <a:ea typeface="JasmineUPC"/>
              </a:rPr>
              <a:t>         </a:t>
            </a:r>
            <a:r>
              <a:rPr b="1" lang="th-TH" sz="3600" spc="-1" strike="noStrike">
                <a:solidFill>
                  <a:srgbClr val="ff00ff"/>
                </a:solidFill>
                <a:latin typeface="JasmineUPC"/>
                <a:cs typeface="JasmineUPC"/>
              </a:rPr>
              <a:t>วันที่ </a:t>
            </a:r>
            <a:r>
              <a:rPr b="1" lang="th-TH" sz="3600" spc="-1" strike="noStrike">
                <a:solidFill>
                  <a:srgbClr val="ff00ff"/>
                </a:solidFill>
                <a:latin typeface="JasmineUPC"/>
                <a:ea typeface="JasmineUPC"/>
              </a:rPr>
              <a:t>27-30</a:t>
            </a:r>
            <a:r>
              <a:rPr b="1" lang="th-TH" sz="3600" spc="-1" strike="noStrike">
                <a:solidFill>
                  <a:srgbClr val="ff00ff"/>
                </a:solidFill>
                <a:latin typeface="JasmineUPC"/>
                <a:cs typeface="JasmineUPC"/>
              </a:rPr>
              <a:t>มิถุนายน </a:t>
            </a:r>
            <a:r>
              <a:rPr b="1" lang="th-TH" sz="3600" spc="-1" strike="noStrike">
                <a:solidFill>
                  <a:srgbClr val="ff00ff"/>
                </a:solidFill>
                <a:latin typeface="JasmineUPC"/>
                <a:ea typeface="JasmineUPC"/>
              </a:rPr>
              <a:t>2553 </a:t>
            </a:r>
            <a:r>
              <a:rPr b="1" lang="th-TH" sz="3600" spc="-1" strike="noStrike">
                <a:solidFill>
                  <a:srgbClr val="ff00ff"/>
                </a:solidFill>
                <a:latin typeface="JasmineUPC"/>
                <a:cs typeface="JasmineUPC"/>
              </a:rPr>
              <a:t>เวลา </a:t>
            </a:r>
            <a:r>
              <a:rPr b="1" lang="th-TH" sz="3600" spc="-1" strike="noStrike">
                <a:solidFill>
                  <a:srgbClr val="ff00ff"/>
                </a:solidFill>
                <a:latin typeface="JasmineUPC"/>
                <a:ea typeface="JasmineUPC"/>
              </a:rPr>
              <a:t>09.30-16.30 </a:t>
            </a:r>
            <a:r>
              <a:rPr b="1" lang="th-TH" sz="3600" spc="-1" strike="noStrike">
                <a:solidFill>
                  <a:srgbClr val="ff00ff"/>
                </a:solidFill>
                <a:latin typeface="JasmineUPC"/>
                <a:cs typeface="JasmineUPC"/>
              </a:rPr>
              <a:t>น</a:t>
            </a:r>
            <a:r>
              <a:rPr b="1" lang="th-TH" sz="3600" spc="-1" strike="noStrike">
                <a:solidFill>
                  <a:srgbClr val="ff00ff"/>
                </a:solidFill>
                <a:latin typeface="JasmineUPC"/>
                <a:ea typeface="JasmineUP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6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00ff"/>
                </a:solidFill>
                <a:latin typeface="JasmineUPC"/>
                <a:ea typeface="JasmineUPC"/>
              </a:rPr>
              <a:t>         </a:t>
            </a:r>
            <a:r>
              <a:rPr b="1" lang="th-TH" sz="4000" spc="-1" strike="noStrike">
                <a:solidFill>
                  <a:srgbClr val="ff00ff"/>
                </a:solidFill>
                <a:latin typeface="JasmineUPC"/>
                <a:cs typeface="JasmineUPC"/>
              </a:rPr>
              <a:t>ณ โรงแรมกรุงศรีริเวอร์</a:t>
            </a:r>
            <a:r>
              <a:rPr b="1" lang="th-TH" sz="4400" spc="-1" strike="noStrike">
                <a:solidFill>
                  <a:srgbClr val="ff00ff"/>
                </a:solidFill>
                <a:latin typeface="JasmineUPC"/>
                <a:ea typeface="JasmineUPC"/>
              </a:rPr>
              <a:t>  </a:t>
            </a:r>
            <a:r>
              <a:rPr b="1" lang="th-TH" sz="4000" spc="-1" strike="noStrike">
                <a:solidFill>
                  <a:srgbClr val="ff00ff"/>
                </a:solidFill>
                <a:latin typeface="JasmineUPC"/>
                <a:cs typeface="JasmineUPC"/>
              </a:rPr>
              <a:t>จ</a:t>
            </a:r>
            <a:r>
              <a:rPr b="1" lang="th-TH" sz="4000" spc="-1" strike="noStrike">
                <a:solidFill>
                  <a:srgbClr val="ff00ff"/>
                </a:solidFill>
                <a:latin typeface="JasmineUPC"/>
                <a:ea typeface="JasmineUPC"/>
              </a:rPr>
              <a:t>.</a:t>
            </a:r>
            <a:r>
              <a:rPr b="1" lang="th-TH" sz="4000" spc="-1" strike="noStrike">
                <a:solidFill>
                  <a:srgbClr val="ff00ff"/>
                </a:solidFill>
                <a:latin typeface="JasmineUPC"/>
                <a:cs typeface="JasmineUPC"/>
              </a:rPr>
              <a:t>พระนครศรีอยุธยา</a:t>
            </a:r>
            <a:r>
              <a:rPr b="1" lang="th-TH" sz="4400" spc="-1" strike="noStrike">
                <a:solidFill>
                  <a:srgbClr val="ff00ff"/>
                </a:solidFill>
                <a:latin typeface="JasmineUPC"/>
                <a:ea typeface="JasmineUP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81280" y="539640"/>
            <a:ext cx="2819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38160">
            <a:solidFill>
              <a:srgbClr val="3333cc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Times New Roman"/>
                <a:ea typeface="KodchiangUP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imes New Roman"/>
                <a:ea typeface="KodchiangUPC"/>
              </a:rPr>
              <a:t>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2.1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มีวัตถุประสงค์เพื่อประโยชน์สาธารณะ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2.2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ไม่มีความเสมอภาค คือหน่วยงาน หรือ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เจ้าหน้าที่ของรัฐมีอำนาจมากกว่าเอกช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258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2.3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มีการจำกัดอำนาจเจ้าหน้าที่ของรัฐ คือ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258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</a:t>
            </a:r>
            <a:r>
              <a:rPr b="1" lang="th-TH" sz="2800" spc="-1" strike="noStrike">
                <a:solidFill>
                  <a:srgbClr val="000000"/>
                </a:solidFill>
                <a:latin typeface="Webdings"/>
                <a:ea typeface="Webdings"/>
              </a:rPr>
              <a:t>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การกระทำของเจ้าหน้าที่ ต้องชอบด้วยกฎหมาย และ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258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</a:t>
            </a:r>
            <a:r>
              <a:rPr b="1" lang="th-TH" sz="2800" spc="-1" strike="noStrike">
                <a:solidFill>
                  <a:srgbClr val="000000"/>
                </a:solidFill>
                <a:latin typeface="Webdings"/>
                <a:ea typeface="Webdings"/>
              </a:rPr>
              <a:t>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ต้องกระทำภายในขอบเขต และ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258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ตรงตามวัตถุของกฎหมาย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258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2.4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หลักกฎหมายมหาชน คือ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...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KodchiangUP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258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imes New Roman"/>
                <a:ea typeface="KodchiangUPC"/>
              </a:rPr>
              <a:t>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0"/>
            <a:ext cx="6400800" cy="685800"/>
          </a:xfrm>
          <a:prstGeom prst="rect">
            <a:avLst/>
          </a:prstGeom>
          <a:solidFill>
            <a:srgbClr val="0033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KodchiangUPC"/>
              </a:rPr>
              <a:t>2. </a:t>
            </a:r>
            <a:r>
              <a:rPr b="1" lang="th-TH" sz="4400" spc="-1" strike="noStrike">
                <a:solidFill>
                  <a:srgbClr val="ffff00"/>
                </a:solidFill>
                <a:latin typeface="KodchiangUPC"/>
              </a:rPr>
              <a:t>กฎหมาย</a:t>
            </a:r>
            <a:r>
              <a:rPr b="1" lang="th-TH" sz="4400" spc="-1" strike="noStrike">
                <a:solidFill>
                  <a:srgbClr val="ffff00"/>
                </a:solidFill>
                <a:latin typeface="Times New Roman"/>
              </a:rPr>
              <a:t>มหาชนมีลักษณะดังนี้     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1692360" y="5300640"/>
            <a:ext cx="5976720" cy="649440"/>
          </a:xfrm>
          <a:prstGeom prst="rect">
            <a:avLst/>
          </a:prstGeom>
          <a:solidFill>
            <a:srgbClr val="361b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JasmineDSE"/>
              </a:rPr>
              <a:t>“ </a:t>
            </a:r>
            <a:r>
              <a:rPr b="1" lang="th-TH" sz="4000" spc="-1" strike="noStrike">
                <a:solidFill>
                  <a:srgbClr val="ffffff"/>
                </a:solidFill>
                <a:latin typeface="JasmineDSE"/>
              </a:rPr>
              <a:t>ทำไม่ได้ ถ้ากฎหมายไม่บัญญัติให้ทำได้ ”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667640" y="-525240"/>
            <a:ext cx="790560" cy="43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2.2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ผู้เสียหายฟ้องคดีเอง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(1)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ศาลไต่สวนมูลฟ้อง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(2)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รับ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/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ไม่รับ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/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ยกฟ้อง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2" marL="1143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(3)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เป็นเรื่องระหว่างศาลกับโจทก์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2" marL="1143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-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นำพยานเข้าสืบโดยตรงไม่ได้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2" marL="1143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-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ซักค้าน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+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นำพยานเข้าสืบประกอบการ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2" marL="1143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ซักค้านได้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2" marL="1143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-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ไม่ตกอยู่ในฐานะจำเล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2" marL="1143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-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จำเลยอุทธรณ์ไม่ได้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03300"/>
          </a:solidFill>
          <a:ln w="284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KodchiangUPC"/>
                <a:cs typeface="LilyUPC"/>
              </a:rPr>
              <a:t>การป้องกันการฟ้องร้อง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66"/>
              </a:gs>
            </a:gsLst>
            <a:lin ang="5400000"/>
          </a:gradFill>
          <a:ln w="28440">
            <a:solidFill>
              <a:srgbClr val="00ffff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1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การมีความสัมพันธ์ที่ดีกับผู้ป่วย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2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วามกระตือรือร้นในการรักษา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กรณีฉุกเฉิน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3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การรักษาต้องยึดหลักวิชาการ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4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การรักษาตามมาตรฐา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5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การรายงานแพทย์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6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การบันทึกการรักษาที่ชัดเจน        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.......................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                        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5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0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5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0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5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0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5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KodchiangUPC"/>
                <a:cs typeface="LilyUPC"/>
              </a:rPr>
              <a:t>การแก้ไขปัญหาและการต่อสู้คดี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66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1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รายงานผู้บังคับบัญชาตามลำดับ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2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เตรียมตัวสู้คดี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2.1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ปรึกษากฎหมายผู้รู้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2.2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การรวบรวมข้อมูลและข้อเท็จจริง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2.3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กรณีเป็นคดีละเมิด ทางราชการต่อสู้คดีให้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2.4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กรณีเป็นคดีอาญา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   </a:t>
            </a:r>
            <a:r>
              <a:rPr b="1" lang="th-TH" sz="2800" spc="-1" strike="noStrike">
                <a:solidFill>
                  <a:srgbClr val="000000"/>
                </a:solidFill>
                <a:latin typeface="Webdings"/>
                <a:ea typeface="Webdings"/>
              </a:rPr>
              <a:t></a:t>
            </a:r>
            <a:r>
              <a:rPr b="1" lang="th-TH" sz="28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อัยการเป็นโจทก์ ต้องต่อสู้คดีเอง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</a:t>
            </a:r>
            <a:r>
              <a:rPr b="1" lang="th-TH" sz="2800" spc="-1" strike="noStrike">
                <a:solidFill>
                  <a:srgbClr val="000000"/>
                </a:solidFill>
                <a:latin typeface="Webdings"/>
                <a:ea typeface="Webdings"/>
              </a:rPr>
              <a:t>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ผู้เสียหายเป็นโจทก์ ทางราชการต่อสู้คดีให้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....................................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2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7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2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7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2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7" dur="5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2" dur="500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7" dur="500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4240" y="357120"/>
            <a:ext cx="778680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326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99"/>
                </a:solidFill>
                <a:latin typeface="JasmineUPC"/>
                <a:cs typeface="JasmineUPC"/>
              </a:rPr>
              <a:t>วิทยากรผู้บรรยาย</a:t>
            </a:r>
            <a:r>
              <a:rPr b="1" lang="th-TH" sz="4800" spc="-1" strike="noStrike">
                <a:solidFill>
                  <a:srgbClr val="000099"/>
                </a:solidFill>
                <a:latin typeface="JasmineUPC"/>
                <a:ea typeface="JasmineUPC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326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JasmineUPC"/>
                <a:ea typeface="JasmineUPC"/>
              </a:rPr>
              <a:t>    </a:t>
            </a:r>
            <a:r>
              <a:rPr b="1" lang="th-TH" sz="4000" spc="-1" strike="noStrike">
                <a:solidFill>
                  <a:srgbClr val="000099"/>
                </a:solidFill>
                <a:latin typeface="JasmineUPC"/>
                <a:cs typeface="JasmineUPC"/>
              </a:rPr>
              <a:t>นายเรืองรัตน์ บัวสัมฤทธิ์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3264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99"/>
                </a:solidFill>
                <a:latin typeface="JasmineUPC"/>
                <a:ea typeface="JasmineUPC"/>
              </a:rPr>
              <a:t>   </a:t>
            </a:r>
            <a:r>
              <a:rPr b="1" i="1" lang="th-TH" sz="4000" spc="-1" strike="noStrike">
                <a:solidFill>
                  <a:srgbClr val="ff00ff"/>
                </a:solidFill>
                <a:latin typeface="JasmineUPC"/>
                <a:cs typeface="JasmineUPC"/>
              </a:rPr>
              <a:t>ผอ</a:t>
            </a:r>
            <a:r>
              <a:rPr b="1" i="1" lang="th-TH" sz="4000" spc="-1" strike="noStrike">
                <a:solidFill>
                  <a:srgbClr val="ff00ff"/>
                </a:solidFill>
                <a:latin typeface="JasmineUPC"/>
                <a:ea typeface="JasmineUPC"/>
              </a:rPr>
              <a:t>.</a:t>
            </a:r>
            <a:r>
              <a:rPr b="1" i="1" lang="th-TH" sz="4000" spc="-1" strike="noStrike">
                <a:solidFill>
                  <a:srgbClr val="ff00ff"/>
                </a:solidFill>
                <a:latin typeface="JasmineUPC"/>
                <a:cs typeface="JasmineUPC"/>
              </a:rPr>
              <a:t>กลุ่มเสริมสร้างวินัยและระบบคุณธรรม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326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ff00ff"/>
                </a:solidFill>
                <a:latin typeface="JasmineUPC"/>
                <a:ea typeface="JasmineUPC"/>
              </a:rPr>
              <a:t>   </a:t>
            </a:r>
            <a:r>
              <a:rPr b="1" i="1" lang="th-TH" sz="4000" spc="-1" strike="noStrike">
                <a:solidFill>
                  <a:srgbClr val="ff00ff"/>
                </a:solidFill>
                <a:latin typeface="JasmineUPC"/>
                <a:cs typeface="JasmineUPC"/>
              </a:rPr>
              <a:t>สำนักงานปลัดกระทรวงสาธารณสุข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3264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99"/>
                </a:solidFill>
                <a:latin typeface="JasmineUPC"/>
                <a:ea typeface="JasmineUPC"/>
              </a:rPr>
              <a:t>      </a:t>
            </a:r>
            <a:r>
              <a:rPr b="1" lang="th-TH" sz="4000" spc="-1" strike="noStrike">
                <a:solidFill>
                  <a:srgbClr val="800000"/>
                </a:solidFill>
                <a:latin typeface="JasmineUPC"/>
                <a:cs typeface="JasmineUPC"/>
              </a:rPr>
              <a:t>โทร</a:t>
            </a:r>
            <a:r>
              <a:rPr b="1" lang="th-TH" sz="4000" spc="-1" strike="noStrike">
                <a:solidFill>
                  <a:srgbClr val="800000"/>
                </a:solidFill>
                <a:latin typeface="JasmineUPC"/>
                <a:ea typeface="JasmineUPC"/>
              </a:rPr>
              <a:t>. 02 5901314,1316,1417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3264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800000"/>
                </a:solidFill>
                <a:latin typeface="JasmineUPC"/>
                <a:ea typeface="JasmineUPC"/>
              </a:rPr>
              <a:t>       </a:t>
            </a:r>
            <a:r>
              <a:rPr b="1" lang="th-TH" sz="4000" spc="-1" strike="noStrike">
                <a:solidFill>
                  <a:srgbClr val="800000"/>
                </a:solidFill>
                <a:latin typeface="JasmineUPC"/>
                <a:cs typeface="JasmineUPC"/>
              </a:rPr>
              <a:t>โทร</a:t>
            </a:r>
            <a:r>
              <a:rPr b="1" lang="th-TH" sz="4000" spc="-1" strike="noStrike">
                <a:solidFill>
                  <a:srgbClr val="800000"/>
                </a:solidFill>
                <a:latin typeface="JasmineUPC"/>
                <a:ea typeface="JasmineUPC"/>
              </a:rPr>
              <a:t>. 081 4090916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326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800000"/>
                </a:solidFill>
                <a:latin typeface="JasmineUPC"/>
                <a:ea typeface="JasmineUPC"/>
              </a:rPr>
              <a:t>       </a:t>
            </a:r>
            <a:r>
              <a:rPr b="1" lang="th-TH" sz="4000" spc="-1" strike="noStrike">
                <a:solidFill>
                  <a:srgbClr val="800000"/>
                </a:solidFill>
                <a:latin typeface="JasmineUPC"/>
                <a:cs typeface="JasmineUPC"/>
              </a:rPr>
              <a:t>โทรสาร </a:t>
            </a:r>
            <a:r>
              <a:rPr b="1" lang="th-TH" sz="4000" spc="-1" strike="noStrike">
                <a:solidFill>
                  <a:srgbClr val="800000"/>
                </a:solidFill>
                <a:latin typeface="JasmineUPC"/>
                <a:ea typeface="JasmineUPC"/>
              </a:rPr>
              <a:t>02 5918589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3" name="วงรี 3"/>
          <p:cNvSpPr/>
          <p:nvPr/>
        </p:nvSpPr>
        <p:spPr>
          <a:xfrm>
            <a:off x="5214960" y="428760"/>
            <a:ext cx="2214720" cy="3143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374" name="รูปภาพ 4" descr="girl_book.gif"/>
          <p:cNvPicPr/>
          <p:nvPr/>
        </p:nvPicPr>
        <p:blipFill>
          <a:blip r:embed="rId2"/>
          <a:stretch/>
        </p:blipFill>
        <p:spPr>
          <a:xfrm>
            <a:off x="6840360" y="4786200"/>
            <a:ext cx="12272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KodchiangUPC"/>
              </a:rPr>
              <a:t>    </a:t>
            </a:r>
            <a:endParaRPr b="1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KodchiangUPC"/>
              </a:rPr>
              <a:t>   </a:t>
            </a:r>
            <a:endParaRPr b="1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KodchiangUPC"/>
              </a:rPr>
              <a:t>        </a:t>
            </a:r>
            <a:r>
              <a:rPr b="1" lang="th-TH" sz="4400" spc="-1" strike="noStrike">
                <a:solidFill>
                  <a:srgbClr val="ffffff"/>
                </a:solidFill>
                <a:latin typeface="KodchiangUPC"/>
              </a:rPr>
              <a:t>                                  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99ffcc"/>
          </a:solidFill>
          <a:ln w="2844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LilyUPC"/>
              </a:rPr>
              <a:t>พ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LilyUPC"/>
              </a:rPr>
              <a:t>ร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LilyUPC"/>
              </a:rPr>
              <a:t>บ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LilyUPC"/>
              </a:rPr>
              <a:t>.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LilyUPC"/>
              </a:rPr>
              <a:t>คุ้มครองผู้บริโภค พ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LilyUPC"/>
              </a:rPr>
              <a:t>ศ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LilyUPC"/>
              </a:rPr>
              <a:t>. 2522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003300"/>
          </a:solidFill>
          <a:ln w="2844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มาตรา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3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ในพระราชบัญญัตินี้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     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  <a:ea typeface="LilyUPC"/>
              </a:rPr>
              <a:t>“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ผู้บริโภค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  <a:ea typeface="LilyUPC"/>
              </a:rPr>
              <a:t>”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หมายความว่าผู้ซื้อหรือผู้ได้รับ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บริการจากผู้ประกอบธุรกิจ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.........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     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  <a:ea typeface="LilyUPC"/>
              </a:rPr>
              <a:t>“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ผู้ประกอบธุรกิจ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  <a:ea typeface="LilyUPC"/>
              </a:rPr>
              <a:t>”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หมายความว่า ผู้ขาย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ผู้ผลิตเพื่อขาย ผู้สั่งหรือนำเข้า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....................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หรือผู้ให้บริการ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......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     </a:t>
            </a:r>
            <a:r>
              <a:rPr b="1" lang="th-TH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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การให้บริการ แล้วเกิดความเสียหายแก่ผู้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รับบริการ หากมีการฟ้องคดีจะเป็นคดีผู้บริโภค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66ffcc"/>
          </a:solidFill>
          <a:ln w="2844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LilyUPC"/>
              </a:rPr>
              <a:t>พ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LilyUPC"/>
              </a:rPr>
              <a:t>ร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LilyUPC"/>
              </a:rPr>
              <a:t>บ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LilyUPC"/>
              </a:rPr>
              <a:t>.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LilyUPC"/>
              </a:rPr>
              <a:t>วิธีพิจารณาคดีผู้บริโภค พ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LilyUPC"/>
              </a:rPr>
              <a:t>ศ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LilyUPC"/>
              </a:rPr>
              <a:t>. 2551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0" y="836640"/>
            <a:ext cx="9144000" cy="6021360"/>
          </a:xfrm>
          <a:prstGeom prst="rect">
            <a:avLst/>
          </a:prstGeom>
          <a:solidFill>
            <a:srgbClr val="003300"/>
          </a:solidFill>
          <a:ln w="2844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</a:t>
            </a:r>
            <a:r>
              <a:rPr b="1" lang="th-TH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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Lily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มาตรา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3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ในพระราชบัญญัตินี้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ea typeface="LilyUPC"/>
              </a:rPr>
              <a:t>“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  <a:cs typeface="LilyUPC"/>
              </a:rPr>
              <a:t>คดีผู้บริโภค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ea typeface="LilyUPC"/>
              </a:rPr>
              <a:t>”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หมายความว่า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(1)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คดีแพ่งระหว่างผู้บริโภค กับผู้ประกอบธุรกิจ ซึ่ง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พิพาทกันเกี่ยวกับสิทธิหรือหน้าที่ตามกฎหมายอันเนื่อง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มาจากการบริโภคสินค้าหรือบริการ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(2)...........(3)...........(4).............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ea typeface="LilyUPC"/>
              </a:rPr>
              <a:t>“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  <a:cs typeface="LilyUPC"/>
              </a:rPr>
              <a:t>ผู้บริโภค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ea typeface="LilyUPC"/>
              </a:rPr>
              <a:t>”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หมายความว่า ผู้บริโภคตามกฎหมายว่า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ด้วยการคุ้มครองผู้บริโภค และ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.....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ea typeface="LilyUPC"/>
              </a:rPr>
              <a:t>“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  <a:cs typeface="LilyUPC"/>
              </a:rPr>
              <a:t>ผู้ประกอบธุรกิจ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ea typeface="LilyUPC"/>
              </a:rPr>
              <a:t>”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หมายความว่า ผู้ประกอบธุรกิจตาม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กฎหมายว่าด้วยการคุ้มครองผู้บริโภค และ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.....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ngsana New"/>
                <a:ea typeface="LilyUPC"/>
              </a:rPr>
              <a:t>       </a:t>
            </a:r>
            <a:r>
              <a:rPr b="1" lang="th-TH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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เจตนารมณ์ของกฎหมายฉบับนี้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คือเพื่อคุ้มครองประชาช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</a:t>
            </a:r>
            <a:r>
              <a:rPr b="1" lang="th-TH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</a:t>
            </a:r>
            <a:r>
              <a:rPr b="1" lang="th-TH" sz="2800" spc="-1" strike="noStrike">
                <a:solidFill>
                  <a:srgbClr val="ffff00"/>
                </a:solidFill>
                <a:latin typeface="Angsana New"/>
                <a:ea typeface="LilyUPC"/>
              </a:rPr>
              <a:t> 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  <a:cs typeface="LilyUPC"/>
              </a:rPr>
              <a:t>ฟ้องง่า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ngsana New"/>
                <a:ea typeface="LilyUPC"/>
              </a:rPr>
              <a:t>                    </a:t>
            </a:r>
            <a:r>
              <a:rPr b="1" lang="th-TH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</a:t>
            </a:r>
            <a:r>
              <a:rPr b="1" lang="th-TH" sz="2800" spc="-1" strike="noStrike">
                <a:solidFill>
                  <a:srgbClr val="ffff00"/>
                </a:solidFill>
                <a:latin typeface="Angsana New"/>
                <a:ea typeface="LilyUPC"/>
              </a:rPr>
              <a:t> 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  <a:cs typeface="LilyUPC"/>
              </a:rPr>
              <a:t>สะดวก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ngsana New"/>
                <a:ea typeface="LilyUPC"/>
              </a:rPr>
              <a:t>                    </a:t>
            </a:r>
            <a:r>
              <a:rPr b="1" lang="th-TH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</a:t>
            </a:r>
            <a:r>
              <a:rPr b="1" lang="th-TH" sz="2800" spc="-1" strike="noStrike">
                <a:solidFill>
                  <a:srgbClr val="ffff00"/>
                </a:solidFill>
                <a:latin typeface="Angsana New"/>
                <a:ea typeface="LilyUPC"/>
              </a:rPr>
              <a:t> 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  <a:cs typeface="LilyUPC"/>
              </a:rPr>
              <a:t>รวดเร็ว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  </a:t>
            </a:r>
            <a:r>
              <a:rPr b="1" lang="th-TH" sz="2800" spc="-1" strike="noStrike">
                <a:solidFill>
                  <a:srgbClr val="ffe0c1"/>
                </a:solidFill>
                <a:latin typeface="Wingdings"/>
                <a:ea typeface="Wingdings"/>
              </a:rPr>
              <a:t></a:t>
            </a:r>
            <a:r>
              <a:rPr b="1" lang="th-TH" sz="2800" spc="-1" strike="noStrike">
                <a:solidFill>
                  <a:srgbClr val="ffe0c1"/>
                </a:solidFill>
                <a:latin typeface="Angsana New"/>
                <a:ea typeface="LilyUPC"/>
              </a:rPr>
              <a:t> </a:t>
            </a:r>
            <a:r>
              <a:rPr b="1" lang="th-TH" sz="3600" spc="-1" strike="noStrike">
                <a:solidFill>
                  <a:srgbClr val="ffe0c1"/>
                </a:solidFill>
                <a:latin typeface="Angsana New"/>
                <a:cs typeface="LilyUPC"/>
              </a:rPr>
              <a:t>ได้รับความเป็นธรรมเพราะเป็นผู้ไม่รู้เรื่อง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e0c1"/>
                </a:solidFill>
                <a:latin typeface="Angsana New"/>
                <a:ea typeface="LilyUPC"/>
              </a:rPr>
              <a:t>                     </a:t>
            </a:r>
            <a:r>
              <a:rPr b="1" lang="th-TH" sz="3600" spc="-1" strike="noStrike">
                <a:solidFill>
                  <a:srgbClr val="ffe0c1"/>
                </a:solidFill>
                <a:latin typeface="Angsana New"/>
                <a:cs typeface="LilyUPC"/>
              </a:rPr>
              <a:t>สินค้าเท่ากับผู้ผลิต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  </a:t>
            </a:r>
            <a:r>
              <a:rPr b="1" lang="th-TH" sz="2800" spc="-1" strike="noStrike">
                <a:solidFill>
                  <a:srgbClr val="00ffff"/>
                </a:solidFill>
                <a:latin typeface="Wingdings"/>
                <a:ea typeface="Wingdings"/>
              </a:rPr>
              <a:t></a:t>
            </a:r>
            <a:r>
              <a:rPr b="1" lang="th-TH" sz="2800" spc="-1" strike="noStrike">
                <a:solidFill>
                  <a:srgbClr val="00ffff"/>
                </a:solidFill>
                <a:latin typeface="Angsana New"/>
                <a:ea typeface="LilyUPC"/>
              </a:rPr>
              <a:t> </a:t>
            </a:r>
            <a:r>
              <a:rPr b="1" lang="th-TH" sz="3600" spc="-1" strike="noStrike">
                <a:solidFill>
                  <a:srgbClr val="00ffff"/>
                </a:solidFill>
                <a:latin typeface="Angsana New"/>
                <a:cs typeface="LilyUPC"/>
              </a:rPr>
              <a:t>ผู้ผลิตที่ได้รับผลกำไรชักชวน และหลอกลวง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ffff"/>
                </a:solidFill>
                <a:latin typeface="Angsana New"/>
                <a:ea typeface="LilyUPC"/>
              </a:rPr>
              <a:t>                      </a:t>
            </a:r>
            <a:r>
              <a:rPr b="1" lang="th-TH" sz="3600" spc="-1" strike="noStrike">
                <a:solidFill>
                  <a:srgbClr val="00ffff"/>
                </a:solidFill>
                <a:latin typeface="Angsana New"/>
                <a:cs typeface="LilyUPC"/>
              </a:rPr>
              <a:t>ต้องพิสูจน์ตนเอง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ngsana New"/>
                <a:ea typeface="LilyUPC"/>
              </a:rPr>
              <a:t>       </a:t>
            </a:r>
            <a:r>
              <a:rPr b="1" lang="th-TH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</a:t>
            </a:r>
            <a:r>
              <a:rPr b="1" lang="th-TH" sz="2800" spc="-1" strike="noStrike">
                <a:solidFill>
                  <a:srgbClr val="ffff00"/>
                </a:solidFill>
                <a:latin typeface="Angsana New"/>
                <a:ea typeface="LilyUPC"/>
              </a:rPr>
              <a:t>  </a:t>
            </a:r>
            <a:r>
              <a:rPr b="1" lang="th-TH" sz="4400" spc="-1" strike="noStrike">
                <a:solidFill>
                  <a:srgbClr val="ffff00"/>
                </a:solidFill>
                <a:latin typeface="Angsana New"/>
                <a:cs typeface="LilyUPC"/>
              </a:rPr>
              <a:t>การฟ้องคดีผู้บริโภค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</a:t>
            </a:r>
            <a:r>
              <a:rPr b="1" lang="th-TH" sz="2800" spc="-1" strike="noStrike">
                <a:solidFill>
                  <a:srgbClr val="00ff00"/>
                </a:solidFill>
                <a:latin typeface="Wingdings"/>
                <a:ea typeface="Wingdings"/>
              </a:rPr>
              <a:t></a:t>
            </a:r>
            <a:r>
              <a:rPr b="1" lang="th-TH" sz="2800" spc="-1" strike="noStrike">
                <a:solidFill>
                  <a:srgbClr val="00ff00"/>
                </a:solidFill>
                <a:latin typeface="Angsana New"/>
                <a:ea typeface="LilyUPC"/>
              </a:rPr>
              <a:t> </a:t>
            </a:r>
            <a:r>
              <a:rPr b="1" lang="th-TH" sz="3600" spc="-1" strike="noStrike">
                <a:solidFill>
                  <a:srgbClr val="00ff00"/>
                </a:solidFill>
                <a:latin typeface="Angsana New"/>
                <a:cs typeface="LilyUPC"/>
              </a:rPr>
              <a:t>มาตรา </a:t>
            </a:r>
            <a:r>
              <a:rPr b="1" lang="th-TH" sz="3600" spc="-1" strike="noStrike">
                <a:solidFill>
                  <a:srgbClr val="00ff00"/>
                </a:solidFill>
                <a:latin typeface="Angsana New"/>
                <a:ea typeface="LilyUPC"/>
              </a:rPr>
              <a:t>20 </a:t>
            </a:r>
            <a:r>
              <a:rPr b="1" lang="th-TH" sz="3600" spc="-1" strike="noStrike">
                <a:solidFill>
                  <a:srgbClr val="00ff00"/>
                </a:solidFill>
                <a:latin typeface="Angsana New"/>
                <a:cs typeface="LilyUPC"/>
              </a:rPr>
              <a:t>การฟ้องคดีผู้บริโภค โจทก์จะฟ้องด้ว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ff00"/>
                </a:solidFill>
                <a:latin typeface="Angsana New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00ff00"/>
                </a:solidFill>
                <a:latin typeface="Angsana New"/>
                <a:cs typeface="LilyUPC"/>
              </a:rPr>
              <a:t>วาจา หรือเป็นหนังสือก็ได้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</a:t>
            </a:r>
            <a:r>
              <a:rPr b="1" lang="th-TH" sz="2800" spc="-1" strike="noStrike">
                <a:solidFill>
                  <a:srgbClr val="00ffff"/>
                </a:solidFill>
                <a:latin typeface="Wingdings"/>
                <a:ea typeface="Wingdings"/>
              </a:rPr>
              <a:t></a:t>
            </a:r>
            <a:r>
              <a:rPr b="1" lang="th-TH" sz="3600" spc="-1" strike="noStrike">
                <a:solidFill>
                  <a:srgbClr val="00ffff"/>
                </a:solidFill>
                <a:latin typeface="Angsana New"/>
                <a:ea typeface="LilyUPC"/>
              </a:rPr>
              <a:t> </a:t>
            </a:r>
            <a:r>
              <a:rPr b="1" lang="th-TH" sz="3600" spc="-1" strike="noStrike">
                <a:solidFill>
                  <a:srgbClr val="00ffff"/>
                </a:solidFill>
                <a:latin typeface="Angsana New"/>
                <a:cs typeface="LilyUPC"/>
              </a:rPr>
              <a:t>มาตรา </a:t>
            </a:r>
            <a:r>
              <a:rPr b="1" lang="th-TH" sz="3600" spc="-1" strike="noStrike">
                <a:solidFill>
                  <a:srgbClr val="00ffff"/>
                </a:solidFill>
                <a:latin typeface="Angsana New"/>
                <a:ea typeface="LilyUPC"/>
              </a:rPr>
              <a:t>24  </a:t>
            </a:r>
            <a:r>
              <a:rPr b="1" lang="th-TH" sz="3600" spc="-1" strike="noStrike">
                <a:solidFill>
                  <a:srgbClr val="00ffff"/>
                </a:solidFill>
                <a:latin typeface="Angsana New"/>
                <a:cs typeface="LilyUPC"/>
              </a:rPr>
              <a:t>เมื่อศาลรับคำฟ้องแล้ว ให้ศาลกำหนดวั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ffff"/>
                </a:solidFill>
                <a:latin typeface="Angsana New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00ffff"/>
                </a:solidFill>
                <a:latin typeface="Angsana New"/>
                <a:cs typeface="LilyUPC"/>
              </a:rPr>
              <a:t>นัดพิจารณาโดยเร็ว และออกหมายเรียกจำเลยให้มาศาลตาม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ffff"/>
                </a:solidFill>
                <a:latin typeface="Angsana New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00ffff"/>
                </a:solidFill>
                <a:latin typeface="Angsana New"/>
                <a:cs typeface="LilyUPC"/>
              </a:rPr>
              <a:t>กำหนด</a:t>
            </a:r>
            <a:r>
              <a:rPr b="1" lang="th-TH" sz="3600" spc="-1" strike="noStrike">
                <a:solidFill>
                  <a:srgbClr val="ffe0c1"/>
                </a:solidFill>
                <a:latin typeface="Angsana New"/>
                <a:cs typeface="LilyUPC"/>
              </a:rPr>
              <a:t>เพื่อนัดไกล่เกลี่ย</a:t>
            </a:r>
            <a:r>
              <a:rPr b="1" lang="th-TH" sz="3600" spc="-1" strike="noStrike">
                <a:solidFill>
                  <a:srgbClr val="00ffff"/>
                </a:solidFill>
                <a:latin typeface="Angsana New"/>
                <a:ea typeface="LilyUPC"/>
              </a:rPr>
              <a:t> ให้การและสืบพยานในวันเดียวกั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</a:t>
            </a:r>
            <a:r>
              <a:rPr b="1" lang="th-TH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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มาตรา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29 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  <a:cs typeface="LilyUPC"/>
              </a:rPr>
              <a:t>ประเด็นข้อพิพาท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ข้อใดจำเป็นต้องพิสูจน์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ถึงข้อเท็จจริงที่เกี่ยวกับการผลิต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...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การให้บริการ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..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ซึ่งศาล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เห็นว่าข้อเท็จจริงดังกล่าว  อยู่ในความรู้เห็นของผู้ประกอบ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ธุรกิจ </a:t>
            </a:r>
            <a:r>
              <a:rPr b="1" lang="th-TH" sz="3600" spc="-1" strike="noStrike" u="sng">
                <a:solidFill>
                  <a:srgbClr val="ffff00"/>
                </a:solidFill>
                <a:uFillTx/>
                <a:latin typeface="Angsana New"/>
                <a:cs typeface="LilyUPC"/>
              </a:rPr>
              <a:t>ให้ภาระพิสูจน์ตกอยู่แก่คู่ความฝ่ายผู้ประกอบธุรกิจ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LilyUPC"/>
              </a:rPr>
              <a:t>       </a:t>
            </a:r>
            <a:r>
              <a:rPr b="1" lang="th-TH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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  <a:ea typeface="LilyUPC"/>
              </a:rPr>
              <a:t>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LilyUPC"/>
              </a:rPr>
              <a:t>อายุความฟ้องเรียกค่าเสียหาย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มาตรา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13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ความเสียหายที่เกิดขึ้นต่อชีวิต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ร่างกายสุขภาพ  หรืออนามัย  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cs typeface="LilyUPC"/>
              </a:rPr>
              <a:t>โดยผลของสารที่สะสม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ffff"/>
                </a:solidFill>
                <a:latin typeface="Angsana New"/>
                <a:ea typeface="LilyUPC"/>
              </a:rPr>
              <a:t>       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cs typeface="LilyUPC"/>
              </a:rPr>
              <a:t>อยู่ในร่างกาย  หรือเป็นกรณีที่ต้องใช้เวลาในการแสดง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ffff"/>
                </a:solidFill>
                <a:latin typeface="Angsana New"/>
                <a:ea typeface="LilyUPC"/>
              </a:rPr>
              <a:t>      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cs typeface="LilyUPC"/>
              </a:rPr>
              <a:t>อาการ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ต้องใช้สิทธิเรียกร้อง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  <a:cs typeface="LilyUPC"/>
              </a:rPr>
              <a:t>ภายใน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  <a:ea typeface="LilyUPC"/>
              </a:rPr>
              <a:t>3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  <a:cs typeface="LilyUPC"/>
              </a:rPr>
              <a:t>ปี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นับแต่วันรู้ถึง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ความเสียหายและรู้ตัวผู้ต้องรับผิด 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  <a:cs typeface="LilyUPC"/>
              </a:rPr>
              <a:t>แต่ไม่เกิน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  <a:ea typeface="LilyUPC"/>
              </a:rPr>
              <a:t>10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  <a:cs typeface="LilyUPC"/>
              </a:rPr>
              <a:t>ปี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นับแต่วันรู้ถึงความเสียหาย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539640" y="981000"/>
            <a:ext cx="7993080" cy="4392720"/>
          </a:xfrm>
          <a:prstGeom prst="rect">
            <a:avLst/>
          </a:prstGeom>
          <a:solidFill>
            <a:srgbClr val="0000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      </a:t>
            </a:r>
            <a:r>
              <a:rPr b="1" lang="th-TH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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หลักการปฏิบัติราชการ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1.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ต้องมีกฎหมายหรือระเบียบราชการให้อำนาจไว้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 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2.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ต้องไม่ขัดต่อกฎหมาย และระเบียบราชการ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         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สรุป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..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ถ้ากฎหมายและระเบียบ ไม่ระบุว่าให้ทำได้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                  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จะปฏิบัติราชในเรื่องนั้นๆ ไม่ได้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ngsana New"/>
                <a:ea typeface="LilyUPC"/>
              </a:rPr>
              <a:t>      </a:t>
            </a:r>
            <a:r>
              <a:rPr b="1" lang="th-TH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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LilyUPC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LilyUPC"/>
              </a:rPr>
              <a:t>คำพิพากษาศาลสามารถแก้ไขได้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มาตรา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40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ความเสียหายที่เกิดขึ้นต่อชีวิต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ร่างกายสุขภาพ  หรืออนามัย  </a:t>
            </a:r>
            <a:r>
              <a:rPr b="1" lang="th-TH" sz="4000" spc="-1" strike="noStrike">
                <a:solidFill>
                  <a:srgbClr val="66ffcc"/>
                </a:solidFill>
                <a:latin typeface="Angsana New"/>
                <a:cs typeface="LilyUPC"/>
              </a:rPr>
              <a:t>และในเวลาที่พิพากษา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66ffcc"/>
                </a:solidFill>
                <a:latin typeface="Angsana New"/>
                <a:ea typeface="LilyUPC"/>
              </a:rPr>
              <a:t>      </a:t>
            </a:r>
            <a:r>
              <a:rPr b="1" lang="th-TH" sz="4000" spc="-1" strike="noStrike">
                <a:solidFill>
                  <a:srgbClr val="66ffcc"/>
                </a:solidFill>
                <a:latin typeface="Angsana New"/>
                <a:cs typeface="LilyUPC"/>
              </a:rPr>
              <a:t>คดีเป็นการพ้นวิสัยจะหยั่งรู้ได้แน่ว่า ความเสียหายนั้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66ffcc"/>
                </a:solidFill>
                <a:latin typeface="Angsana New"/>
                <a:ea typeface="LilyUPC"/>
              </a:rPr>
              <a:t>      </a:t>
            </a:r>
            <a:r>
              <a:rPr b="1" lang="th-TH" sz="4000" spc="-1" strike="noStrike">
                <a:solidFill>
                  <a:srgbClr val="66ffcc"/>
                </a:solidFill>
                <a:latin typeface="Angsana New"/>
                <a:cs typeface="LilyUPC"/>
              </a:rPr>
              <a:t>มีแท้จริงเพียงใด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ศาลอาจกล่าวในคำพิพากษา  หรือ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คำสั่งว่า 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  <a:cs typeface="LilyUPC"/>
              </a:rPr>
              <a:t>ยังสงวนไว้ซึ่งสิทธิที่จะแก้ไขคำพิพากษา หรือ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Angsana New"/>
                <a:ea typeface="LilyUPC"/>
              </a:rPr>
              <a:t>    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  <a:cs typeface="LilyUPC"/>
              </a:rPr>
              <a:t>คำสั่งนั้น ภายในระยะเวลาที่ศาลกำหนดแต่ไม่เกิน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  <a:ea typeface="LilyUPC"/>
              </a:rPr>
              <a:t>10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  <a:cs typeface="LilyUPC"/>
              </a:rPr>
              <a:t>ปี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นับแต่วันมีคำพิพากษา  หรือคำสั่ง  แต่ก่อนการแก้ไข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ต้องให้โอกาสคู่ความอีกฝ่ายที่จะคัดค้าน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8440">
            <a:solidFill>
              <a:srgbClr val="ffff00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</a:t>
            </a:r>
            <a:r>
              <a:rPr b="0" lang="th-TH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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LilyUPC"/>
              </a:rPr>
              <a:t>การบรรยายวันนี้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LilyUPC"/>
              </a:rPr>
              <a:t>..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32640" indent="0">
              <a:lnSpc>
                <a:spcPct val="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</a:t>
            </a:r>
            <a:r>
              <a:rPr b="1" lang="th-TH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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LilyUPC"/>
              </a:rPr>
              <a:t> </a:t>
            </a:r>
            <a:r>
              <a:rPr b="1" lang="th-TH" sz="4400" spc="-1" strike="noStrike">
                <a:solidFill>
                  <a:srgbClr val="ffff00"/>
                </a:solidFill>
                <a:latin typeface="Angsana New"/>
                <a:cs typeface="LilyUPC"/>
              </a:rPr>
              <a:t>ประเด็นปัญหาการถูกฟ้องร้อง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32640" indent="0">
              <a:lnSpc>
                <a:spcPct val="6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Angsana New"/>
                <a:ea typeface="LilyUPC"/>
              </a:rPr>
              <a:t>             </a:t>
            </a:r>
            <a:r>
              <a:rPr b="1" lang="th-TH" sz="4400" spc="-1" strike="noStrike">
                <a:solidFill>
                  <a:srgbClr val="ffff00"/>
                </a:solidFill>
                <a:latin typeface="Angsana New"/>
                <a:cs typeface="LilyUPC"/>
              </a:rPr>
              <a:t>ทางแพ่งและทางอาญา</a:t>
            </a:r>
            <a:r>
              <a:rPr b="1" lang="th-TH" sz="4400" spc="-1" strike="noStrike">
                <a:solidFill>
                  <a:srgbClr val="ffff00"/>
                </a:solidFill>
                <a:latin typeface="Angsana New"/>
                <a:ea typeface="LilyUPC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32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</a:t>
            </a:r>
            <a:r>
              <a:rPr b="1" lang="th-TH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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  <a:ea typeface="LilyUPC"/>
              </a:rPr>
              <a:t>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พ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.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ร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.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บ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.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วิชาชีพการพยาบาลและผดุงครรภ์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326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</a:t>
            </a:r>
            <a:r>
              <a:rPr b="1" lang="th-TH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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  <a:ea typeface="Lily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ระเบียบการมอบหมายให้ประกอบวิชาชีพเวชกรรม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326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</a:t>
            </a:r>
            <a:r>
              <a:rPr b="1" lang="th-TH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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พ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.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ร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.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บ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.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คุ้มครองผู้บริโภค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326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</a:t>
            </a:r>
            <a:r>
              <a:rPr b="1" lang="th-TH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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ea typeface="LilyUPC"/>
              </a:rPr>
              <a:t>  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cs typeface="LilyUPC"/>
              </a:rPr>
              <a:t>พ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ea typeface="LilyUPC"/>
              </a:rPr>
              <a:t>.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cs typeface="LilyUPC"/>
              </a:rPr>
              <a:t>ร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ea typeface="LilyUPC"/>
              </a:rPr>
              <a:t>.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cs typeface="LilyUPC"/>
              </a:rPr>
              <a:t>บ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ea typeface="LilyUPC"/>
              </a:rPr>
              <a:t>. 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cs typeface="LilyUPC"/>
              </a:rPr>
              <a:t>วิธีพิจารณาคดีผู้บริโภค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326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ngsana New"/>
                <a:ea typeface="LilyUPC"/>
              </a:rPr>
              <a:t>                          </a:t>
            </a:r>
            <a:r>
              <a:rPr b="1" lang="th-TH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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ea typeface="LilyUPC"/>
              </a:rPr>
              <a:t>  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cs typeface="LilyUPC"/>
              </a:rPr>
              <a:t>พ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ea typeface="LilyUPC"/>
              </a:rPr>
              <a:t>.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cs typeface="LilyUPC"/>
              </a:rPr>
              <a:t>ร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ea typeface="LilyUPC"/>
              </a:rPr>
              <a:t>.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cs typeface="LilyUPC"/>
              </a:rPr>
              <a:t>บ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ea typeface="LilyUPC"/>
              </a:rPr>
              <a:t>. 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cs typeface="LilyUPC"/>
              </a:rPr>
              <a:t>วิชาชีพเวชกรรม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326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         </a:t>
            </a:r>
            <a:r>
              <a:rPr b="1" lang="th-TH" sz="2400" spc="-1" strike="noStrike">
                <a:solidFill>
                  <a:srgbClr val="ffe0c1"/>
                </a:solidFill>
                <a:latin typeface="Wingdings"/>
                <a:ea typeface="Wingdings"/>
              </a:rPr>
              <a:t>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ea typeface="LilyUPC"/>
              </a:rPr>
              <a:t>  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cs typeface="LilyUPC"/>
              </a:rPr>
              <a:t>พ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ea typeface="LilyUPC"/>
              </a:rPr>
              <a:t>.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cs typeface="LilyUPC"/>
              </a:rPr>
              <a:t>ร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ea typeface="LilyUPC"/>
              </a:rPr>
              <a:t>.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cs typeface="LilyUPC"/>
              </a:rPr>
              <a:t>บ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ea typeface="LilyUPC"/>
              </a:rPr>
              <a:t>. 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cs typeface="LilyUPC"/>
              </a:rPr>
              <a:t>ยา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ea typeface="LilyUPC"/>
              </a:rPr>
              <a:t>, 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cs typeface="LilyUPC"/>
              </a:rPr>
              <a:t>พ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ea typeface="LilyUPC"/>
              </a:rPr>
              <a:t>.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cs typeface="LilyUPC"/>
              </a:rPr>
              <a:t>ร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ea typeface="LilyUPC"/>
              </a:rPr>
              <a:t>.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cs typeface="LilyUPC"/>
              </a:rPr>
              <a:t>บ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ea typeface="LilyUPC"/>
              </a:rPr>
              <a:t>. 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cs typeface="LilyUPC"/>
              </a:rPr>
              <a:t>สถานพยาบาล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  <a:ea typeface="KodchiangUP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44892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6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	</a:t>
            </a:r>
            <a:r>
              <a:rPr b="0" lang="th-TH" sz="66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	</a:t>
            </a:r>
            <a:r>
              <a:rPr b="0" lang="th-TH" sz="66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	</a:t>
            </a:r>
            <a:r>
              <a:rPr b="0" lang="th-TH" sz="66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	</a:t>
            </a:r>
            <a:r>
              <a:rPr b="0" lang="th-TH" sz="66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  </a:t>
            </a:r>
            <a:r>
              <a:rPr b="0" lang="th-TH" sz="48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	</a:t>
            </a:r>
            <a:r>
              <a:rPr b="0" lang="th-TH" sz="48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	</a:t>
            </a:r>
            <a:r>
              <a:rPr b="0" lang="th-TH" sz="48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0" y="27000"/>
            <a:ext cx="9396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        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มาตรา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35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สิทธิของบุคคลในครอบครัว เกียรติยศ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  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ชื่อเสียง ตลอดจนความเป็นอยู่ส่วนตัว ย่อมได้รับความ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  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คุ้มครอง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... (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ห้ามนำไปเปิดเผย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        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การกล่าวหรือไขข่าวแพร่หลายซึ่งข้อความ หรือภาพ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  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ไม่ว่าด้วยวิธีใดไปยังสาธารณชน  อันเป็นการละเมิด  หรือ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  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กระทบถึงสิทธิของบุคคลในครอบครัว เกียรติยศ ชื่อเสียง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        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หรือ</a:t>
            </a:r>
            <a:r>
              <a:rPr b="1" lang="th-TH" sz="4000" spc="-1" strike="noStrike" u="sng">
                <a:solidFill>
                  <a:srgbClr val="ffff00"/>
                </a:solidFill>
                <a:uFillTx/>
                <a:latin typeface="Angsana New"/>
              </a:rPr>
              <a:t>ความเป็นอยู่ส่วนตัว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จะกระทำมิได้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เว้นแต่ กรณีที่เป็น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       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ประโยชน์ต่อสาธารณะ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         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</a:rPr>
              <a:t>(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</a:rPr>
              <a:t>ความเป็นอยู่ส่วนตัว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</a:rPr>
              <a:t>...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</a:rPr>
              <a:t>เป็นสาระสำคัญหรือแก่นของสิทธิ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ffff"/>
                </a:solidFill>
                <a:latin typeface="Angsana New"/>
              </a:rPr>
              <a:t>           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324000" y="189000"/>
            <a:ext cx="8820000" cy="7189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รัฐธรรมนูญแห่งราชอาณาจักไทย พุทธศักราช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2550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596360" y="1773360"/>
            <a:ext cx="1008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KodchiangUPC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1979640" y="549360"/>
            <a:ext cx="6480000" cy="504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คนไข้อุบัติเหตุทางรถยนต์  </a:t>
            </a: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ราย</a:t>
            </a:r>
            <a:endParaRPr b="1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ถูกนำส่ง ร</a:t>
            </a: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พ</a:t>
            </a: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ต้องให้เลือดฉุกเฉิน</a:t>
            </a:r>
            <a:endParaRPr b="1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ให้เลือดผิด ตาย </a:t>
            </a: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รอด </a:t>
            </a: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th-TH" sz="6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ที่รอด</a:t>
            </a:r>
            <a:endParaRPr b="1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เพราะได้เลือดกรุ๊ป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ศพถูกเผา</a:t>
            </a:r>
            <a:endParaRPr b="1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แล้ว  ญาติไม่ทราบว่า ตายเพราะให้</a:t>
            </a:r>
            <a:endParaRPr b="1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เลือดผิด</a:t>
            </a: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250920" y="1484280"/>
            <a:ext cx="1655640" cy="3095640"/>
          </a:xfrm>
          <a:prstGeom prst="rect">
            <a:avLst/>
          </a:prstGeom>
          <a:solidFill>
            <a:srgbClr val="0000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เรื่องลับๆ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ในวงการ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แพทย์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596360" y="1773360"/>
            <a:ext cx="1008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KodchiangUPC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2195640" y="1052640"/>
            <a:ext cx="6264000" cy="4248000"/>
          </a:xfrm>
          <a:prstGeom prst="rect">
            <a:avLst/>
          </a:prstGeom>
          <a:solidFill>
            <a:srgbClr val="fff5eb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แพทย์</a:t>
            </a: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ผ่าตัดเนื้องอกในมดลูก</a:t>
            </a:r>
            <a:endParaRPr b="1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ระหว่างผ่าตัดยังไม่เสร็จ  แพทย์ละทิ้ง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หน้าที่ไปทำคลอดที่ ร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พ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เอกชน คนไข้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เนื้องอก ปางตาย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611280" y="1628640"/>
            <a:ext cx="1584360" cy="309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เรื่องลับๆ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ในวงการ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แพทย์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010280" y="1202760"/>
            <a:ext cx="144792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KodchiangUP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KodchiangUPC"/>
                <a:ea typeface="LilyUPC"/>
              </a:rPr>
              <a:t>            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539640" y="476280"/>
            <a:ext cx="2303640" cy="396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บุคคลที่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ผู้ประกอบ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วิชาชีพ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การพยาบาล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จะต้องบริการ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4067280" y="404640"/>
            <a:ext cx="3240000" cy="64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ผู้ป่วย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-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คนไข้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4067280" y="1268280"/>
            <a:ext cx="3240000" cy="648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แพทย์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4067280" y="2133720"/>
            <a:ext cx="3241440" cy="6476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ผู้บังคับบัญชา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4067280" y="2997360"/>
            <a:ext cx="324144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ผู้ใต้บังคับบัญชา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4427640" y="4869000"/>
            <a:ext cx="331308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เพื่อนร่วมงาน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5" name="AutoShape 10"/>
          <p:cNvSpPr/>
          <p:nvPr/>
        </p:nvSpPr>
        <p:spPr>
          <a:xfrm>
            <a:off x="3132000" y="333360"/>
            <a:ext cx="648000" cy="4248000"/>
          </a:xfrm>
          <a:custGeom>
            <a:avLst/>
            <a:gdLst>
              <a:gd name="textAreaLeft" fmla="*/ 0 w 648000"/>
              <a:gd name="textAreaRight" fmla="*/ 234000 w 64800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468360" y="4869000"/>
            <a:ext cx="8351640" cy="720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บริการอย่างมีคุณธรรม จริยธรรม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Service Mind</a:t>
            </a:r>
            <a:endParaRPr b="1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7" name="Rectangle 12"/>
          <p:cNvSpPr/>
          <p:nvPr/>
        </p:nvSpPr>
        <p:spPr>
          <a:xfrm>
            <a:off x="4067280" y="3860640"/>
            <a:ext cx="3241440" cy="648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เพื่อนร่วมงาน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51640" y="-365400"/>
            <a:ext cx="1006560" cy="37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4000"/>
          </a:bodyPr>
          <a:p>
            <a:pPr lvl="2" marL="1074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11.2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ภายหลังการฟ้องคดี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(1)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เตรียมข้อมูลให้พนักงานอัยการ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(2)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ขาดผู้เชี่ยวชาญในการไปเป็นพยา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2" marL="1074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11.3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พิจารณาคดีของศาล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2" marL="1074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-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สืบพยานในชั้นการพิจารณาของศาล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2" marL="1074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-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แนวทางการวินิจฉัยตาม พ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ร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บ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ความรับผิดทางละเมิด             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ของเจ้าหน้าที่ พ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ศ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.2539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2" marL="107424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2" marL="1074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0000"/>
                </a:solidFill>
                <a:latin typeface="Angsana New"/>
                <a:ea typeface="KodchiangUPC"/>
              </a:rPr>
              <a:t>  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-------------------------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933960" y="22320"/>
            <a:ext cx="15238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68360" y="188640"/>
            <a:ext cx="8207280" cy="6669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KodchiangUPC"/>
              </a:rPr>
              <a:t>     </a:t>
            </a:r>
            <a:r>
              <a:rPr b="1" lang="th-TH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</a:t>
            </a:r>
            <a:r>
              <a:rPr b="1" lang="th-TH" sz="1200" spc="-1" strike="noStrike">
                <a:solidFill>
                  <a:srgbClr val="000000"/>
                </a:solidFill>
                <a:latin typeface="KodchiangUPC"/>
                <a:ea typeface="KodchiangUPC"/>
              </a:rPr>
              <a:t> </a:t>
            </a:r>
            <a:r>
              <a:rPr b="1" lang="th-TH" sz="3600" spc="-1" strike="noStrike" u="sng">
                <a:solidFill>
                  <a:srgbClr val="000000"/>
                </a:solidFill>
                <a:uFillTx/>
                <a:latin typeface="KodchiangUPC"/>
                <a:cs typeface="LilyUPC"/>
              </a:rPr>
              <a:t>ตัวอย่างอื่นๆ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1.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ทารกคลอดท่าผิดปกติ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2.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คลอดไม่ได้ติดเชิงกราน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,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ถุงน้ำคร่ำแตก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3.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การคลอดที่ต้องดึงทารกออก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4.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สลับเด็กให้แม่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5.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รับรองการคลอดเท็จ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6.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การผ่าคลอดทุกรา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7.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คลอดแล้วแม่หนี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...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ยกเด็กให้ผู้อื่นโดยพละการ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8.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ตัดสายสะดือ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..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ถูกปลายจู๋ขาด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9.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ทารกหลุดมือตกพื้น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,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ตกถัง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10.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เร่งความร้อนตู้อบเด็กมากเกิน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...............................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933960" y="22320"/>
            <a:ext cx="15238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4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วามผิดฐานปฏิบัติหรือปฏิบัติหน้าที่โดยมิชอบ      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คือ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  <a:ea typeface="LilyUPC"/>
              </a:rPr>
              <a:t>“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วามบริสุทธิ์แห่งอำนาจรัฐ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  <a:ea typeface="LilyUPC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</a:t>
            </a:r>
            <a:r>
              <a:rPr b="1" i="1" lang="th-TH" sz="4400" spc="-1" strike="noStrike">
                <a:solidFill>
                  <a:srgbClr val="006600"/>
                </a:solidFill>
                <a:latin typeface="KodchiangUPC"/>
                <a:cs typeface="LilyUPC"/>
              </a:rPr>
              <a:t>เช่น</a:t>
            </a:r>
            <a:r>
              <a:rPr b="1" i="1" lang="th-TH" sz="4400" spc="-1" strike="noStrike">
                <a:solidFill>
                  <a:srgbClr val="006600"/>
                </a:solidFill>
                <a:latin typeface="Arial"/>
                <a:ea typeface="LilyUPC"/>
              </a:rPr>
              <a:t>…</a:t>
            </a:r>
            <a:r>
              <a:rPr b="1" i="1" lang="th-TH" sz="4400" spc="-1" strike="noStrike">
                <a:solidFill>
                  <a:srgbClr val="006600"/>
                </a:solidFill>
                <a:latin typeface="KodchiangUPC"/>
                <a:cs typeface="LilyUPC"/>
              </a:rPr>
              <a:t>วินัยข้าราชการ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1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วามผิดฐานไม่ตั้งใจปฏิบัติหน้าที่                         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คือ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  <a:ea typeface="LilyUPC"/>
              </a:rPr>
              <a:t>“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ประสิทธิภาพประสิทธิผลของงาน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  <a:ea typeface="LilyUPC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2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วามผิดฐานไม่ปฏิบัติหน้าที่ให้เป็นกฎหมาย            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และระเบียบของทางราชการคือ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  <a:ea typeface="LilyUPC"/>
              </a:rPr>
              <a:t>“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วามศักดิ์สิทธิ์      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ของกฎหมายและระเบียบ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  <a:ea typeface="LilyUPC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3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วามผิดฐานประพฤติชั่วคือ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  <a:ea typeface="LilyUPC"/>
              </a:rPr>
              <a:t>“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การเป็นแบบอย่างที่ดี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  <a:ea typeface="LilyUPC"/>
              </a:rPr>
              <a:t>”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.....................................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80808"/>
          </a:solidFill>
          <a:ln w="284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LilyDSE"/>
                <a:ea typeface="LilyUPC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LilyDSE"/>
                <a:ea typeface="LilyUPC"/>
              </a:rPr>
              <a:t>          </a:t>
            </a:r>
            <a:r>
              <a:rPr b="1" lang="th-TH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</a:t>
            </a:r>
            <a:r>
              <a:rPr b="1" lang="th-TH" sz="2800" spc="-1" strike="noStrike">
                <a:solidFill>
                  <a:srgbClr val="ffffff"/>
                </a:solidFill>
                <a:latin typeface="LilyDSE"/>
                <a:ea typeface="LilyUPC"/>
              </a:rPr>
              <a:t> </a:t>
            </a:r>
            <a:r>
              <a:rPr b="1" lang="th-TH" sz="4400" spc="-1" strike="noStrike" u="sng">
                <a:solidFill>
                  <a:srgbClr val="ffffff"/>
                </a:solidFill>
                <a:uFillTx/>
                <a:latin typeface="LilyDSE"/>
                <a:cs typeface="LilyUPC"/>
              </a:rPr>
              <a:t>มาตรา </a:t>
            </a:r>
            <a:r>
              <a:rPr b="1" lang="th-TH" sz="4400" spc="-1" strike="noStrike" u="sng">
                <a:solidFill>
                  <a:srgbClr val="ffffff"/>
                </a:solidFill>
                <a:uFillTx/>
                <a:latin typeface="LilyDSE"/>
                <a:ea typeface="LilyUPC"/>
              </a:rPr>
              <a:t>7</a:t>
            </a:r>
            <a:r>
              <a:rPr b="1" lang="th-TH" sz="4400" spc="-1" strike="noStrike">
                <a:solidFill>
                  <a:srgbClr val="ffffff"/>
                </a:solidFill>
                <a:latin typeface="LilyDSE"/>
                <a:ea typeface="LilyUP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             </a:t>
            </a:r>
            <a:r>
              <a:rPr b="1" lang="th-TH" sz="4000" spc="-1" strike="noStrike">
                <a:solidFill>
                  <a:srgbClr val="ffffff"/>
                </a:solidFill>
                <a:latin typeface="LilyDSE"/>
                <a:cs typeface="LilyUPC"/>
              </a:rPr>
              <a:t>ดังนั้นการให้เอกสารเกี่ยวกับข้อมูลด้านสุขภาพ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LilyDSE"/>
                <a:ea typeface="LilyUPC"/>
              </a:rPr>
              <a:t>         </a:t>
            </a:r>
            <a:r>
              <a:rPr b="1" lang="th-TH" sz="4000" spc="-1" strike="noStrike">
                <a:solidFill>
                  <a:srgbClr val="ffffff"/>
                </a:solidFill>
                <a:latin typeface="LilyDSE"/>
                <a:cs typeface="LilyUPC"/>
              </a:rPr>
              <a:t>ของบุคคลที่ไม่ใช่ของตนตามมาตรา </a:t>
            </a:r>
            <a:r>
              <a:rPr b="1" lang="th-TH" sz="4000" spc="-1" strike="noStrike">
                <a:solidFill>
                  <a:srgbClr val="ffffff"/>
                </a:solidFill>
                <a:latin typeface="LilyDSE"/>
                <a:ea typeface="LilyUPC"/>
              </a:rPr>
              <a:t>7 </a:t>
            </a:r>
            <a:r>
              <a:rPr b="1" lang="th-TH" sz="4000" spc="-1" strike="noStrike">
                <a:solidFill>
                  <a:srgbClr val="ffffff"/>
                </a:solidFill>
                <a:latin typeface="LilyDSE"/>
                <a:cs typeface="LilyUPC"/>
              </a:rPr>
              <a:t>เพื่อ</a:t>
            </a:r>
            <a:r>
              <a:rPr b="1" lang="th-TH" sz="4000" spc="-1" strike="noStrike">
                <a:solidFill>
                  <a:srgbClr val="ffffff"/>
                </a:solidFill>
                <a:latin typeface="LilyDSE"/>
                <a:ea typeface="LilyUPC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LilyDSE"/>
                <a:ea typeface="LilyUPC"/>
              </a:rPr>
              <a:t>            </a:t>
            </a:r>
            <a:r>
              <a:rPr b="1" lang="th-TH" sz="4000" spc="-1" strike="noStrike">
                <a:solidFill>
                  <a:srgbClr val="ffffff"/>
                </a:solidFill>
                <a:latin typeface="LilyDSE"/>
                <a:ea typeface="LilyUPC"/>
              </a:rPr>
              <a:t>1. </a:t>
            </a:r>
            <a:r>
              <a:rPr b="1" lang="th-TH" sz="4000" spc="-1" strike="noStrike">
                <a:solidFill>
                  <a:srgbClr val="ffffff"/>
                </a:solidFill>
                <a:latin typeface="LilyDSE"/>
                <a:cs typeface="LilyUPC"/>
              </a:rPr>
              <a:t>ประโยชน์ของเจ้าของข้อมูล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LilyDSE"/>
                <a:ea typeface="LilyUPC"/>
              </a:rPr>
              <a:t>            </a:t>
            </a:r>
            <a:r>
              <a:rPr b="1" lang="th-TH" sz="4000" spc="-1" strike="noStrike">
                <a:solidFill>
                  <a:srgbClr val="ffffff"/>
                </a:solidFill>
                <a:latin typeface="LilyDSE"/>
                <a:ea typeface="LilyUPC"/>
              </a:rPr>
              <a:t>2. </a:t>
            </a:r>
            <a:r>
              <a:rPr b="1" lang="th-TH" sz="4000" spc="-1" strike="noStrike">
                <a:solidFill>
                  <a:srgbClr val="ffffff"/>
                </a:solidFill>
                <a:latin typeface="LilyDSE"/>
                <a:cs typeface="LilyUPC"/>
              </a:rPr>
              <a:t>ประโยชน์สาธารณะ               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611280" y="189000"/>
            <a:ext cx="8064360" cy="792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พ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ร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บ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สุขภาพแห่งชาติ พ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ศ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. 2550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971640" y="4797360"/>
            <a:ext cx="6913440" cy="719280"/>
          </a:xfrm>
          <a:prstGeom prst="rect">
            <a:avLst/>
          </a:prstGeom>
          <a:solidFill>
            <a:srgbClr val="00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ย่อมให้ได้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.....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เป็นความเห็นส่วนตัว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16240" y="1027080"/>
            <a:ext cx="142740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Times New Roman"/>
                <a:ea typeface="KodchiangUPC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KodchiangUP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755640" y="3933720"/>
            <a:ext cx="3309840" cy="647640"/>
          </a:xfrm>
          <a:prstGeom prst="rect">
            <a:avLst/>
          </a:prstGeom>
          <a:solidFill>
            <a:srgbClr val="ffe8d1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risten ITC"/>
              </a:rPr>
              <a:t>ได้ใจผู้บังคับบัญชา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788000" y="1700280"/>
            <a:ext cx="3529080" cy="64908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หลักธรรมาภิบาล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476360" y="476280"/>
            <a:ext cx="5904000" cy="720720"/>
          </a:xfrm>
          <a:prstGeom prst="rect">
            <a:avLst/>
          </a:prstGeom>
          <a:solidFill>
            <a:srgbClr val="0033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การปฏิบัติราชการ</a:t>
            </a:r>
            <a:endParaRPr b="1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843280" y="2637000"/>
            <a:ext cx="3313080" cy="863280"/>
          </a:xfrm>
          <a:prstGeom prst="rect">
            <a:avLst/>
          </a:prstGeom>
          <a:solidFill>
            <a:srgbClr val="0033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ผลสำเร็จของงาน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4788000" y="3933720"/>
            <a:ext cx="3313080" cy="647640"/>
          </a:xfrm>
          <a:prstGeom prst="rect">
            <a:avLst/>
          </a:prstGeom>
          <a:solidFill>
            <a:srgbClr val="ffe8d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ได้ใจผู้ใต้บังคับบัญชา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755640" y="1700280"/>
            <a:ext cx="3313080" cy="64908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ถูกกฎหมาย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ระเบียบ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4427640" y="1197000"/>
            <a:ext cx="0" cy="1440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4067280" y="198900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4067280" y="429264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1619280" y="5084640"/>
            <a:ext cx="5472000" cy="576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ประชาชน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เจ้าหน้าที่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รัฐ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... 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" name="Line 14"/>
          <p:cNvSpPr/>
          <p:nvPr/>
        </p:nvSpPr>
        <p:spPr>
          <a:xfrm>
            <a:off x="4427640" y="3500280"/>
            <a:ext cx="0" cy="158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971640" y="2637000"/>
            <a:ext cx="1728720" cy="86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การคิด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นอกกรอบ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6300720" y="2637000"/>
            <a:ext cx="1800360" cy="865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การบริหาร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งานบุคคล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" name="AutoShape 17"/>
          <p:cNvSpPr/>
          <p:nvPr/>
        </p:nvSpPr>
        <p:spPr>
          <a:xfrm rot="20772600">
            <a:off x="323640" y="2212920"/>
            <a:ext cx="504720" cy="1214640"/>
          </a:xfrm>
          <a:custGeom>
            <a:avLst/>
            <a:gdLst>
              <a:gd name="textAreaLeft" fmla="*/ 67320 w 504720"/>
              <a:gd name="textAreaRight" fmla="*/ 437400 w 504720"/>
              <a:gd name="textAreaTop" fmla="*/ 214920 h 1214640"/>
              <a:gd name="textAreaBottom" fmla="*/ 86904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44" stAng="-5400000" swAng="-5400000"/>
                <a:lnTo>
                  <a:pt x="0" y="11630"/>
                </a:lnTo>
                <a:arcTo wR="21600" hR="7644" stAng="10800000" swAng="-3397060"/>
                <a:lnTo>
                  <a:pt x="16695" y="21400"/>
                </a:lnTo>
                <a:lnTo>
                  <a:pt x="21600" y="17280"/>
                </a:lnTo>
                <a:lnTo>
                  <a:pt x="16695" y="12760"/>
                </a:lnTo>
                <a:lnTo>
                  <a:pt x="16695" y="15087"/>
                </a:lnTo>
                <a:arcTo wR="21600" hR="7644" stAng="7402940" swAng="3069493"/>
                <a:lnTo>
                  <a:pt x="747" y="9637"/>
                </a:lnTo>
                <a:arcTo wR="21600" hR="7644" stAng="-10472434" swAng="5072434"/>
                <a:close/>
              </a:path>
              <a:path fill="darkenLess" w="21600" h="21600">
                <a:moveTo>
                  <a:pt x="21600" y="0"/>
                </a:moveTo>
                <a:arcTo wR="21600" hR="7644" stAng="-5400000" swAng="-5400000"/>
                <a:lnTo>
                  <a:pt x="0" y="7644"/>
                </a:lnTo>
                <a:arcTo wR="21600" hR="7644" stAng="10800000" swAng="-327566"/>
                <a:lnTo>
                  <a:pt x="747" y="9637"/>
                </a:lnTo>
                <a:arcTo wR="21600" hR="7644" stAng="-10472434" swAng="5072434"/>
                <a:close/>
              </a:path>
            </a:pathLst>
          </a:cu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6" name="AutoShape 18"/>
          <p:cNvSpPr/>
          <p:nvPr/>
        </p:nvSpPr>
        <p:spPr>
          <a:xfrm rot="864000">
            <a:off x="8229600" y="2120760"/>
            <a:ext cx="577800" cy="1306800"/>
          </a:xfrm>
          <a:custGeom>
            <a:avLst/>
            <a:gdLst>
              <a:gd name="textAreaLeft" fmla="*/ 77400 w 577800"/>
              <a:gd name="textAreaRight" fmla="*/ 500400 w 577800"/>
              <a:gd name="textAreaTop" fmla="*/ 228600 h 1306800"/>
              <a:gd name="textAreaBottom" fmla="*/ 947520 h 130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5292720" y="5157720"/>
            <a:ext cx="1800360" cy="432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พึงพอใจ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0" lang="th-TH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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th-TH" sz="4400" spc="-1" strike="noStrike" u="sng">
                <a:solidFill>
                  <a:srgbClr val="ffffff"/>
                </a:solidFill>
                <a:uFillTx/>
                <a:latin typeface="Angsana New"/>
                <a:cs typeface="LilyUPC"/>
              </a:rPr>
              <a:t>วัตถุประสงค์ของกฎหมาย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</a:t>
            </a:r>
            <a:r>
              <a:rPr b="1" lang="th-TH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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LilyUPC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LilyUPC"/>
              </a:rPr>
              <a:t>บัญญัติออกมาเพื่อ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  <a:ea typeface="LilyUPC"/>
              </a:rPr>
              <a:t>1.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  <a:cs typeface="LilyUPC"/>
              </a:rPr>
              <a:t>ป้องกันมิให้ราชการเสียหาย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</a:t>
            </a:r>
            <a:r>
              <a:rPr b="1" lang="th-TH" sz="4000" spc="-1" strike="noStrike">
                <a:solidFill>
                  <a:srgbClr val="00ff00"/>
                </a:solidFill>
                <a:latin typeface="Angsana New"/>
                <a:ea typeface="LilyUPC"/>
              </a:rPr>
              <a:t>2. </a:t>
            </a:r>
            <a:r>
              <a:rPr b="1" lang="th-TH" sz="4000" spc="-1" strike="noStrike">
                <a:solidFill>
                  <a:srgbClr val="00ff00"/>
                </a:solidFill>
                <a:latin typeface="Angsana New"/>
                <a:cs typeface="LilyUPC"/>
              </a:rPr>
              <a:t>ความเจริญก้าวหน้าของทางราชการ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ea typeface="LilyUPC"/>
              </a:rPr>
              <a:t>3. 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cs typeface="LilyUPC"/>
              </a:rPr>
              <a:t>ให้ความเป็นธรรมแก่ประชาชน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ea typeface="LilyUPC"/>
              </a:rPr>
              <a:t>, 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cs typeface="LilyUPC"/>
              </a:rPr>
              <a:t>เจ้าหน้าที่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ffff"/>
                </a:solidFill>
                <a:latin typeface="Angsana New"/>
                <a:ea typeface="LilyUPC"/>
              </a:rPr>
              <a:t>                  </a:t>
            </a:r>
            <a:r>
              <a:rPr b="1" lang="th-TH" sz="4000" spc="-1" strike="noStrike">
                <a:solidFill>
                  <a:srgbClr val="ffecd9"/>
                </a:solidFill>
                <a:latin typeface="Angsana New"/>
                <a:ea typeface="LilyUPC"/>
              </a:rPr>
              <a:t>4. </a:t>
            </a:r>
            <a:r>
              <a:rPr b="1" lang="th-TH" sz="4000" spc="-1" strike="noStrike">
                <a:solidFill>
                  <a:srgbClr val="ffecd9"/>
                </a:solidFill>
                <a:latin typeface="Angsana New"/>
                <a:cs typeface="LilyUPC"/>
              </a:rPr>
              <a:t>ความสงบสุขของสังคมนั้นๆ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380360" y="11520"/>
            <a:ext cx="1077840" cy="31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</a:t>
            </a:r>
            <a:r>
              <a:rPr b="1" i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กรณีแพ้ยา </a:t>
            </a:r>
            <a:r>
              <a:rPr b="1" i="1" lang="en-US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: </a:t>
            </a:r>
            <a:r>
              <a:rPr b="1" i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สตีเวนส์จอห์นสันซินโดรม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ngsana New"/>
                <a:cs typeface="LilyUPC"/>
              </a:rPr>
              <a:t>ข้อเท็จจริงโดยสรุป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1.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โจทก์ ไปรักษาอาการไข้ เจ็บคอ กับนายแพทย์ ส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ที่คลินิก เมื่อ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25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ต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ค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 42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1.1 -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ฉีดยาให้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1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เข็ม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ให้ยารับประทา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1.2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มีรอยไหม้บริเวณของใต้แขน แสบระคายเคืองตา น้ำตา                 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ออกริมฝีปากฟุพอง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2.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วันรุ่งขึ้น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26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ต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ค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42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เวลา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16.00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น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ได้ไปรักษาที่ ร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พ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ของราชการ                    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39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กับ  น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พ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พ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,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ช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ให้ยาลดไข้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,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ทายาแผลในป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ยาหยอดตา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,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ให้กลับบ้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แน่นหน้าออก อาเจียนออกเป็นเลือด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235640" y="281160"/>
            <a:ext cx="12222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3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นาง ด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ไปโรงพยาบาลอีกในวันนั้น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(26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ต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ค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.42)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เวลา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22.00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น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3.1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นพ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ช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แจ้งว่าโจทก์แพ้ยาที่ นพ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ส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ให้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1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ให้น้ำเกลือ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/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คอเฟมิลามินหรือ ซี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พี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เอ็ม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2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ส่งแพทย์เวร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3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ให้รอพบ นพ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ส แพทย์เวร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ที่รักษาที่คลินิก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)                                       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ในวันรุ่งขึ้น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27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ต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ค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 42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เวลา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8.30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น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</a:t>
            </a:r>
            <a:r>
              <a:rPr b="1" i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ประเด็นที่ศาลนำมาพิจารณา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1.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อายุความ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2.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ไม่รับไว้ในคราวแรกที่มาโรงพยาบาล ซึ่งน่าจะทราบแล้วจึงเป็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อาการโรค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  <a:ea typeface="LilyUPC"/>
              </a:rPr>
              <a:t>“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สตีเวนส์จอห์นสันซินโดม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  <a:ea typeface="LilyUPC"/>
              </a:rPr>
              <a:t>”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แต่ให้กลับบ้า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3.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เมื่อรับไว้แล้ว ยังไม่ให้การรักษาในทันที ต้องรอแพทย์เวร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เจ้าของไข้ที่คลินิก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ในวันรุ่งขึ้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4.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ไม่ให้ยากลุ่มสเตอร์รอยรักษาภายในเวลาวันสมควร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KodchiangUPC"/>
                <a:cs typeface="LilyUPC"/>
              </a:rPr>
              <a:t>หลักคุณธรรมทางกฎหมาย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ุณธรรมทางกฎหมาย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: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ือสิ่งที่กฎหมายประสงค์   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จะคุ้มครอง  ซึ่งพิจารณาได้จากความผิดฐานนั้นๆว่า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กฎหมายจะคุ้มครองอะไร ดังนั้นกฎหมายทุกฉบับ จึงมี    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ุณธรรมทางกฎหมาย เช่น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  <a:ea typeface="LilyUPC"/>
              </a:rPr>
              <a:t>…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กฎหมายอาญา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1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วามผิดฐานฆ่าผู้อื่น คือ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  <a:ea typeface="LilyUPC"/>
              </a:rPr>
              <a:t>“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ชีวิตมนุษย์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  <a:ea typeface="LilyUPC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2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วามผิดฐานทำให้แท้งลูก คือ               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  <a:ea typeface="LilyUPC"/>
              </a:rPr>
              <a:t>“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ชีวิตในครรภ์มารดา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  <a:ea typeface="LilyUPC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3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วามผิดฐานทำร้ายร่างกาย คือ            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  <a:ea typeface="LilyUPC"/>
              </a:rPr>
              <a:t>“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วามปลอดภัยของร่างกาย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  <a:ea typeface="LilyUPC"/>
              </a:rPr>
              <a:t>”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KodchiangUPC"/>
                <a:cs typeface="LilyUPC"/>
              </a:rPr>
              <a:t>การชั่งน้ำหนัก </a:t>
            </a:r>
            <a:r>
              <a:rPr b="1" lang="en-US" sz="4800" spc="-1" strike="noStrike">
                <a:solidFill>
                  <a:srgbClr val="ffffff"/>
                </a:solidFill>
                <a:latin typeface="KodchiangUPC"/>
                <a:ea typeface="LilyUPC"/>
              </a:rPr>
              <a:t>: </a:t>
            </a:r>
            <a:r>
              <a:rPr b="1" lang="th-TH" sz="4800" spc="-1" strike="noStrike">
                <a:solidFill>
                  <a:srgbClr val="ffffff"/>
                </a:solidFill>
                <a:latin typeface="KodchiangUPC"/>
                <a:cs typeface="LilyUPC"/>
              </a:rPr>
              <a:t>คุณธรรมทางกฎหมาย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04920" y="1295280"/>
            <a:ext cx="6788160" cy="76212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KodchiangUPC"/>
              </a:rPr>
              <a:t>1. </a:t>
            </a:r>
            <a:r>
              <a:rPr b="1" lang="th-TH" sz="4400" spc="-1" strike="noStrike">
                <a:solidFill>
                  <a:srgbClr val="ffffff"/>
                </a:solidFill>
                <a:latin typeface="KodchiangUPC"/>
              </a:rPr>
              <a:t>มีหน้าที่ต้องปฏิบัติหลายอย่าง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33520" y="2209680"/>
            <a:ext cx="6846840" cy="762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KodchiangUPC"/>
              </a:rPr>
              <a:t>2. </a:t>
            </a:r>
            <a:r>
              <a:rPr b="1" lang="th-TH" sz="4400" spc="-1" strike="noStrike">
                <a:solidFill>
                  <a:srgbClr val="ffff00"/>
                </a:solidFill>
                <a:latin typeface="KodchiangUPC"/>
              </a:rPr>
              <a:t>ต้องรีบปฏิบัติหน้าที่นั้นโดยด่วน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900000" y="3141720"/>
            <a:ext cx="6829560" cy="8380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KodchiangUPC"/>
              </a:rPr>
              <a:t>3. </a:t>
            </a:r>
            <a:r>
              <a:rPr b="1" lang="th-TH" sz="4400" spc="-1" strike="noStrike">
                <a:solidFill>
                  <a:srgbClr val="ffffff"/>
                </a:solidFill>
                <a:latin typeface="KodchiangUPC"/>
              </a:rPr>
              <a:t>ไม่อาจปฏิบัติหน้าที่ได้ครบทุกอย่าง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143000" y="4114800"/>
            <a:ext cx="6742080" cy="762120"/>
          </a:xfrm>
          <a:prstGeom prst="rect">
            <a:avLst/>
          </a:prstGeom>
          <a:solidFill>
            <a:srgbClr val="00484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KodchiangUPC"/>
              </a:rPr>
              <a:t>4. </a:t>
            </a:r>
            <a:r>
              <a:rPr b="1" lang="th-TH" sz="4400" spc="-1" strike="noStrike">
                <a:solidFill>
                  <a:srgbClr val="ffff00"/>
                </a:solidFill>
                <a:latin typeface="KodchiangUPC"/>
              </a:rPr>
              <a:t>ได้เลือกปฏิบัติหน้าที่ ที่สำคัญก่อน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332000" y="5029200"/>
            <a:ext cx="6769080" cy="762120"/>
          </a:xfrm>
          <a:prstGeom prst="rect">
            <a:avLst/>
          </a:prstGeom>
          <a:solidFill>
            <a:srgbClr val="3e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KodchiangUPC"/>
              </a:rPr>
              <a:t>5. </a:t>
            </a:r>
            <a:r>
              <a:rPr b="1" lang="th-TH" sz="4400" spc="-1" strike="noStrike">
                <a:solidFill>
                  <a:srgbClr val="ffffff"/>
                </a:solidFill>
                <a:latin typeface="KodchiangUPC"/>
              </a:rPr>
              <a:t>เมื่อเกิดความเสียหาย ไม่ต้องรับผิด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7120" y="1066680"/>
            <a:ext cx="762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ผู้ป่วย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2844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KodchiangUPC"/>
              </a:rPr>
              <a:t>ตัวอย่าง กรณีต้องชั่งน้ำหนักคุณธรรมทางกฎหมาย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826920" y="1628640"/>
            <a:ext cx="7632720" cy="15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      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1.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กรณีพยาบาลสั่ง</a:t>
            </a:r>
            <a:r>
              <a:rPr b="1" lang="en-US" sz="40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Refer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ผู้ป่วย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            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และรถ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Refer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เกิดอุบัติเหตุ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826920" y="3716280"/>
            <a:ext cx="7561440" cy="15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            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2.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กรณีแพทย์ไม่มารักษาผู้ป่วย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                 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และผู้ป่วยแพ้ยา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Times New Roman"/>
                <a:cs typeface="LilyUPC"/>
              </a:rPr>
              <a:t>หลักความยินยอม</a:t>
            </a: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Times New Roman"/>
                <a:cs typeface="LilyUPC"/>
              </a:rPr>
              <a:t>ความยินยอมประมวลกฎหมายแพ่งและพาณิชย์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	</a:t>
            </a:r>
            <a:r>
              <a:rPr b="0" lang="th-TH" sz="66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  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LilyUPC"/>
              </a:rPr>
              <a:t>มาตรา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LilyUPC"/>
              </a:rPr>
              <a:t>373 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LilyUPC"/>
              </a:rPr>
              <a:t>ความตกลงทำไว้ล่วงหน้า                   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LilyUPC"/>
              </a:rPr>
              <a:t> เป็นข้อความยกเว้น     มิให้ลูกหนี้ต้องรับผิด                 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LilyUPC"/>
              </a:rPr>
              <a:t>เพื่อกลฉ้อฉล   หรือ   ประมาทเลินเล่ออย่าง                 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LilyUPC"/>
              </a:rPr>
              <a:t>ร้ายแรงของตนนั้น  ท่านว่าเป็นโมฆะ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Times New Roman"/>
                <a:cs typeface="LilyUPC"/>
              </a:rPr>
              <a:t>หลักความยินยอม</a:t>
            </a:r>
            <a:br>
              <a:rPr sz="4800"/>
            </a:br>
            <a:r>
              <a:rPr b="1" lang="th-TH" sz="4400" spc="-1" strike="noStrike">
                <a:solidFill>
                  <a:srgbClr val="ffffff"/>
                </a:solidFill>
                <a:latin typeface="Times New Roman"/>
                <a:cs typeface="LilyUPC"/>
              </a:rPr>
              <a:t>พ</a:t>
            </a:r>
            <a:r>
              <a:rPr b="1" lang="th-TH" sz="4400" spc="-1" strike="noStrike">
                <a:solidFill>
                  <a:srgbClr val="ffffff"/>
                </a:solidFill>
                <a:latin typeface="Times New Roman"/>
                <a:ea typeface="LilyUPC"/>
              </a:rPr>
              <a:t>.</a:t>
            </a:r>
            <a:r>
              <a:rPr b="1" lang="th-TH" sz="4400" spc="-1" strike="noStrike">
                <a:solidFill>
                  <a:srgbClr val="ffffff"/>
                </a:solidFill>
                <a:latin typeface="Times New Roman"/>
                <a:cs typeface="LilyUPC"/>
              </a:rPr>
              <a:t>ร</a:t>
            </a:r>
            <a:r>
              <a:rPr b="1" lang="th-TH" sz="4400" spc="-1" strike="noStrike">
                <a:solidFill>
                  <a:srgbClr val="ffffff"/>
                </a:solidFill>
                <a:latin typeface="Times New Roman"/>
                <a:ea typeface="LilyUPC"/>
              </a:rPr>
              <a:t>.</a:t>
            </a:r>
            <a:r>
              <a:rPr b="1" lang="th-TH" sz="4400" spc="-1" strike="noStrike">
                <a:solidFill>
                  <a:srgbClr val="ffffff"/>
                </a:solidFill>
                <a:latin typeface="Times New Roman"/>
                <a:cs typeface="LilyUPC"/>
              </a:rPr>
              <a:t>บ</a:t>
            </a:r>
            <a:r>
              <a:rPr b="1" lang="th-TH" sz="4400" spc="-1" strike="noStrike">
                <a:solidFill>
                  <a:srgbClr val="ffffff"/>
                </a:solidFill>
                <a:latin typeface="Times New Roman"/>
                <a:ea typeface="LilyUPC"/>
              </a:rPr>
              <a:t>.</a:t>
            </a:r>
            <a:r>
              <a:rPr b="1" lang="th-TH" sz="4400" spc="-1" strike="noStrike">
                <a:solidFill>
                  <a:srgbClr val="ffffff"/>
                </a:solidFill>
                <a:latin typeface="Times New Roman"/>
                <a:cs typeface="LilyUPC"/>
              </a:rPr>
              <a:t>ว่าด้วยข้อสัญญาที่ไม่เป็นธรรม พ</a:t>
            </a:r>
            <a:r>
              <a:rPr b="1" lang="th-TH" sz="4400" spc="-1" strike="noStrike">
                <a:solidFill>
                  <a:srgbClr val="ffffff"/>
                </a:solidFill>
                <a:latin typeface="Times New Roman"/>
                <a:ea typeface="LilyUPC"/>
              </a:rPr>
              <a:t>.</a:t>
            </a:r>
            <a:r>
              <a:rPr b="1" lang="th-TH" sz="4400" spc="-1" strike="noStrike">
                <a:solidFill>
                  <a:srgbClr val="ffffff"/>
                </a:solidFill>
                <a:latin typeface="Times New Roman"/>
                <a:cs typeface="LilyUPC"/>
              </a:rPr>
              <a:t>ศ</a:t>
            </a:r>
            <a:r>
              <a:rPr b="1" lang="th-TH" sz="4400" spc="-1" strike="noStrike">
                <a:solidFill>
                  <a:srgbClr val="ffffff"/>
                </a:solidFill>
                <a:latin typeface="Times New Roman"/>
                <a:ea typeface="LilyUPC"/>
              </a:rPr>
              <a:t>. 2540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	</a:t>
            </a:r>
            <a:r>
              <a:rPr b="0" lang="th-TH" sz="66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  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LilyUPC"/>
              </a:rPr>
              <a:t>มาตรา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LilyUPC"/>
              </a:rPr>
              <a:t>9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LilyUPC"/>
              </a:rPr>
              <a:t>ความตกลงหรือความยินยอมของผู้                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LilyUPC"/>
              </a:rPr>
              <a:t>เสียหาย สำหรับการกระทำที่ต้องห้ามโดยชัดแจ้ง  โดย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LilyUPC"/>
              </a:rPr>
              <a:t>กฎหมาย หรือขัดต่อความสงบเรียบร้อย หรือศีลธรรม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LilyUPC"/>
              </a:rPr>
              <a:t>อันดีของประชาชน จะนำมาอ้างเป็นเหตุยกเว้น หรือจำกัด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LilyUPC"/>
              </a:rPr>
              <a:t>ความรับผิดเพื่อละเมิดมิได้              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81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81320" y="97920"/>
            <a:ext cx="167652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1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ต้องไม่ขัดต่อกฎหมาย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2.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ต้องไม่ขัดต่อความสงบเรียบร้อย หรือ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ศีลธรรมอันดีของประชาช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3.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การรักษาพยาบาล มิใช่การทำนิติกรรมสัญญา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4.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การให้ความยินยอมโดยปริยาย ในการรักษาพยาบาล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5.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การให้ความยินยอมกรณีผู้ป่วยระยะสุดท้า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6.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กรณีผู้ป่วยไม่ให้ความยินยอมรักษา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   </a:t>
            </a:r>
            <a:r>
              <a:rPr b="1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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อาจผิดอาญาฐานทำร้ายร่างกาย ม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.295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  </a:t>
            </a:r>
            <a:r>
              <a:rPr b="1" lang="th-TH" sz="28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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อาจผิดอาญาฐานข่มขืนใจผู้อื่น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ผิดต่อเสรีภาพ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  </a:t>
            </a:r>
            <a:r>
              <a:rPr b="1" lang="th-TH" sz="28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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อาจมีความรับผิดทางแพ่ง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880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KodchiangUPC"/>
              </a:rPr>
              <a:t>ความยินยอม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732720" y="1125360"/>
            <a:ext cx="201600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รูปแบบการให้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ความยินยอม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48360" y="1483920"/>
            <a:ext cx="150984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41200"/>
          </a:solidFill>
          <a:ln w="381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  <a:ea typeface="KodchiangUPC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  <a:ea typeface="KodchiangUPC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KodchiangUPC"/>
              </a:rPr>
              <a:t>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KodchiangUPC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KodchiangUPC"/>
              </a:rPr>
              <a:t>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KodchiangUPC"/>
              </a:rPr>
              <a:t>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258920" y="549360"/>
            <a:ext cx="7345440" cy="792000"/>
          </a:xfrm>
          <a:prstGeom prst="rect">
            <a:avLst/>
          </a:prstGeom>
          <a:solidFill>
            <a:srgbClr val="66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ความรับผิดของบุคลากรทางการพยาบาล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79280" y="3284640"/>
            <a:ext cx="3853080" cy="71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Angsana New"/>
              </a:rPr>
              <a:t>3.</a:t>
            </a:r>
            <a:r>
              <a:rPr b="1" lang="th-TH" sz="3400" spc="-1" strike="noStrike">
                <a:solidFill>
                  <a:srgbClr val="000000"/>
                </a:solidFill>
                <a:latin typeface="Angsana New"/>
              </a:rPr>
              <a:t>ความรับผิดทางละเมิด</a:t>
            </a:r>
            <a:r>
              <a:rPr b="1" lang="th-TH" sz="3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3400" spc="-1" strike="noStrike">
                <a:solidFill>
                  <a:srgbClr val="000000"/>
                </a:solidFill>
                <a:latin typeface="Angsana New"/>
              </a:rPr>
              <a:t>แพ่ง</a:t>
            </a:r>
            <a:endParaRPr b="1" lang="en-US" sz="3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468360" y="1989000"/>
            <a:ext cx="360036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1.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ความรับผิด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ทาง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วินัย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643280" y="3284640"/>
            <a:ext cx="4321440" cy="72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4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ความรับผิดทางอาญา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4572000" y="1989000"/>
            <a:ext cx="432108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Angsana New"/>
              </a:rPr>
              <a:t>2.</a:t>
            </a:r>
            <a:r>
              <a:rPr b="1" lang="th-TH" sz="3400" spc="-1" strike="noStrike">
                <a:solidFill>
                  <a:srgbClr val="000000"/>
                </a:solidFill>
                <a:latin typeface="Angsana New"/>
              </a:rPr>
              <a:t>ความรับผิดทางกฎหมายวิชาชีพ</a:t>
            </a:r>
            <a:endParaRPr b="1" lang="en-US" sz="3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4356000" y="1341360"/>
            <a:ext cx="0" cy="316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4067280" y="2349360"/>
            <a:ext cx="5760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4067280" y="3645000"/>
            <a:ext cx="5760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684360" y="4508640"/>
            <a:ext cx="7488000" cy="100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5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ความรับผิดตามกฎหมายอื่นๆ เช่น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.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กฎหมายปกครอง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,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สุขภาพแห่งชาติ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,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หลักประกันสุขภาพฯ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006600"/>
                </a:solidFill>
                <a:latin typeface="Angsana New"/>
                <a:ea typeface="LilyUPC"/>
              </a:rPr>
              <a:t>    </a:t>
            </a:r>
            <a:r>
              <a:rPr b="1" lang="th-TH" sz="6000" spc="-1" strike="noStrike">
                <a:solidFill>
                  <a:srgbClr val="006600"/>
                </a:solidFill>
                <a:latin typeface="Angsana New"/>
                <a:cs typeface="LilyUPC"/>
              </a:rPr>
              <a:t>เรื่อง กฎหมายที่เกี่ยวข้องกับบุคลากร 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6600"/>
                </a:solidFill>
                <a:latin typeface="Angsana New"/>
                <a:ea typeface="LilyUPC"/>
              </a:rPr>
              <a:t>          </a:t>
            </a:r>
            <a:r>
              <a:rPr b="1" lang="th-TH" sz="6000" spc="-1" strike="noStrike">
                <a:solidFill>
                  <a:srgbClr val="006600"/>
                </a:solidFill>
                <a:latin typeface="Angsana New"/>
                <a:cs typeface="LilyUPC"/>
              </a:rPr>
              <a:t>ทางการแพทย์และสาธารณสุข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99"/>
                </a:solidFill>
                <a:latin typeface="Angsana New"/>
                <a:ea typeface="LilyUPC"/>
              </a:rPr>
              <a:t>         </a:t>
            </a:r>
            <a:r>
              <a:rPr b="1" lang="th-TH" sz="5400" spc="-1" strike="noStrike">
                <a:solidFill>
                  <a:srgbClr val="000099"/>
                </a:solidFill>
                <a:latin typeface="Angsana New"/>
                <a:cs typeface="LilyUPC"/>
              </a:rPr>
              <a:t>เรื่อง  ปัญหาบุคลากรทางการแพทย์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99"/>
                </a:solidFill>
                <a:latin typeface="Angsana New"/>
                <a:ea typeface="LilyUPC"/>
              </a:rPr>
              <a:t>      </a:t>
            </a:r>
            <a:r>
              <a:rPr b="1" lang="th-TH" sz="5400" spc="-1" strike="noStrike">
                <a:solidFill>
                  <a:srgbClr val="000099"/>
                </a:solidFill>
                <a:latin typeface="Angsana New"/>
                <a:cs typeface="LilyUPC"/>
              </a:rPr>
              <a:t>ถูกร้องเรียน ถูกฟ้องคดี และแนวทางแก้ไข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948360" y="352080"/>
            <a:ext cx="150984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41200"/>
          </a:solidFill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KodchiangUPC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KodchiangUPC"/>
              </a:rPr>
              <a:t>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KodchiangUPC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KodchiangUP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076720" y="765000"/>
            <a:ext cx="3743280" cy="4176720"/>
          </a:xfrm>
          <a:prstGeom prst="rect">
            <a:avLst/>
          </a:prstGeom>
          <a:solidFill>
            <a:srgbClr val="dddddd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2. </a:t>
            </a:r>
            <a:r>
              <a:rPr b="1" lang="th-TH" sz="3600" spc="-1" strike="noStrike" u="sng">
                <a:solidFill>
                  <a:srgbClr val="000000"/>
                </a:solidFill>
                <a:uFillTx/>
                <a:latin typeface="Angsana New"/>
              </a:rPr>
              <a:t>ความรับผิดตาม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1" lang="th-TH" sz="3600" spc="-1" strike="noStrike" u="sng">
                <a:solidFill>
                  <a:srgbClr val="000000"/>
                </a:solidFill>
                <a:uFillTx/>
                <a:latin typeface="Angsana New"/>
              </a:rPr>
              <a:t>กฎหมายวิชาชีพ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1)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่ากล่าวตักเตือน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2)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ภาคทัณฑ์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3)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พักใช้ใบอนุญาต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4)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พิกถอนใบอนุญาต</a:t>
            </a:r>
            <a:r>
              <a:rPr b="1" lang="th-TH" sz="34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611280" y="765000"/>
            <a:ext cx="3673440" cy="417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1. </a:t>
            </a:r>
            <a:r>
              <a:rPr b="1" lang="th-TH" sz="3600" spc="-1" strike="noStrike" u="sng">
                <a:solidFill>
                  <a:srgbClr val="000000"/>
                </a:solidFill>
                <a:uFillTx/>
                <a:latin typeface="Angsana New"/>
              </a:rPr>
              <a:t>ความรับผิดทางวินัย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1)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ภาคทัณฑ์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2)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ตัดเงินเดือน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3)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ลดเงินเดือน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4)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ปลดออก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5)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ไล่ออก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3059280" y="1700280"/>
            <a:ext cx="2520720" cy="93672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96360" y="-597960"/>
            <a:ext cx="861840" cy="43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24000" y="476280"/>
            <a:ext cx="4465440" cy="417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3. </a:t>
            </a:r>
            <a:r>
              <a:rPr b="1" lang="th-TH" sz="3600" spc="-1" strike="noStrike" u="sng">
                <a:solidFill>
                  <a:srgbClr val="000000"/>
                </a:solidFill>
                <a:uFillTx/>
                <a:latin typeface="Angsana New"/>
              </a:rPr>
              <a:t>ความรับผิดทางแพ่ง</a:t>
            </a:r>
            <a:r>
              <a:rPr b="1" lang="th-TH" sz="3600" spc="-1" strike="noStrike" u="sng">
                <a:solidFill>
                  <a:srgbClr val="000000"/>
                </a:solidFill>
                <a:uFillTx/>
                <a:latin typeface="Angsana New"/>
              </a:rPr>
              <a:t>(</a:t>
            </a:r>
            <a:r>
              <a:rPr b="1" lang="th-TH" sz="3600" spc="-1" strike="noStrike" u="sng">
                <a:solidFill>
                  <a:srgbClr val="000000"/>
                </a:solidFill>
                <a:uFillTx/>
                <a:latin typeface="Angsana New"/>
              </a:rPr>
              <a:t>ละเมิด</a:t>
            </a:r>
            <a:r>
              <a:rPr b="1" lang="th-TH" sz="3600" spc="-1" strike="noStrike" u="sng">
                <a:solidFill>
                  <a:srgbClr val="000000"/>
                </a:solidFill>
                <a:uFillTx/>
                <a:latin typeface="Angsana New"/>
              </a:rPr>
              <a:t>)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1" lang="th-TH" sz="3600" spc="-1" strike="noStrike" u="sng">
                <a:solidFill>
                  <a:srgbClr val="000000"/>
                </a:solidFill>
                <a:uFillTx/>
                <a:latin typeface="Angsana New"/>
              </a:rPr>
              <a:t>คือการชดใช้ค่าสินไหมทดแทน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1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การคืนทรัพย์</a:t>
            </a:r>
            <a:endParaRPr b="1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2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การใช้ราคาทรัพย์สิน</a:t>
            </a:r>
            <a:endParaRPr b="1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3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ค่าเสียหาย อันจะพึงบังคับ</a:t>
            </a:r>
            <a:endParaRPr b="1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ให้ใช้เพื่อความเสียหายใดๆ</a:t>
            </a:r>
            <a:endParaRPr b="1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อันได้ก่อขึ้น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ดุลพินิจของศาล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5076720" y="476280"/>
            <a:ext cx="3672000" cy="417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4. </a:t>
            </a:r>
            <a:r>
              <a:rPr b="1" lang="th-TH" sz="3600" spc="-1" strike="noStrike" u="sng">
                <a:solidFill>
                  <a:srgbClr val="000000"/>
                </a:solidFill>
                <a:uFillTx/>
                <a:latin typeface="Angsana New"/>
              </a:rPr>
              <a:t>ความรับผิดทางอาญา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1)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ประหารชีวิต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2)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จำคุก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3)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กักขัง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4)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ปรับ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5)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ริบทรัพย์สิน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33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KodchiangUPC"/>
              </a:rPr>
              <a:t>กฎหมายที่เกี่ยวข้องกับพยาบาลฯ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179280" y="1557360"/>
            <a:ext cx="1728720" cy="4032360"/>
          </a:xfrm>
          <a:prstGeom prst="rect">
            <a:avLst/>
          </a:prstGeom>
          <a:solidFill>
            <a:srgbClr val="ffffcc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บรรยาย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เฉพาะ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ข้อ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1-5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1979640" y="1125360"/>
            <a:ext cx="6769080" cy="52563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1.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กฎหมายความรับผิดทางละเมิดของเจ้าหน้าที่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2.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กฎหมายแพ่ง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3.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กฎหมายอาญา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4.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กฎหมายวิชาชีพการพยาบาลและ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การผดุงครรภ์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5.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กฎหมายวิชาชีพเวชกรรม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6.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วินัยข้าราชการ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7.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กฎหมายอื่นๆ เช่น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1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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กฎหมายวิธีพิจารณาคดีผู้บริโภค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46" name="Picture 4" descr="ผ่าตัด"/>
          <p:cNvPicPr/>
          <p:nvPr/>
        </p:nvPicPr>
        <p:blipFill>
          <a:blip r:embed="rId2"/>
          <a:stretch/>
        </p:blipFill>
        <p:spPr>
          <a:xfrm>
            <a:off x="611280" y="2060640"/>
            <a:ext cx="3889440" cy="28083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147" name="Rectangle 5"/>
          <p:cNvSpPr/>
          <p:nvPr/>
        </p:nvSpPr>
        <p:spPr>
          <a:xfrm>
            <a:off x="611280" y="836640"/>
            <a:ext cx="7993080" cy="115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ความรับผิดทางละเมิดของเจ้าหน้าที่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ตาม พ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ร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บ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ความรับผิดทางละเมิดของเจ้าหน้าที่ พ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ศ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 2539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48" name="Picture 6" descr="ผ่าตัด"/>
          <p:cNvPicPr/>
          <p:nvPr/>
        </p:nvPicPr>
        <p:blipFill>
          <a:blip r:embed="rId4"/>
          <a:stretch/>
        </p:blipFill>
        <p:spPr>
          <a:xfrm>
            <a:off x="4500720" y="2060640"/>
            <a:ext cx="4103640" cy="28083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35640" y="352080"/>
            <a:ext cx="12222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61236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50920" y="1197000"/>
            <a:ext cx="8893080" cy="532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KodchiangUPC"/>
                <a:ea typeface="KodchiangUPC"/>
              </a:rPr>
              <a:t>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1.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เพื่อคุ้มครองเจ้าหน้าที่ ที่ได้กระทำละเมิด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ในการปฏิบัติหน้าที่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2.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เพื่อเยียวยาความเสียหายให้แก่ผู้เสียหาย                                        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    จากการทำละเมิดของเจ้าหน้าที่  อย่า</a:t>
            </a:r>
            <a:r>
              <a:rPr b="1" lang="th-TH" sz="4400" spc="-1" strike="noStrike">
                <a:solidFill>
                  <a:srgbClr val="000000"/>
                </a:solidFill>
                <a:latin typeface="Times New Roman"/>
              </a:rPr>
              <a:t>งเป็น 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Times New Roman"/>
              </a:rPr>
              <a:t>    ธรรมและรวดเร็ว</a:t>
            </a:r>
            <a:r>
              <a:rPr b="1" lang="th-TH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50920" y="260280"/>
            <a:ext cx="8893080" cy="93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หลักการและเหตุผลของกฎหมาย</a:t>
            </a:r>
            <a:endParaRPr b="1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35640" y="352080"/>
            <a:ext cx="12222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61236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611280" y="404640"/>
            <a:ext cx="7993080" cy="5904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KodchiangUPC"/>
                <a:ea typeface="KodchiangUPC"/>
              </a:rPr>
              <a:t>           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1.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เจ้าหน้าที่ หมายถึง 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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ea typeface="KodchiangUPC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KodchiangUPC"/>
              </a:rPr>
              <a:t>ข้าราชการ</a:t>
            </a:r>
            <a:r>
              <a:rPr b="0" lang="th-TH" sz="3600" spc="-1" strike="noStrike">
                <a:solidFill>
                  <a:srgbClr val="000000"/>
                </a:solidFill>
                <a:latin typeface="KodchiangUPC"/>
              </a:rPr>
              <a:t>/</a:t>
            </a:r>
            <a:r>
              <a:rPr b="0" lang="th-TH" sz="3600" spc="-1" strike="noStrike">
                <a:solidFill>
                  <a:srgbClr val="000000"/>
                </a:solidFill>
                <a:latin typeface="KodchiangUPC"/>
              </a:rPr>
              <a:t>พนักงาน</a:t>
            </a:r>
            <a:r>
              <a:rPr b="0" lang="th-TH" sz="3600" spc="-1" strike="noStrike">
                <a:solidFill>
                  <a:srgbClr val="000000"/>
                </a:solidFill>
                <a:latin typeface="KodchiangUPC"/>
              </a:rPr>
              <a:t>/</a:t>
            </a:r>
            <a:r>
              <a:rPr b="0" lang="th-TH" sz="3600" spc="-1" strike="noStrike">
                <a:solidFill>
                  <a:srgbClr val="000000"/>
                </a:solidFill>
                <a:latin typeface="KodchiangUPC"/>
              </a:rPr>
              <a:t>ลูกจ้าง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   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</a:t>
            </a:r>
            <a:r>
              <a:rPr b="1" lang="th-TH" sz="2400" spc="-1" strike="noStrike">
                <a:solidFill>
                  <a:srgbClr val="000000"/>
                </a:solidFill>
                <a:latin typeface="KodchiangUPC"/>
                <a:ea typeface="KodchiangUPC"/>
              </a:rPr>
              <a:t> 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ผู้ปฏิบัติงานประเภทอื่น ไม่ว่าจะแต่งตั้ง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  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ในฐานะกรรมการ หรือฐานะอื่น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ใด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2.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หน่วยงานของรัฐ หมายถึง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          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   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</a:t>
            </a:r>
            <a:r>
              <a:rPr b="0" lang="th-TH" sz="4400" spc="-1" strike="noStrike">
                <a:solidFill>
                  <a:srgbClr val="000000"/>
                </a:solidFill>
                <a:latin typeface="KodchiangUPC"/>
                <a:ea typeface="KodchiangUPC"/>
              </a:rPr>
              <a:t> 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กระทรวง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/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ทบวง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/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กรม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/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ส่วนราชการอื่น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   </a:t>
            </a:r>
            <a:r>
              <a:rPr b="0" lang="th-TH" sz="44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</a:t>
            </a:r>
            <a:r>
              <a:rPr b="0" lang="th-TH" sz="4400" spc="-1" strike="noStrike">
                <a:solidFill>
                  <a:srgbClr val="000000"/>
                </a:solidFill>
                <a:latin typeface="KodchiangUPC"/>
                <a:ea typeface="KodchiangUPC"/>
              </a:rPr>
              <a:t> 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ราชการภูมิภาค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/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ราชการท้องถิ่น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/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รัฐวิสาหกิจ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  <a:ea typeface="KodchiangUPC"/>
              </a:rPr>
              <a:t>         </a:t>
            </a:r>
            <a:r>
              <a:rPr b="0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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  <a:ea typeface="KodchiangUPC"/>
              </a:rPr>
              <a:t> 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หน่วยงานอื่นของรัฐที่พระกฤษฎีกากำหนดไว้  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           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KodchiangUPC"/>
              </a:rPr>
              <a:t>          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611280" y="404640"/>
            <a:ext cx="799308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คำนิยามตาม พ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ร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บ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ความรับผิดทางละเมิด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35640" y="352080"/>
            <a:ext cx="12222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95280" y="333360"/>
            <a:ext cx="842472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เมื่อเกิดความเสียหายแก่ หน่วยงานของรัฐ 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หรือ บุคคลภายนอก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KodchiangUPC"/>
              </a:rPr>
              <a:t>                  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■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หน่วยงานของรัฐเสียหาย คือ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..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ทรัพย์สินเสียหาย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KodchiangUPC"/>
              </a:rPr>
              <a:t>                  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■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บุคคลภายนอกเสียหาย คือ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..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KodchiangUPC"/>
              </a:rPr>
              <a:t>                          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1) 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ตาย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                       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2) 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บาดเจ็บ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                       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3) 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ทรัพย์สินเสียหาย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KodchiangUPC"/>
              </a:rPr>
              <a:t>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ความเสียเกิดจากการกระทำละเมิดของ จนท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                                        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ในระหว่างปฏิบัติหน้าที่ราชการ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KodchiangUPC"/>
              </a:rPr>
              <a:t>   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KodchiangUPC"/>
              </a:rPr>
              <a:t>         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476280"/>
            <a:ext cx="8064720" cy="108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สาระสำคัญของ 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พ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ร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บ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ความรับผิดทางละเมิดของเจ้าหน้าที พ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ศ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. 2539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35640" y="352080"/>
            <a:ext cx="12222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68360" y="692280"/>
            <a:ext cx="8207280" cy="540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KodchiangUPC"/>
              </a:rPr>
              <a:t>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3.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กรณีเจ้าหน้าที่กระทำละเมิดต่อหน่วยงานของรัฐ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6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คือ ทำให้ทรัพย์สินของทางราชการเสียหาย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3.1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กรณี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จงใจ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หรือ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ประมาทเลินเล่ออย่างร้ายแรง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                    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    </a:t>
            </a:r>
            <a:r>
              <a:rPr b="1" lang="th-TH" sz="3600" spc="-1" strike="noStrike" u="sng">
                <a:solidFill>
                  <a:srgbClr val="ffffff"/>
                </a:solidFill>
                <a:uFillTx/>
                <a:latin typeface="Angsana New"/>
              </a:rPr>
              <a:t>เจ้าหน้าที่ต้องรับผิด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            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3.2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กรณี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ประมาทไม่ร้ายแรง</a:t>
            </a:r>
            <a:r>
              <a:rPr b="1" lang="th-TH" sz="3600" spc="-1" strike="noStrike" u="sng">
                <a:solidFill>
                  <a:srgbClr val="ffffff"/>
                </a:solidFill>
                <a:uFillTx/>
                <a:latin typeface="Angsana New"/>
              </a:rPr>
              <a:t>เจ้าหน้าที่ไม่ต้องรับผิด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       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35640" y="352080"/>
            <a:ext cx="12222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84360" y="404640"/>
            <a:ext cx="8135640" cy="6048720"/>
          </a:xfrm>
          <a:prstGeom prst="rect">
            <a:avLst/>
          </a:prstGeom>
          <a:solidFill>
            <a:srgbClr val="0033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	</a:t>
            </a:r>
            <a:r>
              <a:rPr b="0" lang="th-TH" sz="44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4.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กรณีเจ้าหน้าที่กระทำละเมิดต่อบุคคลภายนอก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     </a:t>
            </a:r>
            <a:r>
              <a:rPr b="0" lang="th-TH" sz="3600" spc="-1" strike="noStrike">
                <a:solidFill>
                  <a:srgbClr val="ffffff"/>
                </a:solidFill>
                <a:latin typeface="KodchiangUPC"/>
              </a:rPr>
              <a:t>4.1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ถ้าเจ้าหน้าที่ </a:t>
            </a:r>
            <a:r>
              <a:rPr b="1" lang="th-TH" sz="3600" spc="-1" strike="noStrike">
                <a:solidFill>
                  <a:srgbClr val="ffff00"/>
                </a:solidFill>
                <a:latin typeface="KodchiangUPC"/>
              </a:rPr>
              <a:t>จงใจ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หรือ</a:t>
            </a:r>
            <a:r>
              <a:rPr b="1" lang="th-TH" sz="3600" spc="-1" strike="noStrike">
                <a:solidFill>
                  <a:srgbClr val="ffff00"/>
                </a:solidFill>
                <a:latin typeface="KodchiangUPC"/>
              </a:rPr>
              <a:t>ประมาทเลินเล่ออย่าง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             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     </a:t>
            </a:r>
            <a:r>
              <a:rPr b="1" lang="th-TH" sz="3600" spc="-1" strike="noStrike">
                <a:solidFill>
                  <a:srgbClr val="ffff00"/>
                </a:solidFill>
                <a:latin typeface="KodchiangUPC"/>
              </a:rPr>
              <a:t>ร้ายแรง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 หรือ</a:t>
            </a:r>
            <a:r>
              <a:rPr b="1" lang="th-TH" sz="3600" spc="-1" strike="noStrike">
                <a:solidFill>
                  <a:srgbClr val="ffff00"/>
                </a:solidFill>
                <a:latin typeface="KodchiangUPC"/>
              </a:rPr>
              <a:t>ไม่ร้ายแรง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ก็ตาม ให้หน่วยงาน              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     รับผิดต่อบุคคลภายนอกไปก่อน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        </a:t>
            </a:r>
            <a:r>
              <a:rPr b="0" lang="th-TH" sz="3600" spc="-1" strike="noStrike">
                <a:solidFill>
                  <a:srgbClr val="ffffff"/>
                </a:solidFill>
                <a:latin typeface="KodchiangUPC"/>
              </a:rPr>
              <a:t>4.2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เมื่อหน่วยงาน  ชดใช้ค่าสินไหมทดแทนไปแล้ว          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      หน</a:t>
            </a:r>
            <a:r>
              <a:rPr b="1" lang="th-TH" sz="3600" spc="-1" strike="noStrike">
                <a:solidFill>
                  <a:srgbClr val="ffffff"/>
                </a:solidFill>
                <a:latin typeface="Times New Roman"/>
              </a:rPr>
              <a:t>่วยงานมีสิทธิ</a:t>
            </a:r>
            <a:r>
              <a:rPr b="1" lang="th-TH" sz="3600" spc="-1" strike="noStrike">
                <a:solidFill>
                  <a:srgbClr val="ffff00"/>
                </a:solidFill>
                <a:latin typeface="Times New Roman"/>
              </a:rPr>
              <a:t>ไล่เบี้ยแก่เจ้าหน้าที่ได้</a:t>
            </a:r>
            <a:r>
              <a:rPr b="1" lang="th-TH" sz="3600" spc="-1" strike="noStrike">
                <a:solidFill>
                  <a:srgbClr val="ffffff"/>
                </a:solidFill>
                <a:latin typeface="Times New Roman"/>
              </a:rPr>
              <a:t> ถ้าเจ้า     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Times New Roman"/>
              </a:rPr>
              <a:t>    หน้าที่ </a:t>
            </a:r>
            <a:r>
              <a:rPr b="1" lang="th-TH" sz="3600" spc="-1" strike="noStrike">
                <a:solidFill>
                  <a:srgbClr val="ffff00"/>
                </a:solidFill>
                <a:latin typeface="Times New Roman"/>
              </a:rPr>
              <a:t>จงใจ</a:t>
            </a:r>
            <a:r>
              <a:rPr b="1" lang="th-TH" sz="3600" spc="-1" strike="noStrike">
                <a:solidFill>
                  <a:srgbClr val="ffffff"/>
                </a:solidFill>
                <a:latin typeface="Times New Roman"/>
              </a:rPr>
              <a:t>หรือ</a:t>
            </a:r>
            <a:r>
              <a:rPr b="1" lang="th-TH" sz="3600" spc="-1" strike="noStrike">
                <a:solidFill>
                  <a:srgbClr val="ffff00"/>
                </a:solidFill>
                <a:latin typeface="Times New Roman"/>
              </a:rPr>
              <a:t>ประมาทเลินเล่ออย่างร้ายแรง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4.3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บุคคลภายนอกมีสิทธิ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ยื่นคำขอค่าเสียหายต่อ                 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      หน่วยงาน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หรือ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ยื่นฟ้องต่อศาล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การฟ้องศาล  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ต้องฟ้องหน่วยงาน จะ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ฟ้องเจ้าหน้าที่ไม่ได้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th-TH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/>
          </a:solidFill>
          <a:ln w="76320">
            <a:solidFill>
              <a:srgbClr val="00ff00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LilyDSE"/>
                <a:ea typeface="LilyUPC"/>
              </a:rPr>
              <a:t>        </a:t>
            </a:r>
            <a:r>
              <a:rPr b="1" lang="th-TH" sz="4000" spc="-1" strike="noStrike" u="sng">
                <a:solidFill>
                  <a:srgbClr val="ffffff"/>
                </a:solidFill>
                <a:uFillTx/>
                <a:latin typeface="LilyDSE"/>
                <a:cs typeface="LilyUPC"/>
              </a:rPr>
              <a:t>คดีอาญาโรงพยาบาลร่อนพิบูลย์ จ</a:t>
            </a:r>
            <a:r>
              <a:rPr b="1" lang="th-TH" sz="4000" spc="-1" strike="noStrike" u="sng">
                <a:solidFill>
                  <a:srgbClr val="ffffff"/>
                </a:solidFill>
                <a:uFillTx/>
                <a:latin typeface="LilyDSE"/>
                <a:ea typeface="LilyUPC"/>
              </a:rPr>
              <a:t>.</a:t>
            </a:r>
            <a:r>
              <a:rPr b="1" lang="th-TH" sz="4000" spc="-1" strike="noStrike" u="sng">
                <a:solidFill>
                  <a:srgbClr val="ffffff"/>
                </a:solidFill>
                <a:uFillTx/>
                <a:latin typeface="LilyDSE"/>
                <a:cs typeface="LilyUPC"/>
              </a:rPr>
              <a:t>นครศรีธรรมราช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LilyDSE"/>
                <a:ea typeface="LilyUPC"/>
              </a:rPr>
              <a:t>         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จำเลยที่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1 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ผู้อำนวยการโรงพยาบาล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LilyDSE"/>
                <a:ea typeface="LilyUPC"/>
              </a:rPr>
              <a:t>         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จำเลยที่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2 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แพทย์หญิง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...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ให้ยาชา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ไซโลเคน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LilyDSE"/>
                <a:ea typeface="LilyUPC"/>
              </a:rPr>
              <a:t>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จำเลยที่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2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ฉีดยาชาเข้าทางไขสันหลังของผู้ตาย</a:t>
            </a:r>
            <a:r>
              <a:rPr b="1" lang="th-TH" sz="3200" spc="-1" strike="noStrike">
                <a:solidFill>
                  <a:srgbClr val="ffffff"/>
                </a:solidFill>
                <a:latin typeface="LilyDSE"/>
                <a:ea typeface="LilyUPC"/>
              </a:rPr>
              <a:t>                       </a:t>
            </a:r>
            <a:r>
              <a:rPr b="1" lang="th-TH" sz="3200" spc="-1" strike="noStrike">
                <a:solidFill>
                  <a:srgbClr val="ffffff"/>
                </a:solidFill>
                <a:latin typeface="LilyDSE"/>
                <a:ea typeface="LilyUPC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ในปริมาณที่มากเกินไป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...........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ลักษณะการกระทำความผิด</a:t>
            </a:r>
            <a:r>
              <a:rPr b="1" lang="th-TH" sz="3600" spc="-1" strike="noStrike">
                <a:solidFill>
                  <a:srgbClr val="00ffff"/>
                </a:solidFill>
                <a:latin typeface="LilyDSE"/>
                <a:ea typeface="LilyUPC"/>
              </a:rPr>
              <a:t>    </a:t>
            </a:r>
            <a:r>
              <a:rPr b="1" lang="th-TH" sz="3600" spc="-1" strike="noStrike">
                <a:solidFill>
                  <a:srgbClr val="00ffff"/>
                </a:solidFill>
                <a:latin typeface="LilyDSE"/>
                <a:ea typeface="LilyUPC"/>
              </a:rPr>
              <a:t>	</a:t>
            </a:r>
            <a:r>
              <a:rPr b="1" lang="th-TH" sz="3600" spc="-1" strike="noStrike" u="sng">
                <a:solidFill>
                  <a:srgbClr val="00ffff"/>
                </a:solidFill>
                <a:uFillTx/>
                <a:latin typeface="LilyDSE"/>
                <a:cs typeface="LilyUPC"/>
              </a:rPr>
              <a:t>ค่อนข้าง</a:t>
            </a:r>
            <a:r>
              <a:rPr b="1" lang="th-TH" sz="3600" spc="-1" strike="noStrike">
                <a:solidFill>
                  <a:srgbClr val="00ffff"/>
                </a:solidFill>
                <a:latin typeface="LilyDSE"/>
                <a:cs typeface="LilyUPC"/>
              </a:rPr>
              <a:t>ประมาทเลินเล่ออย่างร้ายแรง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    </a:t>
            </a:r>
            <a:r>
              <a:rPr b="1" lang="th-TH" sz="3600" spc="-1" strike="noStrike">
                <a:solidFill>
                  <a:srgbClr val="ffff00"/>
                </a:solidFill>
                <a:latin typeface="LilyDSE"/>
                <a:cs typeface="LilyUPC"/>
              </a:rPr>
              <a:t>หลังเกิดเหตุก็</a:t>
            </a:r>
            <a:r>
              <a:rPr b="1" lang="th-TH" sz="3600" spc="-1" strike="noStrike" u="sng">
                <a:solidFill>
                  <a:srgbClr val="ffff00"/>
                </a:solidFill>
                <a:uFillTx/>
                <a:latin typeface="LilyDSE"/>
                <a:cs typeface="LilyUPC"/>
              </a:rPr>
              <a:t>ไม่</a:t>
            </a:r>
            <a:r>
              <a:rPr b="1" lang="th-TH" sz="3600" spc="-1" strike="noStrike">
                <a:solidFill>
                  <a:srgbClr val="ffff00"/>
                </a:solidFill>
                <a:latin typeface="LilyDSE"/>
                <a:ea typeface="LilyUPC"/>
              </a:rPr>
              <a:t>     </a:t>
            </a:r>
            <a:r>
              <a:rPr b="1" lang="th-TH" sz="3600" spc="-1" strike="noStrike">
                <a:solidFill>
                  <a:srgbClr val="ffff00"/>
                </a:solidFill>
                <a:latin typeface="LilyDSE"/>
                <a:ea typeface="LilyUPC"/>
              </a:rPr>
              <a:t>	</a:t>
            </a:r>
            <a:r>
              <a:rPr b="1" lang="th-TH" sz="3600" spc="-1" strike="noStrike" u="sng">
                <a:solidFill>
                  <a:srgbClr val="ffff00"/>
                </a:solidFill>
                <a:uFillTx/>
                <a:latin typeface="LilyDSE"/>
                <a:cs typeface="LilyUPC"/>
              </a:rPr>
              <a:t>บรรเทาผลร้าย</a:t>
            </a:r>
            <a:r>
              <a:rPr b="1" lang="th-TH" sz="3600" spc="-1" strike="noStrike">
                <a:solidFill>
                  <a:srgbClr val="ffff00"/>
                </a:solidFill>
                <a:latin typeface="LilyDSE"/>
                <a:cs typeface="LilyUPC"/>
              </a:rPr>
              <a:t>แก่ญาติผู้ตาย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  </a:t>
            </a:r>
            <a:r>
              <a:rPr b="1" lang="th-TH" sz="3600" spc="-1" strike="noStrike">
                <a:solidFill>
                  <a:srgbClr val="00ff00"/>
                </a:solidFill>
                <a:latin typeface="LilyDSE"/>
                <a:cs typeface="LilyUPC"/>
              </a:rPr>
              <a:t>และ</a:t>
            </a:r>
            <a:r>
              <a:rPr b="1" lang="th-TH" sz="3600" spc="-1" strike="noStrike" u="sng">
                <a:solidFill>
                  <a:srgbClr val="00ff00"/>
                </a:solidFill>
                <a:uFillTx/>
                <a:latin typeface="LilyDSE"/>
                <a:cs typeface="LilyUPC"/>
              </a:rPr>
              <a:t>ให้การปฏิเสธ</a:t>
            </a:r>
            <a:r>
              <a:rPr b="1" lang="th-TH" sz="3600" spc="-1" strike="noStrike">
                <a:solidFill>
                  <a:srgbClr val="00ff00"/>
                </a:solidFill>
                <a:latin typeface="LilyDSE"/>
                <a:cs typeface="LilyUPC"/>
              </a:rPr>
              <a:t>ตลอดมา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            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	</a:t>
            </a:r>
            <a:r>
              <a:rPr b="1" lang="th-TH" sz="3600" spc="-1" strike="noStrike" u="sng">
                <a:solidFill>
                  <a:srgbClr val="ffc489"/>
                </a:solidFill>
                <a:uFillTx/>
                <a:latin typeface="LilyDSE"/>
                <a:cs typeface="LilyUPC"/>
              </a:rPr>
              <a:t>จึงไม่มีเหตุรอการลงโทษ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                  </a:t>
            </a:r>
            <a:r>
              <a:rPr b="1" lang="th-TH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</a:t>
            </a:r>
            <a:r>
              <a:rPr b="1" lang="th-TH" sz="2400" spc="-1" strike="noStrike">
                <a:solidFill>
                  <a:srgbClr val="ffffff"/>
                </a:solidFill>
                <a:latin typeface="LilyDSE"/>
                <a:ea typeface="Lily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จำคุกจำเลยที่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2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เป็นเวลา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3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ปี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                  </a:t>
            </a:r>
            <a:r>
              <a:rPr b="1" lang="th-TH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</a:t>
            </a:r>
            <a:r>
              <a:rPr b="1" lang="th-TH" sz="2400" spc="-1" strike="noStrike">
                <a:solidFill>
                  <a:srgbClr val="ffffff"/>
                </a:solidFill>
                <a:latin typeface="LilyDSE"/>
                <a:ea typeface="Lily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ยกฟ้องจำเลยที่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971640" y="5877000"/>
            <a:ext cx="7561080" cy="64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ศาลอุทธรณ์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..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จำเลยไม่มีความผิด  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948360" y="4869000"/>
            <a:ext cx="1584360" cy="86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ศาลจังหวัด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ทุ่งสง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4680"/>
            <a:ext cx="9144000" cy="6867360"/>
          </a:xfrm>
          <a:prstGeom prst="rect">
            <a:avLst/>
          </a:prstGeom>
          <a:solidFill>
            <a:srgbClr val="006600"/>
          </a:solidFill>
          <a:ln w="9360">
            <a:solidFill>
              <a:srgbClr val="ffcccc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214200"/>
            <a:ext cx="8143560" cy="642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JasmineUPC"/>
                <a:cs typeface="JasmineUPC"/>
              </a:rPr>
              <a:t>นายเรืองรัตน์ บัวสัมฤทธิ์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222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99"/>
                </a:solidFill>
                <a:latin typeface="JasmineUPC"/>
                <a:ea typeface="JasmineUPC"/>
              </a:rPr>
              <a:t>   </a:t>
            </a:r>
            <a:r>
              <a:rPr b="1" i="1" lang="th-TH" sz="4000" spc="-1" strike="noStrike">
                <a:solidFill>
                  <a:srgbClr val="ff00ff"/>
                </a:solidFill>
                <a:latin typeface="JasmineUPC"/>
                <a:cs typeface="JasmineUPC"/>
              </a:rPr>
              <a:t>ผอ</a:t>
            </a:r>
            <a:r>
              <a:rPr b="1" i="1" lang="th-TH" sz="4000" spc="-1" strike="noStrike">
                <a:solidFill>
                  <a:srgbClr val="ff00ff"/>
                </a:solidFill>
                <a:latin typeface="JasmineUPC"/>
                <a:ea typeface="JasmineUPC"/>
              </a:rPr>
              <a:t>.</a:t>
            </a:r>
            <a:r>
              <a:rPr b="1" i="1" lang="th-TH" sz="4000" spc="-1" strike="noStrike">
                <a:solidFill>
                  <a:srgbClr val="ff00ff"/>
                </a:solidFill>
                <a:latin typeface="JasmineUPC"/>
                <a:cs typeface="JasmineUPC"/>
              </a:rPr>
              <a:t>กลุ่มเสริมสร้างวินัยและระบบคุณธรรม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222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ff00ff"/>
                </a:solidFill>
                <a:latin typeface="JasmineUPC"/>
                <a:ea typeface="JasmineUPC"/>
              </a:rPr>
              <a:t>   </a:t>
            </a:r>
            <a:r>
              <a:rPr b="1" i="1" lang="th-TH" sz="4000" spc="-1" strike="noStrike">
                <a:solidFill>
                  <a:srgbClr val="ff00ff"/>
                </a:solidFill>
                <a:latin typeface="JasmineUPC"/>
                <a:cs typeface="JasmineUPC"/>
              </a:rPr>
              <a:t>สำนักงานปลัดกระทรวงสาธารณสุข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222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99"/>
                </a:solidFill>
                <a:latin typeface="JasmineUPC"/>
                <a:ea typeface="JasmineUPC"/>
              </a:rPr>
              <a:t>      </a:t>
            </a:r>
            <a:r>
              <a:rPr b="1" lang="th-TH" sz="4000" spc="-1" strike="noStrike">
                <a:solidFill>
                  <a:srgbClr val="800000"/>
                </a:solidFill>
                <a:latin typeface="JasmineUPC"/>
                <a:cs typeface="JasmineUPC"/>
              </a:rPr>
              <a:t>โทร</a:t>
            </a:r>
            <a:r>
              <a:rPr b="1" lang="th-TH" sz="4000" spc="-1" strike="noStrike">
                <a:solidFill>
                  <a:srgbClr val="800000"/>
                </a:solidFill>
                <a:latin typeface="JasmineUPC"/>
                <a:ea typeface="JasmineUPC"/>
              </a:rPr>
              <a:t>. 02 5901314,1316,1417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222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800000"/>
                </a:solidFill>
                <a:latin typeface="JasmineUPC"/>
                <a:ea typeface="JasmineUPC"/>
              </a:rPr>
              <a:t>       </a:t>
            </a:r>
            <a:r>
              <a:rPr b="1" lang="th-TH" sz="4000" spc="-1" strike="noStrike">
                <a:solidFill>
                  <a:srgbClr val="800000"/>
                </a:solidFill>
                <a:latin typeface="JasmineUPC"/>
                <a:cs typeface="JasmineUPC"/>
              </a:rPr>
              <a:t>โทร</a:t>
            </a:r>
            <a:r>
              <a:rPr b="1" lang="th-TH" sz="4000" spc="-1" strike="noStrike">
                <a:solidFill>
                  <a:srgbClr val="800000"/>
                </a:solidFill>
                <a:latin typeface="JasmineUPC"/>
                <a:ea typeface="JasmineUPC"/>
              </a:rPr>
              <a:t>. 081 4090916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222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800000"/>
                </a:solidFill>
                <a:latin typeface="JasmineUPC"/>
                <a:ea typeface="JasmineUPC"/>
              </a:rPr>
              <a:t>       </a:t>
            </a:r>
            <a:r>
              <a:rPr b="1" lang="th-TH" sz="4000" spc="-1" strike="noStrike">
                <a:solidFill>
                  <a:srgbClr val="800000"/>
                </a:solidFill>
                <a:latin typeface="JasmineUPC"/>
                <a:cs typeface="JasmineUPC"/>
              </a:rPr>
              <a:t>โทรสาร </a:t>
            </a:r>
            <a:r>
              <a:rPr b="1" lang="th-TH" sz="4000" spc="-1" strike="noStrike">
                <a:solidFill>
                  <a:srgbClr val="800000"/>
                </a:solidFill>
                <a:latin typeface="JasmineUPC"/>
                <a:ea typeface="JasmineUPC"/>
              </a:rPr>
              <a:t>02 5918589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" name="วงรี 3"/>
          <p:cNvSpPr/>
          <p:nvPr/>
        </p:nvSpPr>
        <p:spPr>
          <a:xfrm>
            <a:off x="5000760" y="214200"/>
            <a:ext cx="2714400" cy="37148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53" name="รูปภาพ 4" descr="girl_book.gif"/>
          <p:cNvPicPr/>
          <p:nvPr/>
        </p:nvPicPr>
        <p:blipFill>
          <a:blip r:embed="rId2"/>
          <a:stretch/>
        </p:blipFill>
        <p:spPr>
          <a:xfrm>
            <a:off x="6840360" y="4786200"/>
            <a:ext cx="12272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35640" y="352080"/>
            <a:ext cx="12222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24000" y="333360"/>
            <a:ext cx="8208720" cy="6120000"/>
          </a:xfrm>
          <a:prstGeom prst="rect">
            <a:avLst/>
          </a:prstGeom>
          <a:solidFill>
            <a:srgbClr val="0033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KodchiangUPC"/>
              </a:rPr>
              <a:t>	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</a:rPr>
              <a:t>5. 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</a:rPr>
              <a:t>ความรับผิดของผู้กระทำละเมิด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KodchiangUPC"/>
              </a:rPr>
              <a:t>        </a:t>
            </a:r>
            <a:r>
              <a:rPr b="1" lang="th-TH" sz="2800" spc="-1" strike="noStrike">
                <a:solidFill>
                  <a:srgbClr val="ffcc66"/>
                </a:solidFill>
                <a:latin typeface="Times New Roman"/>
                <a:ea typeface="Kodchiang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</a:rPr>
              <a:t>กรณีจงใจต้องรับผิดเต็มจำนวน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KodchiangUPC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KodchiangUPC"/>
                <a:ea typeface="KodchiangUPC"/>
              </a:rPr>
              <a:t>              </a:t>
            </a:r>
            <a:r>
              <a:rPr b="1" lang="th-TH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</a:rPr>
              <a:t>กรณีประมาทเลินเล่ออย่างร้ายแรง  ไม่ต้อง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KodchiangUPC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KodchiangUPC"/>
              </a:rPr>
              <a:t>             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</a:rPr>
              <a:t>รับผิดเต็มจำนวน</a:t>
            </a:r>
            <a:r>
              <a:rPr b="1" lang="th-TH" sz="4000" spc="-1" strike="noStrike">
                <a:solidFill>
                  <a:srgbClr val="ffcc66"/>
                </a:solidFill>
                <a:latin typeface="KodchiangUPC"/>
              </a:rPr>
              <a:t> </a:t>
            </a:r>
            <a:r>
              <a:rPr b="1" lang="th-TH" sz="3600" spc="-1" strike="noStrike">
                <a:solidFill>
                  <a:srgbClr val="00ffff"/>
                </a:solidFill>
                <a:latin typeface="KodchiangUPC"/>
              </a:rPr>
              <a:t>(</a:t>
            </a:r>
            <a:r>
              <a:rPr b="1" lang="th-TH" sz="3600" spc="-1" strike="noStrike">
                <a:solidFill>
                  <a:srgbClr val="00ffff"/>
                </a:solidFill>
                <a:latin typeface="KodchiangUPC"/>
              </a:rPr>
              <a:t>อยู่ระหว่าง </a:t>
            </a:r>
            <a:r>
              <a:rPr b="1" lang="th-TH" sz="3600" spc="-1" strike="noStrike">
                <a:solidFill>
                  <a:srgbClr val="00ffff"/>
                </a:solidFill>
                <a:latin typeface="KodchiangUPC"/>
              </a:rPr>
              <a:t>65% - 95%)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KodchiangUPC"/>
                <a:ea typeface="KodchiangUPC"/>
              </a:rPr>
              <a:t>        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 </a:t>
            </a:r>
            <a:r>
              <a:rPr b="1" lang="th-TH" sz="2800" spc="-1" strike="noStrike">
                <a:solidFill>
                  <a:srgbClr val="e5e000"/>
                </a:solidFill>
                <a:latin typeface="Wingdings"/>
                <a:ea typeface="Wingdings"/>
              </a:rPr>
              <a:t></a:t>
            </a:r>
            <a:r>
              <a:rPr b="1" lang="th-TH" sz="3200" spc="-1" strike="noStrike">
                <a:solidFill>
                  <a:srgbClr val="e5e000"/>
                </a:solidFill>
                <a:latin typeface="Times New Roman"/>
                <a:ea typeface="KodchiangUPC"/>
              </a:rPr>
              <a:t> </a:t>
            </a:r>
            <a:r>
              <a:rPr b="1" lang="th-TH" sz="4000" spc="-1" strike="noStrike">
                <a:solidFill>
                  <a:srgbClr val="e5e000"/>
                </a:solidFill>
                <a:latin typeface="KodchiangUPC"/>
              </a:rPr>
              <a:t>กรณีหน่วยงานมีส่วนความรับผิดชอบด้วย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e5e000"/>
                </a:solidFill>
                <a:latin typeface="KodchiangUPC"/>
              </a:rPr>
              <a:t>              </a:t>
            </a:r>
            <a:r>
              <a:rPr b="1" lang="th-TH" sz="4000" spc="-1" strike="noStrike">
                <a:solidFill>
                  <a:srgbClr val="e5e000"/>
                </a:solidFill>
                <a:latin typeface="KodchiangUPC"/>
              </a:rPr>
              <a:t>ให้หน่วยงานหักลดได้ ตามสมควรแก่กรณี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e5e000"/>
                </a:solidFill>
                <a:latin typeface="KodchiangUPC"/>
                <a:ea typeface="KodchiangUPC"/>
              </a:rPr>
              <a:t>      </a:t>
            </a:r>
            <a:r>
              <a:rPr b="1" lang="th-TH" sz="4000" spc="-1" strike="noStrike">
                <a:solidFill>
                  <a:srgbClr val="e5e000"/>
                </a:solidFill>
                <a:latin typeface="KodchiangUPC"/>
              </a:rPr>
              <a:t>               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8675640" y="0"/>
            <a:ext cx="468360" cy="404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solidFill>
            <a:srgbClr val="003300"/>
          </a:solidFill>
          <a:ln w="284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th-TH" sz="5400" spc="-1" strike="noStrike">
                <a:solidFill>
                  <a:srgbClr val="ffff00"/>
                </a:solidFill>
                <a:latin typeface="Times New Roman"/>
                <a:ea typeface="KodchiangUPC"/>
              </a:rPr>
              <a:t>    </a:t>
            </a:r>
            <a:r>
              <a:rPr b="1" lang="th-TH" sz="4400" spc="-1" strike="noStrike">
                <a:solidFill>
                  <a:srgbClr val="ffffff"/>
                </a:solidFill>
                <a:latin typeface="Times New Roman"/>
                <a:cs typeface="LilyUPC"/>
              </a:rPr>
              <a:t>กรณี สสจ</a:t>
            </a:r>
            <a:r>
              <a:rPr b="1" lang="th-TH" sz="4400" spc="-1" strike="noStrike">
                <a:solidFill>
                  <a:srgbClr val="ffffff"/>
                </a:solidFill>
                <a:latin typeface="Times New Roman"/>
                <a:ea typeface="LilyUPC"/>
              </a:rPr>
              <a:t>. </a:t>
            </a:r>
            <a:r>
              <a:rPr b="1" lang="th-TH" sz="4400" spc="-1" strike="noStrike">
                <a:solidFill>
                  <a:srgbClr val="ffffff"/>
                </a:solidFill>
                <a:latin typeface="Times New Roman"/>
                <a:cs typeface="LilyUPC"/>
              </a:rPr>
              <a:t>เงินขาดบัญชี </a:t>
            </a:r>
            <a:r>
              <a:rPr b="1" lang="th-TH" sz="4400" spc="-1" strike="noStrike">
                <a:solidFill>
                  <a:srgbClr val="ffffff"/>
                </a:solidFill>
                <a:latin typeface="Times New Roman"/>
                <a:ea typeface="LilyUPC"/>
              </a:rPr>
              <a:t>6,935,462 </a:t>
            </a:r>
            <a:r>
              <a:rPr b="1" lang="th-TH" sz="4400" spc="-1" strike="noStrike">
                <a:solidFill>
                  <a:srgbClr val="ffffff"/>
                </a:solidFill>
                <a:latin typeface="Times New Roman"/>
                <a:cs typeface="LilyUPC"/>
              </a:rPr>
              <a:t>บาท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imes New Roman"/>
                <a:ea typeface="KodchiangUPC"/>
              </a:rPr>
              <a:t>      </a:t>
            </a:r>
            <a:r>
              <a:rPr b="1" lang="th-TH" sz="3600" spc="-1" strike="noStrike">
                <a:solidFill>
                  <a:srgbClr val="ffff00"/>
                </a:solidFill>
                <a:latin typeface="KodchiangUPC"/>
                <a:cs typeface="LilyUPC"/>
              </a:rPr>
              <a:t>ผู้รับผิดชอบ</a:t>
            </a:r>
            <a:r>
              <a:rPr b="1" lang="th-TH" sz="3600" spc="-1" strike="noStrike">
                <a:solidFill>
                  <a:srgbClr val="ffff00"/>
                </a:solidFill>
                <a:latin typeface="KodchiangUPC"/>
                <a:ea typeface="LilyUPC"/>
              </a:rPr>
              <a:t>	</a:t>
            </a:r>
            <a:r>
              <a:rPr b="1" lang="th-TH" sz="3600" spc="-1" strike="noStrike">
                <a:solidFill>
                  <a:srgbClr val="ffff00"/>
                </a:solidFill>
                <a:latin typeface="KodchiangUPC"/>
                <a:ea typeface="LilyUPC"/>
              </a:rPr>
              <a:t>    กระทรวงการคลัง      ศาลปกครองชั้นต้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KodchiangUPC"/>
                <a:ea typeface="LilyUPC"/>
              </a:rPr>
              <a:t>   </a:t>
            </a:r>
            <a:r>
              <a:rPr b="1" lang="th-TH" sz="3600" spc="-1" strike="noStrike">
                <a:solidFill>
                  <a:srgbClr val="ffdebd"/>
                </a:solidFill>
                <a:latin typeface="KodchiangUPC"/>
                <a:cs typeface="LilyUPC"/>
              </a:rPr>
              <a:t>ลูกจ้างชั่วคราว</a:t>
            </a:r>
            <a:r>
              <a:rPr b="0" lang="th-TH" sz="3600" spc="-1" strike="noStrike">
                <a:solidFill>
                  <a:srgbClr val="ffdebd"/>
                </a:solidFill>
                <a:latin typeface="KodchiangUPC"/>
                <a:ea typeface="LilyUPC"/>
              </a:rPr>
              <a:t>            </a:t>
            </a:r>
            <a:r>
              <a:rPr b="0" lang="th-TH" sz="3600" spc="-1" strike="noStrike">
                <a:solidFill>
                  <a:srgbClr val="ffdebd"/>
                </a:solidFill>
                <a:latin typeface="KodchiangUPC"/>
                <a:ea typeface="LilyUPC"/>
              </a:rPr>
              <a:t>6,935,462</a:t>
            </a:r>
            <a:r>
              <a:rPr b="0" lang="en-US" sz="3600" spc="-1" strike="noStrike">
                <a:solidFill>
                  <a:srgbClr val="ffdebd"/>
                </a:solidFill>
                <a:latin typeface="KodchiangUPC"/>
                <a:ea typeface="LilyUPC"/>
              </a:rPr>
              <a:t> </a:t>
            </a:r>
            <a:r>
              <a:rPr b="0" lang="th-TH" sz="3600" spc="-1" strike="noStrike">
                <a:solidFill>
                  <a:srgbClr val="ffdebd"/>
                </a:solidFill>
                <a:latin typeface="KodchiangUPC"/>
                <a:ea typeface="LilyUPC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KodchiangUPC"/>
                <a:ea typeface="LilyUPC"/>
              </a:rPr>
              <a:t>   </a:t>
            </a:r>
            <a:r>
              <a:rPr b="1" lang="th-TH" sz="3600" spc="-1" strike="noStrike">
                <a:solidFill>
                  <a:srgbClr val="00ff00"/>
                </a:solidFill>
                <a:latin typeface="KodchiangUPC"/>
                <a:ea typeface="LilyUPC"/>
              </a:rPr>
              <a:t>1. </a:t>
            </a:r>
            <a:r>
              <a:rPr b="1" lang="th-TH" sz="3600" spc="-1" strike="noStrike">
                <a:solidFill>
                  <a:srgbClr val="00ff00"/>
                </a:solidFill>
                <a:latin typeface="KodchiangUPC"/>
                <a:cs typeface="LilyUPC"/>
              </a:rPr>
              <a:t>จ</a:t>
            </a:r>
            <a:r>
              <a:rPr b="1" lang="th-TH" sz="3600" spc="-1" strike="noStrike">
                <a:solidFill>
                  <a:srgbClr val="00ff00"/>
                </a:solidFill>
                <a:latin typeface="KodchiangUPC"/>
                <a:ea typeface="LilyUPC"/>
              </a:rPr>
              <a:t>.</a:t>
            </a:r>
            <a:r>
              <a:rPr b="1" lang="th-TH" sz="3600" spc="-1" strike="noStrike">
                <a:solidFill>
                  <a:srgbClr val="00ff00"/>
                </a:solidFill>
                <a:latin typeface="KodchiangUPC"/>
                <a:cs typeface="LilyUPC"/>
              </a:rPr>
              <a:t>วิเคราะห์ </a:t>
            </a:r>
            <a:r>
              <a:rPr b="1" lang="th-TH" sz="3600" spc="-1" strike="noStrike">
                <a:solidFill>
                  <a:srgbClr val="00ff00"/>
                </a:solidFill>
                <a:latin typeface="KodchiangUPC"/>
                <a:ea typeface="LilyUPC"/>
              </a:rPr>
              <a:t>6</a:t>
            </a:r>
            <a:r>
              <a:rPr b="0" lang="th-TH" sz="3600" spc="-1" strike="noStrike">
                <a:solidFill>
                  <a:srgbClr val="00ff00"/>
                </a:solidFill>
                <a:latin typeface="KodchiangUPC"/>
                <a:ea typeface="LilyUPC"/>
              </a:rPr>
              <a:t>           2,301,187</a:t>
            </a:r>
            <a:r>
              <a:rPr b="1" lang="th-TH" sz="3600" spc="-1" strike="noStrike">
                <a:solidFill>
                  <a:srgbClr val="00ff00"/>
                </a:solidFill>
                <a:latin typeface="KodchiangUPC"/>
                <a:ea typeface="LilyUPC"/>
              </a:rPr>
              <a:t> </a:t>
            </a:r>
            <a:r>
              <a:rPr b="0" lang="th-TH" sz="3600" spc="-1" strike="noStrike">
                <a:solidFill>
                  <a:srgbClr val="00ff00"/>
                </a:solidFill>
                <a:latin typeface="KodchiangUPC"/>
                <a:ea typeface="LilyUPC"/>
              </a:rPr>
              <a:t>                                              </a:t>
            </a:r>
            <a:r>
              <a:rPr b="1" lang="th-TH" sz="3600" spc="-1" strike="noStrike">
                <a:solidFill>
                  <a:srgbClr val="00ffff"/>
                </a:solidFill>
                <a:latin typeface="KodchiangUPC"/>
                <a:ea typeface="LilyUPC"/>
              </a:rPr>
              <a:t>2. </a:t>
            </a:r>
            <a:r>
              <a:rPr b="1" lang="th-TH" sz="3600" spc="-1" strike="noStrike">
                <a:solidFill>
                  <a:srgbClr val="00ffff"/>
                </a:solidFill>
                <a:latin typeface="KodchiangUPC"/>
                <a:cs typeface="LilyUPC"/>
              </a:rPr>
              <a:t>จ</a:t>
            </a:r>
            <a:r>
              <a:rPr b="1" lang="th-TH" sz="3600" spc="-1" strike="noStrike">
                <a:solidFill>
                  <a:srgbClr val="00ffff"/>
                </a:solidFill>
                <a:latin typeface="KodchiangUPC"/>
                <a:ea typeface="LilyUPC"/>
              </a:rPr>
              <a:t>.</a:t>
            </a:r>
            <a:r>
              <a:rPr b="1" lang="th-TH" sz="3600" spc="-1" strike="noStrike">
                <a:solidFill>
                  <a:srgbClr val="00ffff"/>
                </a:solidFill>
                <a:latin typeface="KodchiangUPC"/>
                <a:cs typeface="LilyUPC"/>
              </a:rPr>
              <a:t>วิเคราะห์ </a:t>
            </a:r>
            <a:r>
              <a:rPr b="1" lang="th-TH" sz="3600" spc="-1" strike="noStrike">
                <a:solidFill>
                  <a:srgbClr val="00ffff"/>
                </a:solidFill>
                <a:latin typeface="KodchiangUPC"/>
                <a:ea typeface="LilyUPC"/>
              </a:rPr>
              <a:t>8</a:t>
            </a:r>
            <a:r>
              <a:rPr b="0" lang="th-TH" sz="3600" spc="-1" strike="noStrike">
                <a:solidFill>
                  <a:srgbClr val="00ffff"/>
                </a:solidFill>
                <a:latin typeface="KodchiangUPC"/>
                <a:ea typeface="LilyUPC"/>
              </a:rPr>
              <a:t>              663,891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th-TH" sz="3600" spc="-1" strike="noStrike">
                <a:solidFill>
                  <a:srgbClr val="00ffff"/>
                </a:solidFill>
                <a:latin typeface="KodchiangUPC"/>
                <a:ea typeface="LilyUPC"/>
              </a:rPr>
              <a:t>   </a:t>
            </a:r>
            <a:r>
              <a:rPr b="1" lang="th-TH" sz="3600" spc="-1" strike="noStrike">
                <a:solidFill>
                  <a:srgbClr val="00ffff"/>
                </a:solidFill>
                <a:latin typeface="KodchiangUPC"/>
                <a:ea typeface="LilyUPC"/>
              </a:rPr>
              <a:t>3.</a:t>
            </a:r>
            <a:r>
              <a:rPr b="0" lang="th-TH" sz="3600" spc="-1" strike="noStrike">
                <a:solidFill>
                  <a:srgbClr val="00ffff"/>
                </a:solidFill>
                <a:latin typeface="KodchiangUPC"/>
                <a:ea typeface="LilyUPC"/>
              </a:rPr>
              <a:t> </a:t>
            </a:r>
            <a:r>
              <a:rPr b="1" lang="th-TH" sz="3600" spc="-1" strike="noStrike">
                <a:solidFill>
                  <a:srgbClr val="00ffff"/>
                </a:solidFill>
                <a:latin typeface="KodchiangUPC"/>
                <a:cs typeface="LilyUPC"/>
              </a:rPr>
              <a:t>นพ</a:t>
            </a:r>
            <a:r>
              <a:rPr b="1" lang="th-TH" sz="3600" spc="-1" strike="noStrike">
                <a:solidFill>
                  <a:srgbClr val="00ffff"/>
                </a:solidFill>
                <a:latin typeface="KodchiangUPC"/>
                <a:ea typeface="LilyUPC"/>
              </a:rPr>
              <a:t>. </a:t>
            </a:r>
            <a:r>
              <a:rPr b="1" lang="th-TH" sz="3600" spc="-1" strike="noStrike">
                <a:solidFill>
                  <a:srgbClr val="00ffff"/>
                </a:solidFill>
                <a:latin typeface="KodchiangUPC"/>
                <a:cs typeface="LilyUPC"/>
              </a:rPr>
              <a:t>สสจ</a:t>
            </a:r>
            <a:r>
              <a:rPr b="1" lang="th-TH" sz="3600" spc="-1" strike="noStrike">
                <a:solidFill>
                  <a:srgbClr val="00ffff"/>
                </a:solidFill>
                <a:latin typeface="KodchiangUPC"/>
                <a:ea typeface="LilyUPC"/>
              </a:rPr>
              <a:t>.(</a:t>
            </a:r>
            <a:r>
              <a:rPr b="1" lang="th-TH" sz="3600" spc="-1" strike="noStrike">
                <a:solidFill>
                  <a:srgbClr val="00ffff"/>
                </a:solidFill>
                <a:latin typeface="KodchiangUPC"/>
                <a:cs typeface="LilyUPC"/>
              </a:rPr>
              <a:t>ผบ</a:t>
            </a:r>
            <a:r>
              <a:rPr b="1" lang="th-TH" sz="3600" spc="-1" strike="noStrike">
                <a:solidFill>
                  <a:srgbClr val="00ffff"/>
                </a:solidFill>
                <a:latin typeface="KodchiangUPC"/>
                <a:ea typeface="LilyUPC"/>
              </a:rPr>
              <a:t>.)</a:t>
            </a:r>
            <a:r>
              <a:rPr b="0" lang="th-TH" sz="3600" spc="-1" strike="noStrike">
                <a:solidFill>
                  <a:srgbClr val="00ffff"/>
                </a:solidFill>
                <a:latin typeface="KodchiangUPC"/>
                <a:ea typeface="LilyUPC"/>
              </a:rPr>
              <a:t>            29,289        </a:t>
            </a:r>
            <a:r>
              <a:rPr b="0" lang="th-TH" sz="3600" spc="-1" strike="noStrike">
                <a:solidFill>
                  <a:srgbClr val="ffffff"/>
                </a:solidFill>
                <a:latin typeface="KodchiangUPC"/>
                <a:ea typeface="LilyUPC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KodchiangUPC"/>
                <a:ea typeface="LilyUPC"/>
              </a:rPr>
              <a:t>   </a:t>
            </a:r>
            <a:r>
              <a:rPr b="1" lang="th-TH" sz="3600" spc="-1" strike="noStrike">
                <a:solidFill>
                  <a:srgbClr val="ffff00"/>
                </a:solidFill>
                <a:latin typeface="KodchiangUPC"/>
                <a:ea typeface="LilyUPC"/>
              </a:rPr>
              <a:t>4. </a:t>
            </a:r>
            <a:r>
              <a:rPr b="1" lang="th-TH" sz="3600" spc="-1" strike="noStrike">
                <a:solidFill>
                  <a:srgbClr val="ffff00"/>
                </a:solidFill>
                <a:latin typeface="KodchiangUPC"/>
                <a:cs typeface="LilyUPC"/>
              </a:rPr>
              <a:t>นพ</a:t>
            </a:r>
            <a:r>
              <a:rPr b="1" lang="th-TH" sz="3600" spc="-1" strike="noStrike">
                <a:solidFill>
                  <a:srgbClr val="ffff00"/>
                </a:solidFill>
                <a:latin typeface="KodchiangUPC"/>
                <a:ea typeface="LilyUPC"/>
              </a:rPr>
              <a:t>. 9</a:t>
            </a:r>
            <a:r>
              <a:rPr b="0" lang="th-TH" sz="3600" spc="-1" strike="noStrike">
                <a:solidFill>
                  <a:srgbClr val="ffff00"/>
                </a:solidFill>
                <a:latin typeface="KodchiangUPC"/>
                <a:ea typeface="LilyUPC"/>
              </a:rPr>
              <a:t>                    1,718,965</a:t>
            </a:r>
            <a:r>
              <a:rPr b="1" lang="th-TH" sz="3600" spc="-1" strike="noStrike">
                <a:solidFill>
                  <a:srgbClr val="ffff00"/>
                </a:solidFill>
                <a:latin typeface="KodchiangUPC"/>
                <a:ea typeface="LilyUPC"/>
              </a:rPr>
              <a:t>      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  <a:ea typeface="LilyUPC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KodchiangUPC"/>
                <a:ea typeface="LilyUPC"/>
              </a:rPr>
              <a:t>  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  <a:ea typeface="LilyUPC"/>
              </a:rPr>
              <a:t>5.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  <a:cs typeface="LilyUPC"/>
              </a:rPr>
              <a:t>หนฝ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  <a:ea typeface="LilyUPC"/>
              </a:rPr>
              <a:t>.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  <a:cs typeface="LilyUPC"/>
              </a:rPr>
              <a:t>บริหาร            </a:t>
            </a:r>
            <a:r>
              <a:rPr b="0" lang="th-TH" sz="3600" spc="-1" strike="noStrike">
                <a:solidFill>
                  <a:srgbClr val="ffffff"/>
                </a:solidFill>
                <a:latin typeface="KodchiangUPC"/>
                <a:ea typeface="LilyUPC"/>
              </a:rPr>
              <a:t>1,840,694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KodchiangUPC"/>
                <a:ea typeface="LilyUPC"/>
              </a:rPr>
              <a:t>  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  <a:ea typeface="LilyUPC"/>
              </a:rPr>
              <a:t>6.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  <a:cs typeface="LilyUPC"/>
              </a:rPr>
              <a:t>ผู้เซ็นร่วม                   </a:t>
            </a:r>
            <a:r>
              <a:rPr b="0" lang="th-TH" sz="3600" spc="-1" strike="noStrike">
                <a:solidFill>
                  <a:srgbClr val="ffffff"/>
                </a:solidFill>
                <a:latin typeface="KodchiangUPC"/>
                <a:ea typeface="LilyUPC"/>
              </a:rPr>
              <a:t>381,436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th-TH" sz="3600" spc="-1" strike="noStrike">
                <a:solidFill>
                  <a:srgbClr val="ffdebd"/>
                </a:solidFill>
                <a:latin typeface="KodchiangUPC"/>
                <a:ea typeface="LilyUPC"/>
              </a:rPr>
              <a:t>                      </a:t>
            </a:r>
            <a:r>
              <a:rPr b="1" lang="th-TH" sz="3600" spc="-1" strike="noStrike">
                <a:solidFill>
                  <a:srgbClr val="ffdebd"/>
                </a:solidFill>
                <a:latin typeface="KodchiangUPC"/>
                <a:cs typeface="LilyUPC"/>
              </a:rPr>
              <a:t>รวม         </a:t>
            </a:r>
            <a:r>
              <a:rPr b="1" lang="th-TH" sz="3600" spc="-1" strike="noStrike">
                <a:solidFill>
                  <a:srgbClr val="ffdebd"/>
                </a:solidFill>
                <a:latin typeface="KodchiangUPC"/>
                <a:ea typeface="LilyUPC"/>
              </a:rPr>
              <a:t>6,935,462 </a:t>
            </a:r>
            <a:r>
              <a:rPr b="0" lang="th-TH" sz="3600" spc="-1" strike="noStrike">
                <a:solidFill>
                  <a:srgbClr val="ffdebd"/>
                </a:solidFill>
                <a:latin typeface="KodchiangUPC"/>
                <a:ea typeface="LilyUPC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7" name="Line 5"/>
          <p:cNvSpPr/>
          <p:nvPr/>
        </p:nvSpPr>
        <p:spPr>
          <a:xfrm flipV="1">
            <a:off x="0" y="1555560"/>
            <a:ext cx="9144000" cy="74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0" y="5013360"/>
            <a:ext cx="5651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0" y="2205000"/>
            <a:ext cx="91440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0" y="2781360"/>
            <a:ext cx="91440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0" y="3357720"/>
            <a:ext cx="5651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2" name="Line 10"/>
          <p:cNvSpPr/>
          <p:nvPr/>
        </p:nvSpPr>
        <p:spPr>
          <a:xfrm>
            <a:off x="0" y="3933720"/>
            <a:ext cx="5651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0" y="4437000"/>
            <a:ext cx="5651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4" name="Line 12"/>
          <p:cNvSpPr/>
          <p:nvPr/>
        </p:nvSpPr>
        <p:spPr>
          <a:xfrm>
            <a:off x="2987640" y="981000"/>
            <a:ext cx="0" cy="518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5651640" y="1052640"/>
            <a:ext cx="1440" cy="511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0" y="5589720"/>
            <a:ext cx="91440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0" y="6165720"/>
            <a:ext cx="91440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5580000" y="2997360"/>
            <a:ext cx="287280" cy="2376360"/>
          </a:xfrm>
          <a:custGeom>
            <a:avLst/>
            <a:gdLst>
              <a:gd name="textAreaLeft" fmla="*/ 0 w 287280"/>
              <a:gd name="textAreaRight" fmla="*/ 103680 w 28728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7596360" y="3429000"/>
            <a:ext cx="1403280" cy="165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ยกเว้น</a:t>
            </a:r>
            <a:endParaRPr b="1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นพ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สสจ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ไม่ฟ้องคดี</a:t>
            </a:r>
            <a:endParaRPr b="1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6012000" y="3933720"/>
            <a:ext cx="1511280" cy="50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Arial Unicode MS"/>
              </a:rPr>
              <a:t>ให้ใช้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rial Unicode MS"/>
              </a:rPr>
              <a:t>50%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5867280" y="5661000"/>
            <a:ext cx="216072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Arial Unicode MS"/>
              </a:rPr>
              <a:t>2,992,849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6443640" y="2276640"/>
            <a:ext cx="165744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ff00"/>
                </a:solidFill>
                <a:latin typeface="Angsana New"/>
              </a:rPr>
              <a:t>ให้ใช้ </a:t>
            </a:r>
            <a:r>
              <a:rPr b="1" lang="th-TH" sz="3600" spc="-1" strike="noStrike">
                <a:solidFill>
                  <a:srgbClr val="00ff00"/>
                </a:solidFill>
                <a:latin typeface="Angsana New"/>
              </a:rPr>
              <a:t>30%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3" name="Rectangle 22"/>
          <p:cNvSpPr/>
          <p:nvPr/>
        </p:nvSpPr>
        <p:spPr>
          <a:xfrm>
            <a:off x="6156360" y="1700280"/>
            <a:ext cx="2376360" cy="43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d3a7"/>
                </a:solidFill>
                <a:latin typeface="Angsana New"/>
              </a:rPr>
              <a:t>ให้ใช้ </a:t>
            </a:r>
            <a:r>
              <a:rPr b="1" lang="th-TH" sz="3600" spc="-1" strike="noStrike">
                <a:solidFill>
                  <a:srgbClr val="ffd3a7"/>
                </a:solidFill>
                <a:latin typeface="Angsana New"/>
              </a:rPr>
              <a:t>100%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235640" y="352080"/>
            <a:ext cx="12222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539640" y="549360"/>
            <a:ext cx="8209080" cy="5688000"/>
          </a:xfrm>
          <a:prstGeom prst="rect">
            <a:avLst/>
          </a:prstGeom>
          <a:solidFill>
            <a:srgbClr val="0033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KodchiangUPC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KodchiangUPC"/>
              </a:rPr>
              <a:t>5. </a:t>
            </a:r>
            <a:r>
              <a:rPr b="1" lang="th-TH" sz="4400" spc="-1" strike="noStrike">
                <a:solidFill>
                  <a:srgbClr val="ffffff"/>
                </a:solidFill>
                <a:latin typeface="KodchiangUPC"/>
              </a:rPr>
              <a:t>ความรับผิดของเจ้าหน้าที่ผู้กระทำละเมิด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KodchiangUPC"/>
              </a:rPr>
              <a:t>      </a:t>
            </a:r>
            <a:r>
              <a:rPr b="0" lang="th-TH" sz="4000" spc="-1" strike="noStrike">
                <a:solidFill>
                  <a:srgbClr val="ffff00"/>
                </a:solidFill>
                <a:latin typeface="Times New Roman"/>
              </a:rPr>
              <a:t>5.1</a:t>
            </a:r>
            <a:r>
              <a:rPr b="1" lang="th-TH" sz="3200" spc="-1" strike="noStrike">
                <a:solidFill>
                  <a:srgbClr val="ffff00"/>
                </a:solidFill>
                <a:latin typeface="Times New Roman"/>
                <a:ea typeface="KodchiangUPC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KodchiangUPC"/>
              </a:rPr>
              <a:t>กรณีจงใจต้องรับผิดเต็มจำนวน</a:t>
            </a:r>
            <a:r>
              <a:rPr b="1" lang="th-TH" sz="4000" spc="-1" strike="noStrike">
                <a:solidFill>
                  <a:srgbClr val="ffff00"/>
                </a:solidFill>
                <a:latin typeface="KodchiangUPC"/>
                <a:ea typeface="KodchiangUPC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00"/>
                </a:solidFill>
                <a:latin typeface="KodchiangUPC"/>
              </a:rPr>
              <a:t>      </a:t>
            </a:r>
            <a:r>
              <a:rPr b="0" lang="th-TH" sz="4000" spc="-1" strike="noStrike">
                <a:solidFill>
                  <a:srgbClr val="ffff00"/>
                </a:solidFill>
                <a:latin typeface="Times New Roman"/>
              </a:rPr>
              <a:t>5.2</a:t>
            </a:r>
            <a:r>
              <a:rPr b="1" lang="th-TH" sz="3200" spc="-1" strike="noStrike">
                <a:solidFill>
                  <a:srgbClr val="ffff00"/>
                </a:solidFill>
                <a:latin typeface="Times New Roman"/>
                <a:ea typeface="KodchiangUPC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KodchiangUPC"/>
              </a:rPr>
              <a:t>กรณีประมาทเลินเล่ออย่างร้ายแรง  ไม่ต้อง</a:t>
            </a:r>
            <a:r>
              <a:rPr b="1" lang="th-TH" sz="4000" spc="-1" strike="noStrike">
                <a:solidFill>
                  <a:srgbClr val="ffff00"/>
                </a:solidFill>
                <a:latin typeface="KodchiangUPC"/>
                <a:ea typeface="KodchiangUPC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KodchiangUPC"/>
              </a:rPr>
              <a:t>           </a:t>
            </a:r>
            <a:r>
              <a:rPr b="1" lang="th-TH" sz="4000" spc="-1" strike="noStrike">
                <a:solidFill>
                  <a:srgbClr val="ffff00"/>
                </a:solidFill>
                <a:latin typeface="KodchiangUPC"/>
              </a:rPr>
              <a:t>รับผิดเต็มจำนวน</a:t>
            </a:r>
            <a:r>
              <a:rPr b="1" lang="th-TH" sz="4000" spc="-1" strike="noStrike" u="sng">
                <a:solidFill>
                  <a:srgbClr val="ffff00"/>
                </a:solidFill>
                <a:uFillTx/>
                <a:latin typeface="KodchiangUPC"/>
              </a:rPr>
              <a:t>ก็ได้</a:t>
            </a:r>
            <a:r>
              <a:rPr b="1" lang="th-TH" sz="4000" spc="-1" strike="noStrike">
                <a:solidFill>
                  <a:srgbClr val="ffcc66"/>
                </a:solidFill>
                <a:latin typeface="Kodchiang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อยู่ระหว่าง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65%-95%)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KodchiangUPC"/>
              </a:rPr>
              <a:t>      </a:t>
            </a:r>
            <a:r>
              <a:rPr b="0" lang="th-TH" sz="4000" spc="-1" strike="noStrike">
                <a:solidFill>
                  <a:srgbClr val="ffff00"/>
                </a:solidFill>
                <a:latin typeface="Times New Roman"/>
              </a:rPr>
              <a:t>5.3</a:t>
            </a:r>
            <a:r>
              <a:rPr b="1" lang="th-TH" sz="3200" spc="-1" strike="noStrike">
                <a:solidFill>
                  <a:srgbClr val="ffff00"/>
                </a:solidFill>
                <a:latin typeface="Times New Roman"/>
                <a:ea typeface="KodchiangUPC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KodchiangUPC"/>
              </a:rPr>
              <a:t>กรณีหน่วยงานมีส่วนความรับผิดชอบด้วย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KodchiangUPC"/>
              </a:rPr>
              <a:t>            </a:t>
            </a:r>
            <a:r>
              <a:rPr b="1" lang="th-TH" sz="4000" spc="-1" strike="noStrike">
                <a:solidFill>
                  <a:srgbClr val="ffff00"/>
                </a:solidFill>
                <a:latin typeface="KodchiangUPC"/>
              </a:rPr>
              <a:t>ให้หน่วยงานหักลดได้ ตามสมควรแก่กรณี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KodchiangUPC"/>
              </a:rPr>
              <a:t>      </a:t>
            </a:r>
            <a:r>
              <a:rPr b="0" lang="th-TH" sz="4000" spc="-1" strike="noStrike">
                <a:solidFill>
                  <a:srgbClr val="ffff00"/>
                </a:solidFill>
                <a:latin typeface="KodchiangUPC"/>
              </a:rPr>
              <a:t>5.4</a:t>
            </a:r>
            <a:r>
              <a:rPr b="1" lang="th-TH" sz="4000" spc="-1" strike="noStrike">
                <a:solidFill>
                  <a:srgbClr val="ffff00"/>
                </a:solidFill>
                <a:latin typeface="KodchiangUPC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KodchiangUPC"/>
              </a:rPr>
              <a:t>ถ้ามีผู้กระทำผิดหลายคน ไม่ใช้หลักลูกหนี้ร่วม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KodchiangUPC"/>
              </a:rPr>
              <a:t>  </a:t>
            </a:r>
            <a:r>
              <a:rPr b="1" lang="th-TH" sz="4400" spc="-1" strike="noStrike">
                <a:solidFill>
                  <a:srgbClr val="ffffff"/>
                </a:solidFill>
                <a:latin typeface="KodchiangUPC"/>
              </a:rPr>
              <a:t>6. </a:t>
            </a:r>
            <a:r>
              <a:rPr b="1" lang="th-TH" sz="4400" spc="-1" strike="noStrike">
                <a:solidFill>
                  <a:srgbClr val="ffffff"/>
                </a:solidFill>
                <a:latin typeface="KodchiangUPC"/>
              </a:rPr>
              <a:t>ผู้ที่ต้องรับผิด ขอผ่อนชำระได้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KodchiangUPC"/>
              </a:rPr>
              <a:t>                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35640" y="352080"/>
            <a:ext cx="12222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684360" y="404640"/>
            <a:ext cx="8135640" cy="5805720"/>
          </a:xfrm>
          <a:prstGeom prst="rect">
            <a:avLst/>
          </a:prstGeom>
          <a:solidFill>
            <a:srgbClr val="0033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7.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ถ้าผู้กระทำผิด ไม่สามารถชำระหนี้ได้ </a:t>
            </a:r>
            <a:r>
              <a:rPr b="1" lang="th-TH" sz="3600" spc="-1" strike="noStrike">
                <a:solidFill>
                  <a:srgbClr val="ffff00"/>
                </a:solidFill>
                <a:latin typeface="KodchiangUPC"/>
              </a:rPr>
              <a:t>ให้หน่วยงาน                        </a:t>
            </a:r>
            <a:r>
              <a:rPr b="1" lang="th-TH" sz="3600" spc="-1" strike="noStrike">
                <a:solidFill>
                  <a:srgbClr val="ffff00"/>
                </a:solidFill>
                <a:latin typeface="KodchiangUPC"/>
              </a:rPr>
              <a:t>	</a:t>
            </a:r>
            <a:r>
              <a:rPr b="1" lang="th-TH" sz="3600" spc="-1" strike="noStrike">
                <a:solidFill>
                  <a:srgbClr val="ffff00"/>
                </a:solidFill>
                <a:latin typeface="KodchiangUPC"/>
              </a:rPr>
              <a:t>ผ่อนผันตามความเหมาะสม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 และไม่อาจฟ้องเจ้าหน้าที่     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ผู้ที่ต้องรับผิด ให้เป็นบุคคลล้มละลายได้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   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8.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กรณีเจ้าหน้าที่ผู้ต้องรับผิดตาย และจะต้องรับผิดต่อ             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หน่วยงาน  </a:t>
            </a:r>
            <a:r>
              <a:rPr b="1" lang="th-TH" sz="3600" spc="-1" strike="noStrike">
                <a:solidFill>
                  <a:srgbClr val="ffff00"/>
                </a:solidFill>
                <a:latin typeface="KodchiangUPC"/>
              </a:rPr>
              <a:t>ให้ฟ้องผู้จัดการมรดก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หรือ</a:t>
            </a:r>
            <a:r>
              <a:rPr b="1" lang="th-TH" sz="3600" spc="-1" strike="noStrike">
                <a:solidFill>
                  <a:srgbClr val="ffff00"/>
                </a:solidFill>
                <a:latin typeface="KodchiangUPC"/>
              </a:rPr>
              <a:t>ทายาท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ต่อไป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   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9.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กรณีการละเมิดมิได้เกิดจากการปฏิบัติหน้าที่               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	</a:t>
            </a:r>
            <a:r>
              <a:rPr b="1" lang="th-TH" sz="3600" spc="-1" strike="noStrike">
                <a:solidFill>
                  <a:srgbClr val="ffff00"/>
                </a:solidFill>
                <a:latin typeface="KodchiangUPC"/>
              </a:rPr>
              <a:t>ให้ใช้กฎหมายแพ่งบังคับ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                                                  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                 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................................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KodchiangUPC"/>
              </a:rPr>
              <a:t>                       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35640" y="352080"/>
            <a:ext cx="12222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468360" y="404640"/>
            <a:ext cx="8280360" cy="597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Webdings"/>
                <a:ea typeface="Webdings"/>
              </a:rPr>
              <a:t></a:t>
            </a:r>
            <a:r>
              <a:rPr b="1" lang="th-TH" sz="4000" spc="-1" strike="noStrike" u="sng">
                <a:solidFill>
                  <a:srgbClr val="ffffff"/>
                </a:solidFill>
                <a:uFillTx/>
                <a:latin typeface="Angsana New"/>
              </a:rPr>
              <a:t>ความหมายของการกระทำโดยละเมิด</a:t>
            </a:r>
            <a:r>
              <a:rPr b="1" lang="th-TH" sz="4000" spc="-1" strike="noStrike" u="sng">
                <a:solidFill>
                  <a:srgbClr val="ffffff"/>
                </a:solidFill>
                <a:uFillTx/>
                <a:latin typeface="Angsana New"/>
              </a:rPr>
              <a:t>...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 </a:t>
            </a:r>
            <a:r>
              <a:rPr b="1" lang="th-TH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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ประมวลกฎหมายแพ่งและพาณิชย์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มาตรา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420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ผู้ใดจงใจหรือประมาทเลินเล่อ ทำต่อ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บุคคลอื่นโดยผิดกฎหมาย ให้เขาเสียหายถึงแก่</a:t>
            </a:r>
            <a:r>
              <a:rPr b="1" lang="th-TH" sz="3600" spc="-1" strike="noStrike" u="sng">
                <a:solidFill>
                  <a:srgbClr val="ffff00"/>
                </a:solidFill>
                <a:uFillTx/>
                <a:latin typeface="Angsana New"/>
              </a:rPr>
              <a:t>ชีวิต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ก็ดี 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แก่</a:t>
            </a:r>
            <a:r>
              <a:rPr b="1" lang="th-TH" sz="3600" spc="-1" strike="noStrike" u="sng">
                <a:solidFill>
                  <a:srgbClr val="ffff00"/>
                </a:solidFill>
                <a:uFillTx/>
                <a:latin typeface="Angsana New"/>
              </a:rPr>
              <a:t>ร่างกาย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ก็ดี </a:t>
            </a:r>
            <a:r>
              <a:rPr b="1" lang="th-TH" sz="3600" spc="-1" strike="noStrike" u="sng">
                <a:solidFill>
                  <a:srgbClr val="ffff00"/>
                </a:solidFill>
                <a:uFillTx/>
                <a:latin typeface="Angsana New"/>
              </a:rPr>
              <a:t>อนามัย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ก็ดี  </a:t>
            </a:r>
            <a:r>
              <a:rPr b="1" lang="th-TH" sz="3600" spc="-1" strike="noStrike" u="sng">
                <a:solidFill>
                  <a:srgbClr val="ffff00"/>
                </a:solidFill>
                <a:uFillTx/>
                <a:latin typeface="Angsana New"/>
              </a:rPr>
              <a:t>เสรีภาพ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ก็ดี </a:t>
            </a:r>
            <a:r>
              <a:rPr b="1" lang="th-TH" sz="3600" spc="-1" strike="noStrike" u="sng">
                <a:solidFill>
                  <a:srgbClr val="ffff00"/>
                </a:solidFill>
                <a:uFillTx/>
                <a:latin typeface="Angsana New"/>
              </a:rPr>
              <a:t>ทรัพย์สิน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หรือ 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       </a:t>
            </a:r>
            <a:r>
              <a:rPr b="1" lang="th-TH" sz="3600" spc="-1" strike="noStrike" u="sng">
                <a:solidFill>
                  <a:srgbClr val="ffff00"/>
                </a:solidFill>
                <a:uFillTx/>
                <a:latin typeface="Angsana New"/>
              </a:rPr>
              <a:t>สิทธิ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อย่างหนึ่งอย่างใดก็ดี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ท่านว่าผู้นั้นกระทำละเมิด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จำต้อง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ชดใช้ค่าสินไหมทดแทนเพื่อการนั้น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</a:t>
            </a:r>
            <a:r>
              <a:rPr b="1" lang="th-TH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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พ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ร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บ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ความรับผิดทางละเมิดฯ พ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ศ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 2539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-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เฉพาะความเสียหายแก่ </a:t>
            </a:r>
            <a:r>
              <a:rPr b="1" lang="th-TH" sz="3600" spc="-1" strike="noStrike" u="sng">
                <a:solidFill>
                  <a:srgbClr val="ffff00"/>
                </a:solidFill>
                <a:uFillTx/>
                <a:latin typeface="Angsana New"/>
              </a:rPr>
              <a:t>ชีวิต</a:t>
            </a:r>
            <a:r>
              <a:rPr b="1" lang="th-TH" sz="3600" spc="-1" strike="noStrike" u="sng">
                <a:solidFill>
                  <a:srgbClr val="ffff00"/>
                </a:solidFill>
                <a:uFillTx/>
                <a:latin typeface="Angsana New"/>
              </a:rPr>
              <a:t>,</a:t>
            </a:r>
            <a:r>
              <a:rPr b="1" lang="th-TH" sz="3600" spc="-1" strike="noStrike" u="sng">
                <a:solidFill>
                  <a:srgbClr val="ffff00"/>
                </a:solidFill>
                <a:uFillTx/>
                <a:latin typeface="Angsana New"/>
              </a:rPr>
              <a:t>ร่างกาย</a:t>
            </a:r>
            <a:r>
              <a:rPr b="1" lang="th-TH" sz="3600" spc="-1" strike="noStrike" u="sng">
                <a:solidFill>
                  <a:srgbClr val="ffff00"/>
                </a:solidFill>
                <a:uFillTx/>
                <a:latin typeface="Angsana New"/>
              </a:rPr>
              <a:t>,</a:t>
            </a:r>
            <a:r>
              <a:rPr b="1" lang="th-TH" sz="3600" spc="-1" strike="noStrike" u="sng">
                <a:solidFill>
                  <a:srgbClr val="ffff00"/>
                </a:solidFill>
                <a:uFillTx/>
                <a:latin typeface="Angsana New"/>
              </a:rPr>
              <a:t>ทรัพย์สิน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เท่านั้น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35640" y="352080"/>
            <a:ext cx="12222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24000" y="26028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KodchiangUPC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Kodchiang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)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คำว่า “</a:t>
            </a:r>
            <a:r>
              <a:rPr b="1" lang="th-TH" sz="3600" spc="-1" strike="noStrike" u="sng">
                <a:solidFill>
                  <a:srgbClr val="ffffff"/>
                </a:solidFill>
                <a:uFillTx/>
                <a:latin typeface="Angsana New"/>
              </a:rPr>
              <a:t>จงใจ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”  เป็นการกระทำที่ผู้กระทำ </a:t>
            </a:r>
            <a:r>
              <a:rPr b="0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กระทำโดยรู้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สำนึกถึงผลเสียหายที่จะเกิดขึ้น จากการกระทำของตน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           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คือ รู้ว่าความเสียหายจะต้องเกิดขึ้นแน่ๆ  และเมื่อได้     </a:t>
            </a:r>
            <a:r>
              <a:rPr b="1" lang="en-US" sz="3600" spc="-1" strike="noStrike">
                <a:solidFill>
                  <a:srgbClr val="ffff00"/>
                </a:solidFill>
                <a:latin typeface="Angsana New"/>
              </a:rPr>
              <a:t>	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กระทำแล้ว ความเสียหายก็เกิดขึ้นจริงๆ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3)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คำว่า “</a:t>
            </a:r>
            <a:r>
              <a:rPr b="1" lang="th-TH" sz="3600" spc="-1" strike="noStrike" u="sng">
                <a:solidFill>
                  <a:srgbClr val="ffffff"/>
                </a:solidFill>
                <a:uFillTx/>
                <a:latin typeface="Angsana New"/>
              </a:rPr>
              <a:t>ประมาท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” หรือ “</a:t>
            </a:r>
            <a:r>
              <a:rPr b="1" lang="th-TH" sz="3600" spc="-1" strike="noStrike" u="sng">
                <a:solidFill>
                  <a:srgbClr val="ffffff"/>
                </a:solidFill>
                <a:uFillTx/>
                <a:latin typeface="Angsana New"/>
              </a:rPr>
              <a:t>ประมาทเลินเล่อ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” 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ได้แก่ กระทำความผิดมิใช่โดยเจตนา  แต่กระทำโดย 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ปราศจากความระมัดระวัง ซึ่งบุคคลใน</a:t>
            </a:r>
            <a:r>
              <a:rPr b="1" lang="th-TH" sz="3600" spc="-1" strike="noStrike" u="sng">
                <a:solidFill>
                  <a:srgbClr val="ffff00"/>
                </a:solidFill>
                <a:uFillTx/>
                <a:latin typeface="Angsana New"/>
              </a:rPr>
              <a:t>ภาวะเช่นนั้น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จักต้องมี               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    </a:t>
            </a:r>
            <a:r>
              <a:rPr b="1" lang="th-TH" sz="3600" spc="-1" strike="noStrike" u="sng">
                <a:solidFill>
                  <a:srgbClr val="ffff00"/>
                </a:solidFill>
                <a:uFillTx/>
                <a:latin typeface="Angsana New"/>
              </a:rPr>
              <a:t>ตามวิสัย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และ</a:t>
            </a:r>
            <a:r>
              <a:rPr b="1" lang="th-TH" sz="3600" spc="-1" strike="noStrike" u="sng">
                <a:solidFill>
                  <a:srgbClr val="ffff00"/>
                </a:solidFill>
                <a:uFillTx/>
                <a:latin typeface="Angsana New"/>
              </a:rPr>
              <a:t>พฤติการณ์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และผู้กระทำอาจใช้ความระมัดระวัง 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เช่นว่านั้นได้ แต่หาได้ใช้ให้เพียงพอไม่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539640" y="620640"/>
            <a:ext cx="8064720" cy="532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คำว่า </a:t>
            </a:r>
            <a:r>
              <a:rPr b="1" lang="th-TH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 จงใจ </a:t>
            </a:r>
            <a:r>
              <a:rPr b="1" lang="th-TH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KodchiangUPC"/>
              </a:rPr>
              <a:t>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คือการกระทำที่ผู้กระทำ  กระทำโดยรู้สำนึก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ถึงผลเสียหายที่จะเกิดขึ้น จากการกระทำของตน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คือ รู้ว่าความเสียหายจะต้องเกิดขึ้นแน่ๆและ 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เมื่อได้กระทำแล้ว ความเสียหายก็เกิดขึ้นจริงๆ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             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35640" y="352080"/>
            <a:ext cx="12222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611280" y="620640"/>
            <a:ext cx="7993080" cy="532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คำว่า </a:t>
            </a:r>
            <a:r>
              <a:rPr b="1" lang="th-TH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ประมาทเลินเล่อไม่ร้ายแรง</a:t>
            </a:r>
            <a:r>
              <a:rPr b="1" lang="th-TH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1" lang="th-TH" sz="4000" spc="-1" strike="noStrike">
                <a:solidFill>
                  <a:srgbClr val="000099"/>
                </a:solidFill>
                <a:latin typeface="Angsana New"/>
              </a:rPr>
              <a:t>คือ การกระทำผิดที่มิใช่โดยเจตนา แต่กระทำโดย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Angsana New"/>
              </a:rPr>
              <a:t>    </a:t>
            </a:r>
            <a:r>
              <a:rPr b="1" lang="th-TH" sz="4000" spc="-1" strike="noStrike">
                <a:solidFill>
                  <a:srgbClr val="000099"/>
                </a:solidFill>
                <a:latin typeface="Angsana New"/>
              </a:rPr>
              <a:t>ปราศจากความระมัดระวัง  ซึ่งบุคคลในภาวะเช่นนั้น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Angsana New"/>
              </a:rPr>
              <a:t>    </a:t>
            </a:r>
            <a:r>
              <a:rPr b="1" lang="th-TH" sz="4000" spc="-1" strike="noStrike">
                <a:solidFill>
                  <a:srgbClr val="000099"/>
                </a:solidFill>
                <a:latin typeface="Angsana New"/>
              </a:rPr>
              <a:t>จะต้องมีตามวิสัยและพฤติการณ์   และผู้กระทำอาจ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Angsana New"/>
              </a:rPr>
              <a:t>     </a:t>
            </a:r>
            <a:r>
              <a:rPr b="1" lang="th-TH" sz="4000" spc="-1" strike="noStrike">
                <a:solidFill>
                  <a:srgbClr val="000099"/>
                </a:solidFill>
                <a:latin typeface="Angsana New"/>
              </a:rPr>
              <a:t>ใช้ความระมัดระวัง</a:t>
            </a:r>
            <a:r>
              <a:rPr b="0" lang="th-TH" sz="4000" spc="-1" strike="noStrike">
                <a:solidFill>
                  <a:srgbClr val="000099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000099"/>
                </a:solidFill>
                <a:latin typeface="Angsana New"/>
              </a:rPr>
              <a:t>เช่นว่านั้นได้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   </a:t>
            </a: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และ</a:t>
            </a:r>
            <a:r>
              <a:rPr b="1" i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ผู้กระทำก็ได้ใช้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1" i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ความระมัดระวังแล้ว  แต่ยังใช้ไม่เพียงพอ  จึงเกิด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1" i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ความเสียหายขึ้น</a:t>
            </a:r>
            <a:r>
              <a:rPr b="1" i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            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235640" y="352080"/>
            <a:ext cx="12222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539640" y="620640"/>
            <a:ext cx="8064720" cy="532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คำว่า 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ประมาทเลินเล่ออย่างร้ายแรง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               </a:t>
            </a:r>
            <a:r>
              <a:rPr b="1" lang="th-TH" sz="3600" spc="-1" strike="noStrike">
                <a:solidFill>
                  <a:srgbClr val="000099"/>
                </a:solidFill>
                <a:latin typeface="Angsana New"/>
              </a:rPr>
              <a:t>คือ การกระทำผิดที่มิใช่โดยเจตนา แต่กระทำโดย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ngsana New"/>
              </a:rPr>
              <a:t>         </a:t>
            </a:r>
            <a:r>
              <a:rPr b="1" lang="th-TH" sz="3600" spc="-1" strike="noStrike">
                <a:solidFill>
                  <a:srgbClr val="000099"/>
                </a:solidFill>
                <a:latin typeface="Angsana New"/>
              </a:rPr>
              <a:t>ปราศจากความระมัดระวัง       ซึ่งบุคคลในภาวะเช่นนั้น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ngsana New"/>
              </a:rPr>
              <a:t>         </a:t>
            </a:r>
            <a:r>
              <a:rPr b="1" lang="th-TH" sz="3600" spc="-1" strike="noStrike">
                <a:solidFill>
                  <a:srgbClr val="000099"/>
                </a:solidFill>
                <a:latin typeface="Angsana New"/>
              </a:rPr>
              <a:t>จะต้องมีตามวิสัยและพฤติการณ์     และผู้กระทำอาจใช้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ngsana New"/>
              </a:rPr>
              <a:t>         </a:t>
            </a:r>
            <a:r>
              <a:rPr b="1" lang="th-TH" sz="3600" spc="-1" strike="noStrike">
                <a:solidFill>
                  <a:srgbClr val="000099"/>
                </a:solidFill>
                <a:latin typeface="Angsana New"/>
              </a:rPr>
              <a:t>ความระมัดระวังเช่นว่านั้นได้  แต่มิได้กระทำ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3600" spc="-1" strike="noStrike" u="sng">
                <a:solidFill>
                  <a:srgbClr val="000000"/>
                </a:solidFill>
                <a:uFillTx/>
                <a:latin typeface="Angsana New"/>
              </a:rPr>
              <a:t>กลับกระทำ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1" lang="th-TH" sz="3600" spc="-1" strike="noStrike" u="sng">
                <a:solidFill>
                  <a:srgbClr val="000000"/>
                </a:solidFill>
                <a:uFillTx/>
                <a:latin typeface="Angsana New"/>
              </a:rPr>
              <a:t>การที่เบี่ยงเบนไปจากมาตรฐาน ของบุคคลในภาวะเช่นนั้น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1" lang="th-TH" sz="3600" spc="-1" strike="noStrike" u="sng">
                <a:solidFill>
                  <a:srgbClr val="000000"/>
                </a:solidFill>
                <a:uFillTx/>
                <a:latin typeface="Angsana New"/>
              </a:rPr>
              <a:t>เป็นอย่างมาก หากใช้ความระมัดระวังสักเล็กน้อย คงคาด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1" lang="th-TH" sz="3600" spc="-1" strike="noStrike" u="sng">
                <a:solidFill>
                  <a:srgbClr val="000000"/>
                </a:solidFill>
                <a:uFillTx/>
                <a:latin typeface="Angsana New"/>
              </a:rPr>
              <a:t>เห็นได้ว่าความเสียหายอาจเกิดขึ้น</a:t>
            </a:r>
            <a:r>
              <a:rPr b="1" lang="th-TH" sz="3600" spc="-1" strike="noStrike" u="sng">
                <a:solidFill>
                  <a:srgbClr val="000000"/>
                </a:solidFill>
                <a:uFillTx/>
                <a:latin typeface="Angsana New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35640" y="352080"/>
            <a:ext cx="12222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620640"/>
            <a:ext cx="8064720" cy="532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คำว่า 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เหตุสุดวิสัย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เหตุสุดวิสัย คือเหตุใดๆ อันจะเกิดขึ้นก็ดี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</a:t>
            </a:r>
            <a:r>
              <a:rPr b="1" lang="th-TH" sz="4000" spc="-1" strike="noStrike" u="sng">
                <a:solidFill>
                  <a:srgbClr val="000000"/>
                </a:solidFill>
                <a:uFillTx/>
                <a:latin typeface="KodchiangUPC"/>
              </a:rPr>
              <a:t>เป็นเหตุที่ ไม่อาจป้องกันได้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แม้บุคคลผู้ต้อง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ประสบเหตุ หรือใกล้จะประสบเหตุนั้น จะได้จัด 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การ ระมัดระวังตามสมควร อันพึงคาดหมาย  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ได้จากบุคคลในฐานะ และภาวะ เช่นนั้น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solidFill>
            <a:srgbClr val="003300"/>
          </a:solidFill>
          <a:ln w="284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KodchiangUPC"/>
                <a:cs typeface="LilyUPC"/>
              </a:rPr>
              <a:t>องค์ประกอบในการประกอบวิชาชีพการพยาบาล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" name="Oval 4"/>
          <p:cNvSpPr/>
          <p:nvPr/>
        </p:nvSpPr>
        <p:spPr>
          <a:xfrm>
            <a:off x="3995640" y="1916280"/>
            <a:ext cx="2880000" cy="1225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ีความรู้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กฎหมาย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" name="Oval 5"/>
          <p:cNvSpPr/>
          <p:nvPr/>
        </p:nvSpPr>
        <p:spPr>
          <a:xfrm>
            <a:off x="250920" y="2492280"/>
            <a:ext cx="3529080" cy="17287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ีความรู้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ความสามารถ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ในวิชาชีพ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" name="Oval 6"/>
          <p:cNvSpPr/>
          <p:nvPr/>
        </p:nvSpPr>
        <p:spPr>
          <a:xfrm>
            <a:off x="4067280" y="3645000"/>
            <a:ext cx="2879640" cy="122544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ีคุณธรรม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จริยธรรม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7020000" y="2565360"/>
            <a:ext cx="504720" cy="1584360"/>
          </a:xfrm>
          <a:custGeom>
            <a:avLst/>
            <a:gdLst>
              <a:gd name="textAreaLeft" fmla="*/ 67320 w 504720"/>
              <a:gd name="textAreaRight" fmla="*/ 437400 w 50472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" name="AutoShape 8"/>
          <p:cNvSpPr/>
          <p:nvPr/>
        </p:nvSpPr>
        <p:spPr>
          <a:xfrm rot="20173200">
            <a:off x="2568600" y="1755360"/>
            <a:ext cx="1728720" cy="482760"/>
          </a:xfrm>
          <a:custGeom>
            <a:avLst/>
            <a:gdLst>
              <a:gd name="textAreaLeft" fmla="*/ 315000 w 1728720"/>
              <a:gd name="textAreaRight" fmla="*/ 1240920 w 1728720"/>
              <a:gd name="textAreaTop" fmla="*/ 64440 h 482760"/>
              <a:gd name="textAreaBottom" fmla="*/ 418320 h 482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75" hR="21600" stAng="10800000" swAng="5400000"/>
                <a:lnTo>
                  <a:pt x="11566" y="0"/>
                </a:lnTo>
                <a:arcTo wR="7875" hR="21600" stAng="-5400000" swAng="2752688"/>
                <a:lnTo>
                  <a:pt x="21150" y="14400"/>
                </a:lnTo>
                <a:lnTo>
                  <a:pt x="17595" y="21600"/>
                </a:lnTo>
                <a:lnTo>
                  <a:pt x="13139" y="14400"/>
                </a:lnTo>
                <a:lnTo>
                  <a:pt x="15299" y="14400"/>
                </a:lnTo>
                <a:arcTo wR="7875" hR="21600" stAng="-2647312" swAng="-2451327"/>
                <a:lnTo>
                  <a:pt x="9720" y="602"/>
                </a:lnTo>
                <a:arcTo wR="7875" hR="21600" stAng="-5701361" swAng="-5098639"/>
                <a:close/>
              </a:path>
              <a:path fill="darkenLess" w="21600" h="21600">
                <a:moveTo>
                  <a:pt x="0" y="21600"/>
                </a:moveTo>
                <a:arcTo wR="7875" hR="21600" stAng="10800000" swAng="5400000"/>
                <a:lnTo>
                  <a:pt x="7875" y="0"/>
                </a:lnTo>
                <a:arcTo wR="7875" hR="21600" stAng="-5400000" swAng="301361"/>
                <a:lnTo>
                  <a:pt x="9720" y="602"/>
                </a:lnTo>
                <a:arcTo wR="7875" hR="21600" stAng="-5701361" swAng="-5098639"/>
                <a:close/>
              </a:path>
            </a:pathLst>
          </a:custGeom>
          <a:solidFill>
            <a:srgbClr val="ff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" name="AutoShape 9"/>
          <p:cNvSpPr/>
          <p:nvPr/>
        </p:nvSpPr>
        <p:spPr>
          <a:xfrm rot="1011000">
            <a:off x="2493720" y="4422600"/>
            <a:ext cx="1719000" cy="360360"/>
          </a:xfrm>
          <a:custGeom>
            <a:avLst/>
            <a:gdLst>
              <a:gd name="textAreaLeft" fmla="*/ 300600 w 1719000"/>
              <a:gd name="textAreaRight" fmla="*/ 1246320 w 1719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391004"/>
                <a:lnTo>
                  <a:pt x="21012" y="8353"/>
                </a:lnTo>
                <a:lnTo>
                  <a:pt x="17280" y="0"/>
                </a:lnTo>
                <a:lnTo>
                  <a:pt x="12372" y="8353"/>
                </a:lnTo>
                <a:lnTo>
                  <a:pt x="14532" y="8353"/>
                </a:lnTo>
                <a:arcTo wR="7560" hR="21600" stAng="3008996" swAng="2033569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235640" y="1483920"/>
            <a:ext cx="122220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gsana New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476280"/>
            <a:ext cx="7920000" cy="597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           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1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รถส่งต่อผู้ป่วย รถมูลนิธิ รถตำรวจ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2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ผู้ใต้บังคับบัญชาทุจริตเงินของทางราชการ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3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ลืมกรรไกรในท้องคนไข้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4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ปี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4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แพทย์ตัดนิ้วก้อยคนไข้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5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ให้เลือดผิดกลุ่ม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---------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1258920" y="765000"/>
            <a:ext cx="6553080" cy="648000"/>
          </a:xfrm>
          <a:prstGeom prst="rect">
            <a:avLst/>
          </a:prstGeom>
          <a:solidFill>
            <a:srgbClr val="000066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KodchiangUPC"/>
              </a:rPr>
              <a:t>ตัวอย่าง ประมาทเลินเล่ออย่างร้าย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235640" y="1483920"/>
            <a:ext cx="122220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gsana New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539640" y="476280"/>
            <a:ext cx="7920000" cy="597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           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1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คนไข้แพ้ยา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2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จ่ายยาให้คนไข้ผิด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3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แพทย์ตัดมดลูก พบทารก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4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ทันตแพทย์ถอนฟันน้องเต๋า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5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แพทย์ให้ยาชามากเกิน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บล็อกหลัง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---------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258920" y="765000"/>
            <a:ext cx="6553080" cy="648000"/>
          </a:xfrm>
          <a:prstGeom prst="rect">
            <a:avLst/>
          </a:prstGeom>
          <a:solidFill>
            <a:srgbClr val="0033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KodchiangUPC"/>
              </a:rPr>
              <a:t>ตัวอย่าง ประมาทเลินเล่อไม่ร้ายแรง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235640" y="1483920"/>
            <a:ext cx="122220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gsana New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39640" y="476280"/>
            <a:ext cx="7920000" cy="597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           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1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แพทย์ทำหมันโดยไม่บอกคนไข้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2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แพทย์ละทิ้งการผ่าตัดเพื่อไปทำคลอด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โรงพยาลเอกชน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3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แพทย์ไม่มารักษาคนไข้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P5 LilyUPC"/>
              </a:rPr>
              <a:t>Mercy Killing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---------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258920" y="765000"/>
            <a:ext cx="6553080" cy="648000"/>
          </a:xfrm>
          <a:prstGeom prst="rect">
            <a:avLst/>
          </a:prstGeom>
          <a:solidFill>
            <a:srgbClr val="5229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KodchiangUPC"/>
              </a:rPr>
              <a:t>ตัวอย่าง การกระทำโดยจงใจ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235640" y="1483920"/>
            <a:ext cx="122220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gsana New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476280"/>
            <a:ext cx="7920000" cy="597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           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1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ขับรถยนต์หลบเด็ก แต่ไปชนคนยืนข้างถนนตาย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2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ขับรถยนต์ชนคนวิ่งข้ามถนน ในระยะกระชั้นชิด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3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แพทย์ทำคลอดโดยดึงเด็ก แขนพิการ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4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แพทย์รักษาหรือผ่าตัดคนไข้ฉุกเฉิน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---------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258920" y="765000"/>
            <a:ext cx="6553080" cy="648000"/>
          </a:xfrm>
          <a:prstGeom prst="rect">
            <a:avLst/>
          </a:prstGeom>
          <a:solidFill>
            <a:srgbClr val="000066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KodchiangUPC"/>
              </a:rPr>
              <a:t>ตัวอย่าง การกระทำโดยเหตุสุดวิสัย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235640" y="1483920"/>
            <a:ext cx="122220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gsana New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9640" y="476280"/>
            <a:ext cx="7920000" cy="5977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           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1.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บุคคลภายนอก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0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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ชีวิต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,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ร่างกาย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,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ทรัพย์สิน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0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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  <a:ea typeface="Kodchiang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กรณีความเสียหายที่เกิดจากการรักษา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      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พยาบาล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เนื่องจากรักษาพยาบาลโดยไม่ถูก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วิธีหรือเบี่ยงเบนไปจากมาตรฐาน หรือไม่ได้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รับความยินยอม และเกิดความเสียหาย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116000" y="692280"/>
            <a:ext cx="6696000" cy="79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KodchiangUPC"/>
              </a:rPr>
              <a:t>ตัวอย่างการละเมิดที่เกิดกับ</a:t>
            </a:r>
            <a:r>
              <a:rPr b="1" lang="th-TH" sz="4400" spc="-1" strike="noStrike">
                <a:solidFill>
                  <a:srgbClr val="ffffff"/>
                </a:solidFill>
                <a:latin typeface="KodchiangUPC"/>
              </a:rPr>
              <a:t>...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235640" y="1483920"/>
            <a:ext cx="122220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gsana New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539640" y="476280"/>
            <a:ext cx="7920000" cy="5977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2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ความเสียหายที่เกิดกับทรัพย์สินของทางราชการ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2.1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ความเสียหายที่เกิดกับรถของทางราชการ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 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(1)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รถ สูญหายหรือถูกโจรกรรม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         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(2)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รถ ชนกับรถบุคคลภายนอก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 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(3)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รถชนคน รถชนสัตว์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          </a:t>
            </a:r>
            <a:r>
              <a:rPr b="0" lang="th-TH" sz="4000" spc="-1" strike="noStrike">
                <a:solidFill>
                  <a:srgbClr val="000000"/>
                </a:solidFill>
                <a:latin typeface="LilyUPC"/>
                <a:ea typeface="Arial Unicode MS"/>
              </a:rPr>
              <a:t>(4)</a:t>
            </a:r>
            <a:r>
              <a:rPr b="1" lang="th-TH" sz="4000" spc="-1" strike="noStrike">
                <a:solidFill>
                  <a:srgbClr val="000000"/>
                </a:solidFill>
                <a:latin typeface="LilyUPC"/>
                <a:ea typeface="Arial Unicode MS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LilyUPC"/>
                <a:cs typeface="Arial Unicode MS"/>
              </a:rPr>
              <a:t>รถ คว่ำหรือตกถนนโดยไม่มีคู่กรณี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LilyUPC"/>
                <a:ea typeface="Arial Unicode MS"/>
              </a:rPr>
              <a:t>           </a:t>
            </a:r>
            <a:r>
              <a:rPr b="1" lang="th-TH" sz="4000" spc="-1" strike="noStrike">
                <a:solidFill>
                  <a:srgbClr val="000000"/>
                </a:solidFill>
                <a:latin typeface="LilyUPC"/>
                <a:ea typeface="Arial Unicode MS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LilyUPC"/>
                <a:cs typeface="Arial Unicode MS"/>
              </a:rPr>
              <a:t>กระทรวงการคลังที่ กค</a:t>
            </a:r>
            <a:r>
              <a:rPr b="1" lang="th-TH" sz="4000" spc="-1" strike="noStrike">
                <a:solidFill>
                  <a:srgbClr val="000000"/>
                </a:solidFill>
                <a:latin typeface="LilyUPC"/>
                <a:ea typeface="Arial Unicode MS"/>
              </a:rPr>
              <a:t>. 0508/</a:t>
            </a:r>
            <a:r>
              <a:rPr b="1" lang="th-TH" sz="4000" spc="-1" strike="noStrike">
                <a:solidFill>
                  <a:srgbClr val="000000"/>
                </a:solidFill>
                <a:latin typeface="LilyUPC"/>
                <a:cs typeface="Arial Unicode MS"/>
              </a:rPr>
              <a:t>ว </a:t>
            </a:r>
            <a:r>
              <a:rPr b="1" lang="th-TH" sz="4000" spc="-1" strike="noStrike">
                <a:solidFill>
                  <a:srgbClr val="000000"/>
                </a:solidFill>
                <a:latin typeface="LilyUPC"/>
                <a:ea typeface="Arial Unicode MS"/>
              </a:rPr>
              <a:t>27274 </a:t>
            </a:r>
            <a:r>
              <a:rPr b="0" lang="th-TH" sz="4000" spc="-1" strike="noStrike">
                <a:solidFill>
                  <a:srgbClr val="000000"/>
                </a:solidFill>
                <a:latin typeface="LilyUPC"/>
                <a:ea typeface="Arial Unicode MS"/>
              </a:rPr>
              <a:t>,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LilyUPC"/>
                <a:ea typeface="Arial Unicode MS"/>
              </a:rPr>
              <a:t>             </a:t>
            </a:r>
            <a:r>
              <a:rPr b="1" lang="th-TH" sz="4000" spc="-1" strike="noStrike">
                <a:solidFill>
                  <a:srgbClr val="000000"/>
                </a:solidFill>
                <a:latin typeface="LilyUPC"/>
                <a:ea typeface="Arial Unicode MS"/>
              </a:rPr>
              <a:t>19 </a:t>
            </a:r>
            <a:r>
              <a:rPr b="1" lang="th-TH" sz="4000" spc="-1" strike="noStrike">
                <a:solidFill>
                  <a:srgbClr val="000000"/>
                </a:solidFill>
                <a:latin typeface="LilyUPC"/>
                <a:cs typeface="Arial Unicode MS"/>
              </a:rPr>
              <a:t>กรกฎาคม </a:t>
            </a:r>
            <a:r>
              <a:rPr b="1" lang="th-TH" sz="4000" spc="-1" strike="noStrike">
                <a:solidFill>
                  <a:srgbClr val="000000"/>
                </a:solidFill>
                <a:latin typeface="LilyUPC"/>
                <a:ea typeface="Arial Unicode MS"/>
              </a:rPr>
              <a:t>2525)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235640" y="1483920"/>
            <a:ext cx="122220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gsana New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539640" y="476280"/>
            <a:ext cx="7920000" cy="5977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2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ความเสียหายที่เกิดแก่เงินของทางราชการ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</a:t>
            </a:r>
            <a:r>
              <a:rPr b="1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</a:t>
            </a:r>
            <a:r>
              <a:rPr b="1" lang="th-TH" sz="2800" spc="-1" strike="noStrike">
                <a:solidFill>
                  <a:srgbClr val="000000"/>
                </a:solidFill>
                <a:latin typeface="Kodchiang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ผู้บังคับบัญชาต้องรับผิดทุกคน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</a:t>
            </a:r>
            <a:r>
              <a:rPr b="1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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Kodchiang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ผู้ที่เกี่ยวข้องคนอื่นๆ อาจรับผิด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3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ความเสียหายที่เกิดกับทรัพย์สินอื่นๆ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      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3.1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ทรัพย์สิน สูญหายหรือถูกโจรกรรม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      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3.2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ทรัพย์สิน ถูกเพลิงไหม้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3.3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ทรัพย์สิน เสียหายจากภัยธรรมชาติ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.....................................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8440">
            <a:solidFill>
              <a:srgbClr val="e5e000"/>
            </a:solidFill>
            <a:miter/>
          </a:ln>
        </p:spPr>
        <p:txBody>
          <a:bodyPr anchor="t">
            <a:no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ebff"/>
                </a:solidFill>
                <a:latin typeface="KodchiangUPC"/>
                <a:ea typeface="KodchiangUPC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ebff"/>
                </a:solidFill>
                <a:latin typeface="Times New Roman"/>
                <a:ea typeface="KodchiangUP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755640" y="1628640"/>
            <a:ext cx="7632720" cy="4608720"/>
          </a:xfrm>
          <a:prstGeom prst="rect">
            <a:avLst/>
          </a:prstGeom>
          <a:solidFill>
            <a:srgbClr val="fff5eb"/>
          </a:solidFill>
          <a:ln w="381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ebff"/>
                </a:solidFill>
                <a:latin typeface="KodchiangUPC"/>
                <a:ea typeface="KodchiangUPC"/>
              </a:rPr>
              <a:t>        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ebff"/>
                </a:solidFill>
                <a:latin typeface="KodchiangUPC"/>
                <a:ea typeface="KodchiangUPC"/>
              </a:rPr>
              <a:t>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1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เมื่อเกิดความเสียหายแก่หน่วยงาน คือ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ทรัพย์สินของทางราชการเสียหาย ให้เจ้าหน้าที่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ที่เกี่ยวข้อง รายงานผู้บังคับบัญชาจนถึงหัวหน้า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หน่วยงาน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755640" y="476280"/>
            <a:ext cx="7632720" cy="1143000"/>
          </a:xfrm>
          <a:prstGeom prst="rect">
            <a:avLst/>
          </a:prstGeom>
          <a:solidFill>
            <a:srgbClr val="000066"/>
          </a:solidFill>
          <a:ln w="19080">
            <a:solidFill>
              <a:srgbClr val="e5e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Times New Roman"/>
              </a:rPr>
              <a:t>การดำเนินการเมื่อเกิดการละเมิด</a:t>
            </a:r>
            <a:endParaRPr b="1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010280" y="-473040"/>
            <a:ext cx="144792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e5e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Times New Roman"/>
                <a:ea typeface="KodchiangUPC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611280" y="476280"/>
            <a:ext cx="8137440" cy="532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Times New Roman"/>
                <a:ea typeface="KodchiangUPC"/>
              </a:rPr>
              <a:t>                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2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กรณี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</a:rPr>
              <a:t>เจ้าหน้าที่ ทำให้เกิดความเสียหายแก่              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</a:rPr>
              <a:t>บุคคลภายนอก ถ้าเห็นว่าความเสียหายที่เกิดขึ้น             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</a:rPr>
              <a:t>เนื่องจาก  การที่ตนได้กระทำในการปฏิบัติหน้าที่           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</a:rPr>
              <a:t> ให้เจ้าหน้าที่ผู้นั้นแจ้งต่อผู้บังคับบัญชาโดยไม่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</a:rPr>
              <a:t>ชักช้าและให้มีการรายงานตามลำดับชั้น จนถึง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</a:rPr>
              <a:t>หัวหน้าหน่วยงานแห่งนั้น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010280" y="-473040"/>
            <a:ext cx="144792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e5e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Times New Roman"/>
                <a:ea typeface="KodchiangUPC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539640" y="404640"/>
            <a:ext cx="8136000" cy="5761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Times New Roman"/>
                <a:ea typeface="KodchiangUPC"/>
              </a:rPr>
              <a:t>           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3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การแต่งตั้งคณะกรรมการสอบสวนข้อเท็จจริง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ความรับผิดทางละเมิด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ข้อ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8)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   </a:t>
            </a:r>
            <a:r>
              <a:rPr b="1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</a:t>
            </a:r>
            <a:r>
              <a:rPr b="1" lang="th-T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กรณีมีเหตุอันควรเชื่อว่าความเสียหาย นั้น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เกิดจากการกระทำของเจ้าหน้าที่ หรือ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</a:t>
            </a:r>
            <a:r>
              <a:rPr b="1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</a:t>
            </a:r>
            <a:r>
              <a:rPr b="1" lang="th-T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กรณีผู้เสียหายยื่นคำขอให้หน่วยงานชดใช้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ค่าสินไหมทดแทน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   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  <a:ea typeface="KodchiangUPC"/>
              </a:rPr>
              <a:t>■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ให้แต่งตั้งคณะกรรมการสอบฯไม่เกิน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5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คน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8604360" y="0"/>
            <a:ext cx="539640" cy="33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29</a:t>
            </a:r>
            <a:endParaRPr b="1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solidFill>
            <a:srgbClr val="003300"/>
          </a:solidFill>
          <a:ln w="284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KodchiangUPC"/>
                <a:cs typeface="LilyUPC"/>
              </a:rPr>
              <a:t>บทบาทของบุคลากรฯ ในฐานะผู้ประกอบวิชาชีพ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solidFill>
            <a:srgbClr val="352311"/>
          </a:solidFill>
          <a:ln w="2844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   </a:t>
            </a:r>
            <a:r>
              <a:rPr b="1" lang="th-TH" sz="4400" spc="-1" strike="noStrike">
                <a:solidFill>
                  <a:srgbClr val="ffffff"/>
                </a:solidFill>
                <a:latin typeface="KodchiangUPC"/>
                <a:ea typeface="LilyUPC"/>
              </a:rPr>
              <a:t>1. </a:t>
            </a:r>
            <a:r>
              <a:rPr b="1" lang="th-TH" sz="4400" spc="-1" strike="noStrike">
                <a:solidFill>
                  <a:srgbClr val="ffffff"/>
                </a:solidFill>
                <a:latin typeface="KodchiangUPC"/>
                <a:cs typeface="LilyUPC"/>
              </a:rPr>
              <a:t>บทบาทในฐานะเป็นผู้ประกอบวิชาชีพ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LilyUPC"/>
              </a:rPr>
              <a:t>                 </a:t>
            </a:r>
            <a:r>
              <a:rPr b="1" lang="th-TH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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Lily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  <a:cs typeface="LilyUPC"/>
              </a:rPr>
              <a:t>เกิดจากกฎหมาย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LilyUPC"/>
              </a:rPr>
              <a:t>           </a:t>
            </a:r>
            <a:r>
              <a:rPr b="1" lang="th-TH" sz="4400" spc="-1" strike="noStrike">
                <a:solidFill>
                  <a:srgbClr val="ffffff"/>
                </a:solidFill>
                <a:latin typeface="KodchiangUPC"/>
                <a:ea typeface="LilyUPC"/>
              </a:rPr>
              <a:t>2. </a:t>
            </a:r>
            <a:r>
              <a:rPr b="1" lang="th-TH" sz="4400" spc="-1" strike="noStrike">
                <a:solidFill>
                  <a:srgbClr val="ffffff"/>
                </a:solidFill>
                <a:latin typeface="KodchiangUPC"/>
                <a:cs typeface="LilyUPC"/>
              </a:rPr>
              <a:t>บทบาทในฐานะเป็นผู้ช่วยเหลือแพทย์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LilyUPC"/>
              </a:rPr>
              <a:t>                 </a:t>
            </a:r>
            <a:r>
              <a:rPr b="1" lang="th-TH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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Lily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  <a:cs typeface="LilyUPC"/>
              </a:rPr>
              <a:t>เกิดจากกฎหมาย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LilyUPC"/>
              </a:rPr>
              <a:t>                </a:t>
            </a:r>
            <a:r>
              <a:rPr b="1" lang="th-TH" sz="2400" spc="-1" strike="noStrike">
                <a:solidFill>
                  <a:srgbClr val="ffffff"/>
                </a:solidFill>
                <a:latin typeface="KodchiangUPC"/>
                <a:ea typeface="LilyUPC"/>
              </a:rPr>
              <a:t>  </a:t>
            </a:r>
            <a:r>
              <a:rPr b="1" lang="th-TH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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Lily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  <a:cs typeface="LilyUPC"/>
              </a:rPr>
              <a:t>เกิดจากอำนาจทางการบริหาร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LilyUPC"/>
              </a:rPr>
              <a:t>.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LilyUP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LilyUPC"/>
              </a:rPr>
              <a:t>           </a:t>
            </a:r>
            <a:r>
              <a:rPr b="1" lang="th-TH" sz="2800" spc="-1" strike="noStrike">
                <a:solidFill>
                  <a:srgbClr val="ffffff"/>
                </a:solidFill>
                <a:latin typeface="KodchiangUPC"/>
                <a:ea typeface="LilyUPC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KodchiangUPC"/>
                <a:ea typeface="LilyUPC"/>
              </a:rPr>
              <a:t>3. </a:t>
            </a:r>
            <a:r>
              <a:rPr b="1" lang="th-TH" sz="4400" spc="-1" strike="noStrike">
                <a:solidFill>
                  <a:srgbClr val="ffffff"/>
                </a:solidFill>
                <a:latin typeface="KodchiangUPC"/>
                <a:cs typeface="LilyUPC"/>
              </a:rPr>
              <a:t>บทบาทในฐานะเป็นผู้บริหาร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LilyUP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LilyUPC"/>
              </a:rPr>
              <a:t>                  </a:t>
            </a:r>
            <a:r>
              <a:rPr b="1" lang="th-TH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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Lily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  <a:cs typeface="LilyUPC"/>
              </a:rPr>
              <a:t>เกิดจากกฎหมาย 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LilyUPC"/>
              </a:rPr>
              <a:t>  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LilyUPC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LilyUPC"/>
              </a:rPr>
              <a:t>                        </a:t>
            </a: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LilyUPC"/>
              </a:rPr>
              <a:t>.................................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010280" y="-473040"/>
            <a:ext cx="144792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e5e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Times New Roman"/>
                <a:ea typeface="KodchiangUPC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539640" y="476280"/>
            <a:ext cx="8136000" cy="568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Times New Roman"/>
                <a:ea typeface="KodchiangUPC"/>
              </a:rPr>
              <a:t>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4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กรณีไม่เชื่อว่าความเสียหายเกิดจากเจ้าหน้าที่         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ให้แต่งตั้งคณะกรรมการสอบข้อเท็จจริงเบื้องต้น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       </a:t>
            </a:r>
            <a:r>
              <a:rPr b="1" i="1" lang="th-TH" sz="4000" spc="-1" strike="noStrike">
                <a:solidFill>
                  <a:srgbClr val="000000"/>
                </a:solidFill>
                <a:latin typeface="KodchiangUPC"/>
              </a:rPr>
              <a:t>เช่น  กรณีทรัพย์สินหาย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5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การรายงานผลการสอบสวนฯ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   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5.1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สอบสวนฯทางละเมิด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ให้รายงานกระทรวงการคลัง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           </a:t>
            </a:r>
            <a:r>
              <a:rPr b="0" lang="th-TH" sz="4000" spc="-1" strike="noStrike">
                <a:solidFill>
                  <a:srgbClr val="000000"/>
                </a:solidFill>
                <a:latin typeface="KodchiangUPC"/>
              </a:rPr>
              <a:t>5.2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สอบข้อเท็จจริงเบื้องต้น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ให้รายงานกระทรวงสาธารณสุข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8604360" y="0"/>
            <a:ext cx="539640" cy="33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rial Unicode MS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235640" y="1483920"/>
            <a:ext cx="122220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gsana New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684360" y="692280"/>
            <a:ext cx="7920000" cy="5473440"/>
          </a:xfrm>
          <a:prstGeom prst="rect">
            <a:avLst/>
          </a:prstGeom>
          <a:solidFill>
            <a:srgbClr val="ffedd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KodchiangUP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Webdings"/>
                <a:ea typeface="Webdings"/>
              </a:rPr>
              <a:t></a:t>
            </a:r>
            <a:r>
              <a:rPr b="1" lang="th-TH" sz="2800" spc="-1" strike="noStrike">
                <a:solidFill>
                  <a:srgbClr val="000000"/>
                </a:solidFill>
                <a:latin typeface="KodchiangUPC"/>
                <a:ea typeface="Kodchiang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อายุความตาม พ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ร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บ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ความรับผิดทางละเมิดฯ  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1.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มีอายุความ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2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ปี นับแต่หน่วยงานรู้เรื่อง และ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รู้ตัวผู้กระทำผิด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2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มีอายุความ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1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ปี กรณีหน่วยงานหรือเจ้าหน้าที่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ได้ชดใช้ค่าเสียหายให้แก่ผู้เสียหายไปก่อนแล้ว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และจะเรียกให้อีกฝ่ายหนึ่งชดใช้ค่าเสียหาย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62920" y="-199080"/>
            <a:ext cx="12952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539640" y="2133720"/>
            <a:ext cx="8064720" cy="1904760"/>
          </a:xfrm>
          <a:prstGeom prst="rect">
            <a:avLst/>
          </a:prstGeom>
          <a:solidFill>
            <a:srgbClr val="7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KodchiangUPC"/>
              </a:rPr>
              <a:t>ความรับผิดตามกฎหมายแพ่ง</a:t>
            </a:r>
            <a:endParaRPr b="1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4a25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            </a:t>
            </a:r>
            <a:r>
              <a:rPr b="1" lang="th-TH" sz="4800" spc="-1" strike="noStrike">
                <a:solidFill>
                  <a:srgbClr val="ffffff"/>
                </a:solidFill>
                <a:latin typeface="Times New Roman"/>
                <a:cs typeface="LilyUPC"/>
              </a:rPr>
              <a:t>ประมวลกฎหมายแพ่งและพาณิชย์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มาตรา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420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ผู้ใดจงใจหรือประมาทเลินเล่อ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ทำต่อบุคคลอื่นโดยผิดกฎหมาย  ให้เขาเสียหาย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ถึงแก่ชีวิตก็ดี    แก่ร่างกายก็ดี      อนามัยก็ดี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เสรีภาพก็ดี  ทรัพย์สินหรือสิทธิอย่างหนึ่งอย่างใด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ก็ดี ท่านว่าผู้นั้นทำละเมิด  จำต้องชดใช้ค่าสินไหม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ทดแทน เพื่อการนั้น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  <a:ea typeface="LilyUPC"/>
              </a:rPr>
              <a:t>	</a:t>
            </a:r>
            <a:r>
              <a:rPr b="1" lang="th-TH" sz="4000" spc="-1" strike="noStrike">
                <a:solidFill>
                  <a:srgbClr val="ffffff"/>
                </a:solidFill>
                <a:latin typeface="Times New Roman"/>
                <a:ea typeface="LilyUP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6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86000"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458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LilyUPC"/>
              </a:rPr>
              <a:t>  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LilyUPC"/>
              </a:rPr>
              <a:t>การกระทำละเมิดตาม ป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LilyUPC"/>
              </a:rPr>
              <a:t>.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LilyUPC"/>
              </a:rPr>
              <a:t>ป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LilyUPC"/>
              </a:rPr>
              <a:t>.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LilyUPC"/>
              </a:rPr>
              <a:t>พ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LilyUPC"/>
              </a:rPr>
              <a:t>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LilyUPC"/>
              </a:rPr>
              <a:t>มาตรา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LilyUPC"/>
              </a:rPr>
              <a:t>420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458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1.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LilyUPC"/>
              </a:rPr>
              <a:t>กระทำโดยจงใจ หรือประมาทเลินเล่อ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458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2.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LilyUPC"/>
              </a:rPr>
              <a:t>ต่อบุคคลอื่นโดยผิดกฎหมาย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458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3.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LilyUPC"/>
              </a:rPr>
              <a:t>ทำให้เขาเสียหายถึงแก่ </a:t>
            </a:r>
            <a:r>
              <a:rPr b="1" i="1" lang="th-TH" sz="4400" spc="-1" strike="noStrike" u="sng">
                <a:solidFill>
                  <a:srgbClr val="ffffff"/>
                </a:solidFill>
                <a:uFillTx/>
                <a:latin typeface="Angsana New"/>
                <a:cs typeface="LilyUPC"/>
              </a:rPr>
              <a:t>ชีวิต ร่างกาย ทรัพย์สิ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458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LilyUPC"/>
              </a:rPr>
              <a:t>เสรีภาพ อนามัย หรือสิทธิ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      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</a:t>
            </a:r>
            <a:r>
              <a:rPr b="0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.......................................          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a003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KodchiangUPC"/>
                <a:cs typeface="LilyUPC"/>
              </a:rPr>
              <a:t>การกระทำโดยประมาท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dfd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     </a:t>
            </a:r>
            <a:r>
              <a:rPr b="1" lang="th-TH" sz="4800" spc="-1" strike="noStrike">
                <a:solidFill>
                  <a:srgbClr val="000066"/>
                </a:solidFill>
                <a:latin typeface="Arial"/>
                <a:ea typeface="LilyUPC"/>
              </a:rPr>
              <a:t>“</a:t>
            </a:r>
            <a:r>
              <a:rPr b="1" lang="th-TH" sz="4800" spc="-1" strike="noStrike">
                <a:solidFill>
                  <a:srgbClr val="000066"/>
                </a:solidFill>
                <a:latin typeface="KodchiangUPC"/>
                <a:ea typeface="LilyUPC"/>
              </a:rPr>
              <a:t> </a:t>
            </a:r>
            <a:r>
              <a:rPr b="1" lang="th-TH" sz="4800" spc="-1" strike="noStrike">
                <a:solidFill>
                  <a:srgbClr val="000066"/>
                </a:solidFill>
                <a:latin typeface="KodchiangUPC"/>
                <a:cs typeface="LilyUPC"/>
              </a:rPr>
              <a:t>การกระทำโดยประมาท </a:t>
            </a:r>
            <a:r>
              <a:rPr b="1" lang="th-TH" sz="4800" spc="-1" strike="noStrike">
                <a:solidFill>
                  <a:srgbClr val="000066"/>
                </a:solidFill>
                <a:latin typeface="Arial"/>
                <a:ea typeface="LilyUPC"/>
              </a:rPr>
              <a:t>”</a:t>
            </a:r>
            <a:r>
              <a:rPr b="1" lang="th-TH" sz="4400" spc="-1" strike="noStrike">
                <a:solidFill>
                  <a:srgbClr val="ffff00"/>
                </a:solidFill>
                <a:latin typeface="KodchiangUP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KodchiangUPC"/>
                <a:ea typeface="KodchiangUPC"/>
              </a:rPr>
              <a:t>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คือการกระทำความผิดที่มิใช่โดยเจตนา  แต่     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กระทำโดยปราศจากความระมัดระวัง  ซึ่งบุคคล             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ในภาวะเช่นนั้นจักต้องมีตามวิสัย และพฤติการณ์ 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และผู้กระทำ  อาจใช้ความระมัดระวังเช่นว่านั้นได้  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แต่หาได้ใช้ให้เพียงพอไม่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KodchiangUPC"/>
                <a:cs typeface="LilyUPC"/>
              </a:rPr>
              <a:t>ความรับผิดระหว่างนายจ้าง</a:t>
            </a:r>
            <a:r>
              <a:rPr b="1" lang="en-US" sz="4800" spc="-1" strike="noStrike">
                <a:solidFill>
                  <a:srgbClr val="ffffff"/>
                </a:solidFill>
                <a:latin typeface="KodchiangUPC"/>
                <a:ea typeface="LilyUP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KodchiangUPC"/>
                <a:ea typeface="LilyUPC"/>
              </a:rPr>
              <a:t>:</a:t>
            </a:r>
            <a:r>
              <a:rPr b="1" lang="th-TH" sz="4800" spc="-1" strike="noStrike">
                <a:solidFill>
                  <a:srgbClr val="ffffff"/>
                </a:solidFill>
                <a:latin typeface="KodchiangUPC"/>
                <a:ea typeface="Lily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KodchiangUPC"/>
                <a:cs typeface="LilyUPC"/>
              </a:rPr>
              <a:t>ลูกจ้าง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71ffff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66"/>
                </a:solidFill>
                <a:latin typeface="Angsana New"/>
              </a:rPr>
              <a:t>          </a:t>
            </a:r>
            <a:r>
              <a:rPr b="1" lang="th-TH" sz="4400" spc="-1" strike="noStrike" u="sng">
                <a:solidFill>
                  <a:srgbClr val="660033"/>
                </a:solidFill>
                <a:uFillTx/>
                <a:latin typeface="KodchiangUPC"/>
                <a:cs typeface="LilyUPC"/>
              </a:rPr>
              <a:t>มาตรา </a:t>
            </a:r>
            <a:r>
              <a:rPr b="1" lang="th-TH" sz="4400" spc="-1" strike="noStrike" u="sng">
                <a:solidFill>
                  <a:srgbClr val="660033"/>
                </a:solidFill>
                <a:uFillTx/>
                <a:latin typeface="KodchiangUPC"/>
                <a:ea typeface="LilyUPC"/>
              </a:rPr>
              <a:t>425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นายจ้างต้องร่วมรับผิด กับ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ลูกจ้าง ในผลแห่งละเมิดซึ่งลูกจ้างได้กระทำไป    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ในทางการที่จ้างนั้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660033"/>
                </a:solidFill>
                <a:latin typeface="KodchiangUPC"/>
                <a:ea typeface="LilyUPC"/>
              </a:rPr>
              <a:t>           </a:t>
            </a:r>
            <a:r>
              <a:rPr b="1" lang="th-TH" sz="4400" spc="-1" strike="noStrike" u="sng">
                <a:solidFill>
                  <a:srgbClr val="660033"/>
                </a:solidFill>
                <a:uFillTx/>
                <a:latin typeface="KodchiangUPC"/>
                <a:cs typeface="LilyUPC"/>
              </a:rPr>
              <a:t>มาตรา </a:t>
            </a:r>
            <a:r>
              <a:rPr b="1" lang="th-TH" sz="4400" spc="-1" strike="noStrike" u="sng">
                <a:solidFill>
                  <a:srgbClr val="660033"/>
                </a:solidFill>
                <a:uFillTx/>
                <a:latin typeface="KodchiangUPC"/>
                <a:ea typeface="LilyUPC"/>
              </a:rPr>
              <a:t>426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นายจ้างซึ่งได้ชดใช้ค่าสินไหม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ทดแทนให้แก่บุคคลภายนอกเพื่อละเมิดอันลูก 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จ้างได้ทำนั้นชอบที่จะได้ชดใช้จากลูกจ้างนั้น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.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.......................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03640" y="-282240"/>
            <a:ext cx="1513080" cy="37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h-TH" sz="4800" spc="-1" strike="noStrike">
              <a:solidFill>
                <a:srgbClr val="ffffff"/>
              </a:solidFill>
              <a:latin typeface="Angsana New"/>
              <a:ea typeface="KodchiangUP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684360" y="2060640"/>
            <a:ext cx="7632720" cy="216036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ความรับผิดตามกฎหมายอาญา</a:t>
            </a:r>
            <a:endParaRPr b="1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005c5a"/>
          </a:solidFill>
          <a:ln w="284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KodchiangUPC"/>
                <a:cs typeface="LilyUPC"/>
              </a:rPr>
              <a:t>กฎหมายอาญา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   </a:t>
            </a:r>
            <a:r>
              <a:rPr b="1" lang="th-TH" sz="3200" spc="-1" strike="noStrike">
                <a:solidFill>
                  <a:srgbClr val="000000"/>
                </a:solidFill>
                <a:latin typeface="Webdings"/>
                <a:ea typeface="Webdings"/>
              </a:rPr>
              <a:t>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บุคคลจะได้รับโทษทางอาญาต่อเมื่อ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1.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ได้กระทำการอันกฎหมายที่ใช้ในขณะกระทำนั้น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บัญญัติเป็นความผิดและกำหนดโทษไว้ และ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2.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โทษที่จะลงแก่ผู้กระทำความผิดนั้น              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 ต้องเป็นโทษที่บัญญัติไว้ในกฎหมาย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..................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7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2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7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3300"/>
          </a:solidFill>
          <a:ln w="284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KodchiangUPC"/>
                <a:cs typeface="LilyUPC"/>
              </a:rPr>
              <a:t>การแก้ตัวว่าไม่รู้กฎหมาย</a:t>
            </a:r>
            <a:r>
              <a:rPr b="1" lang="th-TH" sz="4800" spc="-1" strike="noStrike">
                <a:solidFill>
                  <a:srgbClr val="ffff00"/>
                </a:solidFill>
                <a:latin typeface="KodchiangUP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cc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มาตรา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64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บุคคลจะแก้ตัวว่าไม่รู้ กฎหมาย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เพื่อให้พ้นจากความรับผิดในทางอาญา ไม่ได้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แต่ถ้าศาลเห็นว่า ตามสภาพและพฤติการณ์     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ผู้กระทำอาจไม่รู้ว่าการกระทำนั้น เป็นความผิด     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ศาลจะลงโทษผู้นั้น น้อยกว่าที่กฎหมายกำหนด         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ไว้ก็ได้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96360" y="-1379160"/>
            <a:ext cx="861840" cy="43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P5 LilyUPC"/>
                <a:ea typeface="LilyUPC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95280" y="333360"/>
            <a:ext cx="8137440" cy="583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กฎหมาย คืออะไร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?</a:t>
            </a:r>
            <a:endParaRPr b="1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        </a:t>
            </a:r>
            <a:r>
              <a:rPr b="1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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คำสั่งของรัฐ หรือ 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1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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กฎ กติกา ข้อบังคับของสังคม และ 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1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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มีสภาพบังคับ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.(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บทลงโทษ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                 </a:t>
            </a:r>
            <a:r>
              <a:rPr b="1" lang="th-TH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ผู้ที่ฝ่าฝืน จะถูกลงโทษ</a:t>
            </a:r>
            <a:r>
              <a:rPr b="1" lang="th-TH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522900"/>
          </a:solidFill>
          <a:ln w="284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KodchiangUPC"/>
                <a:cs typeface="LilyUPC"/>
              </a:rPr>
              <a:t>โทษตามประมวลกฎหมายอาญา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     </a:t>
            </a:r>
            <a:r>
              <a:rPr b="1" lang="th-T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th-TH" sz="3200" spc="-1" strike="noStrike">
                <a:solidFill>
                  <a:srgbClr val="000000"/>
                </a:solidFill>
                <a:latin typeface="KodchiangUPC"/>
                <a:ea typeface="KodchiangUPC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มาตรา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18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โทษทางอาญามีดังนี้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1.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ประหารชีวิต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2.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จำคุก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3.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กักขัง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4.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ปรับ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5.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ริบทรัพย์สิน     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...........................          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KodchiangUPC"/>
                <a:cs typeface="LilyUPC"/>
              </a:rPr>
              <a:t>โครงสร้างความรับผิดในทางอาญา ม</a:t>
            </a:r>
            <a:r>
              <a:rPr b="1" lang="th-TH" sz="4800" spc="-1" strike="noStrike">
                <a:solidFill>
                  <a:srgbClr val="ffffff"/>
                </a:solidFill>
                <a:latin typeface="KodchiangUPC"/>
                <a:ea typeface="LilyUPC"/>
              </a:rPr>
              <a:t>.59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0" y="836640"/>
            <a:ext cx="9144000" cy="602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cc"/>
              </a:gs>
            </a:gsLst>
            <a:lin ang="5400000"/>
          </a:gradFill>
          <a:ln w="28440">
            <a:solidFill>
              <a:srgbClr val="ff33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Webdings"/>
                <a:ea typeface="Webdings"/>
              </a:rPr>
              <a:t>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บุคคลจะต้องรับผิดในทางอาญา เมื่อ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1.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ได้กระทำโดยเจตนา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2.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เว้นแต่จะได้กระทำโดยประมาท กรณี        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มีกฎหมายบัญญัติให้ต้องรับผิด หรือ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3.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มีกฎหมายบัญญัติไว้ชัดแจ้งให้ต้องรับผิด 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แม้กระทำโดยไม่เจตนา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.       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..........................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KodchiangUPC"/>
                <a:cs typeface="LilyUPC"/>
              </a:rPr>
              <a:t>การกระทำโดยเจตนา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cc"/>
              </a:gs>
            </a:gsLst>
            <a:lin ang="5400000"/>
          </a:gradFill>
          <a:ln w="28440">
            <a:solidFill>
              <a:srgbClr val="ff33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  </a:t>
            </a:r>
            <a:r>
              <a:rPr b="1" lang="th-TH" sz="3200" spc="-1" strike="noStrike">
                <a:solidFill>
                  <a:srgbClr val="000000"/>
                </a:solidFill>
                <a:latin typeface="Webdings"/>
                <a:ea typeface="Webdings"/>
              </a:rPr>
              <a:t>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องค์ประกอบของการกระทำโดยเจตนา คือ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1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การกระทำโดยสำนึกในการกระทำนั้น  และ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2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ในขณะเดียวกันผู้กระทำ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  </a:t>
            </a:r>
            <a:r>
              <a:rPr b="1" lang="th-TH" sz="2800" spc="-1" strike="noStrike">
                <a:solidFill>
                  <a:srgbClr val="000000"/>
                </a:solidFill>
                <a:latin typeface="Webdings"/>
                <a:ea typeface="Webdings"/>
              </a:rPr>
              <a:t>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ประสงค์ต่อผล ของการกระทำ หรือ                                               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</a:t>
            </a:r>
            <a:r>
              <a:rPr b="1" lang="th-TH" sz="2800" spc="-1" strike="noStrike">
                <a:solidFill>
                  <a:srgbClr val="000000"/>
                </a:solidFill>
                <a:latin typeface="Webdings"/>
                <a:ea typeface="Webdings"/>
              </a:rPr>
              <a:t>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ย่อมเล็งเห็นผล ของการกระทำ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ำว่า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  <a:ea typeface="LilyUPC"/>
              </a:rPr>
              <a:t>“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การกระทำในทางอาญา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  <a:ea typeface="LilyUPC"/>
              </a:rPr>
              <a:t>”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ให้หมายความ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รวมถึง การงดเว้นการกระทำเพื่อป้องกันผล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อันหนึ่งอันใดที่จะเกิดขึ้นด้วย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8440">
            <a:solidFill>
              <a:srgbClr val="00ffff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</a:t>
            </a:r>
            <a:r>
              <a:rPr b="1" lang="th-TH" sz="3200" spc="-1" strike="noStrike">
                <a:solidFill>
                  <a:srgbClr val="000000"/>
                </a:solidFill>
                <a:latin typeface="KodchiangUP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684360" y="1844640"/>
            <a:ext cx="7775280" cy="30970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ปัญหาทางกฎหมายอาญาที่เกี่ยวข้อง</a:t>
            </a:r>
            <a:endParaRPr b="1" lang="en-US" sz="5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ในการปฏิบัติงานขอบุคลากรทางการ</a:t>
            </a:r>
            <a:endParaRPr b="1" lang="en-US" sz="5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แพทย์และสาธารณสุข</a:t>
            </a:r>
            <a:endParaRPr b="1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7640" y="97920"/>
            <a:ext cx="16002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1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การปลอมเอกสารราชการ ม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.161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</a:t>
            </a:r>
            <a:r>
              <a:rPr b="1" lang="th-TH" sz="2800" spc="-1" strike="noStrike">
                <a:solidFill>
                  <a:srgbClr val="000000"/>
                </a:solidFill>
                <a:latin typeface="Webdings"/>
                <a:ea typeface="Webdings"/>
              </a:rPr>
              <a:t></a:t>
            </a:r>
            <a:r>
              <a:rPr b="1" lang="th-TH" sz="2800" spc="-1" strike="noStrike">
                <a:solidFill>
                  <a:srgbClr val="000000"/>
                </a:solidFill>
                <a:latin typeface="KodchiangUPC"/>
                <a:ea typeface="Kodchiang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คือเป็นเจ้าพนักงานมีหน้าที่ ทำ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,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กรอกข้อความ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,  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ดูแลรักษา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,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แล้วทำการปลอมเอกสารนั้น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2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ปลอมเอกสารเอกสารทั่วไป ม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.264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3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การรับรองเอกสารราชการเท็จ ม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.162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</a:t>
            </a:r>
            <a:r>
              <a:rPr b="1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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คือเป็นเจ้าพนักงานมีหน้าที่ ทำ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,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รับ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,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กรอกข้อความ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,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ได้รับรองว่าเอกสารนั้นถูกต้องตรงกับความจริง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.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0"/>
            <a:ext cx="5148360" cy="765000"/>
          </a:xfrm>
          <a:prstGeom prst="rect">
            <a:avLst/>
          </a:prstGeom>
          <a:solidFill>
            <a:srgbClr val="00292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KodchiangUPC"/>
              </a:rPr>
              <a:t>1. </a:t>
            </a:r>
            <a:r>
              <a:rPr b="1" lang="th-TH" sz="4800" spc="-1" strike="noStrike">
                <a:solidFill>
                  <a:srgbClr val="ffffff"/>
                </a:solidFill>
                <a:latin typeface="KodchiangUPC"/>
              </a:rPr>
              <a:t>การออกใบรับรอง</a:t>
            </a:r>
            <a:r>
              <a:rPr b="1" lang="th-TH" sz="3600" spc="-1" strike="noStrike">
                <a:solidFill>
                  <a:srgbClr val="ffffff"/>
                </a:solidFill>
                <a:latin typeface="KodchiangUPC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391160" y="-792720"/>
            <a:ext cx="10666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    </a:t>
            </a:r>
            <a:r>
              <a:rPr b="1" lang="th-TH" sz="3200" spc="-1" strike="noStrike">
                <a:solidFill>
                  <a:srgbClr val="000000"/>
                </a:solidFill>
                <a:latin typeface="KodchiangUPC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</a:t>
            </a:r>
            <a:r>
              <a:rPr b="1" lang="th-TH" sz="3200" spc="-1" strike="noStrike">
                <a:solidFill>
                  <a:srgbClr val="000000"/>
                </a:solidFill>
                <a:latin typeface="Kodchiang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ผู้ใดเป็นเจ้าพนักงาน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1.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ประกอบอาชีพเป็น แพทย์ เภสัชกร คนจำหน่ายยา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นางผดุงครรภ์ ผู้พยาบาล นักบวช หมอความ    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ทนายความ หรือ ผู้สอบบัญชี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2.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หรือเป็นผู้ช่วยบุคคลผู้ประกอบอาชีพ ตามข้อ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3.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ได้ล่วงรู้หรือได้มาซึ่งความลับของผู้อื่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4.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เปิดเผยความลับนั้น โดยน่าจะเสียหายแก่ผู้หนึ่งผู้ใด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0" y="0"/>
            <a:ext cx="7596360" cy="838080"/>
          </a:xfrm>
          <a:prstGeom prst="rect">
            <a:avLst/>
          </a:prstGeom>
          <a:solidFill>
            <a:srgbClr val="00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KodchiangUPC"/>
              </a:rPr>
              <a:t>2. </a:t>
            </a:r>
            <a:r>
              <a:rPr b="1" lang="th-TH" sz="4800" spc="-1" strike="noStrike">
                <a:solidFill>
                  <a:srgbClr val="ffffff"/>
                </a:solidFill>
                <a:latin typeface="KodchiangUPC"/>
              </a:rPr>
              <a:t>ความผิดฐานเปิดเผยความลับ ม</a:t>
            </a:r>
            <a:r>
              <a:rPr b="1" lang="th-TH" sz="4800" spc="-1" strike="noStrike">
                <a:solidFill>
                  <a:srgbClr val="ffffff"/>
                </a:solidFill>
                <a:latin typeface="KodchiangUPC"/>
              </a:rPr>
              <a:t>.323</a:t>
            </a:r>
            <a:endParaRPr b="1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900000" y="5445000"/>
            <a:ext cx="748836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กรณีการเปิดเผย ตาม พ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ร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บ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ข้อมูลข่าวสาร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57240">
            <a:solidFill>
              <a:srgbClr val="00ff00"/>
            </a:solidFill>
            <a:miter/>
          </a:ln>
        </p:spPr>
        <p:txBody>
          <a:bodyPr anchor="t">
            <a:normAutofit fontScale="82000"/>
          </a:bodyPr>
          <a:p>
            <a:pPr marL="28116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LilyDSE"/>
                <a:ea typeface="LilyUPC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8116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LilyDSE"/>
                <a:ea typeface="LilyUPC"/>
              </a:rPr>
              <a:t>        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มาตรา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24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หน่วยงานของรัฐจะเปิดเผยข้อมูลข่าวสาร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8116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     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ส่วนบุคคลที่อยู่ในความควบคุมดูแลของตน โดยปราศจาก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     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ความยินยอมเป็นหนังสือของเจ้าของข้อมูล ที่ให้ไว้ล่วงหน้า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     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หรือในขณะนั้นมิได้ เว้นแต่เป็นกรณีเปิดเผยดังต่อไปนี้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    </a:t>
            </a:r>
            <a:r>
              <a:rPr b="1" lang="th-TH" sz="4000" spc="-1" strike="noStrike">
                <a:solidFill>
                  <a:srgbClr val="ffcc99"/>
                </a:solidFill>
                <a:latin typeface="Times New Roman"/>
                <a:ea typeface="LilyUPC"/>
              </a:rPr>
              <a:t>      </a:t>
            </a:r>
            <a:r>
              <a:rPr b="1" lang="th-TH" sz="3600" spc="-1" strike="noStrike">
                <a:solidFill>
                  <a:srgbClr val="ffff00"/>
                </a:solidFill>
                <a:latin typeface="LilyDSE"/>
                <a:ea typeface="LilyUPC"/>
              </a:rPr>
              <a:t>(1) </a:t>
            </a:r>
            <a:r>
              <a:rPr b="1" lang="th-TH" sz="3600" spc="-1" strike="noStrike">
                <a:solidFill>
                  <a:srgbClr val="ffff00"/>
                </a:solidFill>
                <a:latin typeface="LilyDSE"/>
                <a:cs typeface="LilyUPC"/>
              </a:rPr>
              <a:t>ต่อเจ้าหน้าที่ของรัฐ ในหน่วยงานของต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8116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LilyDSE"/>
                <a:ea typeface="LilyUPC"/>
              </a:rPr>
              <a:t>               </a:t>
            </a:r>
            <a:r>
              <a:rPr b="1" lang="th-TH" sz="3600" spc="-1" strike="noStrike">
                <a:solidFill>
                  <a:srgbClr val="ffff00"/>
                </a:solidFill>
                <a:latin typeface="LilyDSE"/>
                <a:cs typeface="LilyUPC"/>
              </a:rPr>
              <a:t>เพื่อนำไปใช้ตามอำนาจหน้าที่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8116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         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(2).......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         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(3)......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         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(4)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ศึกษาวิจั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8116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468360" y="260280"/>
            <a:ext cx="8064360" cy="576360"/>
          </a:xfrm>
          <a:prstGeom prst="rect">
            <a:avLst/>
          </a:prstGeom>
          <a:gradFill rotWithShape="0">
            <a:gsLst>
              <a:gs pos="0">
                <a:srgbClr val="ffead5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พ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ร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บ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ข้อมูลข่าวสารของราชการ พ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ศ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. 2540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h-TH" sz="6700" spc="-1" strike="noStrike">
              <a:solidFill>
                <a:srgbClr val="000000"/>
              </a:solidFill>
              <a:latin typeface="KodchiangUP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KodchiangUPC"/>
              </a:rPr>
              <a:t>	</a:t>
            </a:r>
            <a:r>
              <a:rPr b="1" lang="th-TH" sz="4800" spc="-1" strike="noStrike">
                <a:solidFill>
                  <a:srgbClr val="000000"/>
                </a:solidFill>
                <a:latin typeface="KodchiangUPC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Kodchiang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KodchiangUPC"/>
                <a:ea typeface="KodchiangUPC"/>
              </a:rPr>
              <a:t>     </a:t>
            </a:r>
            <a:r>
              <a:rPr b="1" lang="th-TH" sz="3500" spc="-1" strike="noStrike">
                <a:solidFill>
                  <a:srgbClr val="ffffff"/>
                </a:solidFill>
                <a:latin typeface="KodchiangUPC"/>
                <a:ea typeface="LilyUPC"/>
              </a:rPr>
              <a:t>(5)  </a:t>
            </a:r>
            <a:r>
              <a:rPr b="1" lang="th-TH" sz="3500" spc="-1" strike="noStrike">
                <a:solidFill>
                  <a:srgbClr val="ffffff"/>
                </a:solidFill>
                <a:latin typeface="KodchiangUPC"/>
                <a:cs typeface="LilyUPC"/>
              </a:rPr>
              <a:t>ต่อหอจดหมายเหตุ                                     </a:t>
            </a:r>
            <a:endParaRPr b="0" lang="en-US" sz="35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ffffff"/>
                </a:solidFill>
                <a:latin typeface="KodchiangUPC"/>
                <a:ea typeface="LilyUPC"/>
              </a:rPr>
              <a:t>	</a:t>
            </a:r>
            <a:r>
              <a:rPr b="1" lang="th-TH" sz="3500" spc="-1" strike="noStrike">
                <a:solidFill>
                  <a:srgbClr val="ffffff"/>
                </a:solidFill>
                <a:latin typeface="KodchiangUPC"/>
                <a:ea typeface="LilyUPC"/>
              </a:rPr>
              <a:t>       </a:t>
            </a:r>
            <a:r>
              <a:rPr b="1" lang="th-TH" sz="3500" spc="-1" strike="noStrike">
                <a:solidFill>
                  <a:srgbClr val="00cc00"/>
                </a:solidFill>
                <a:latin typeface="KodchiangUPC"/>
                <a:ea typeface="LilyUPC"/>
              </a:rPr>
              <a:t>(6)  </a:t>
            </a:r>
            <a:r>
              <a:rPr b="1" lang="th-TH" sz="3500" spc="-1" strike="noStrike">
                <a:solidFill>
                  <a:srgbClr val="00cc00"/>
                </a:solidFill>
                <a:latin typeface="KodchiangUPC"/>
                <a:cs typeface="LilyUPC"/>
              </a:rPr>
              <a:t>ต่อเจ้าหน้าที่ของรัฐเพื่อการป้องกันการฝ่าฝืนตาม   </a:t>
            </a:r>
            <a:endParaRPr b="0" lang="en-US" sz="35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cc00"/>
                </a:solidFill>
                <a:latin typeface="KodchiangUPC"/>
                <a:ea typeface="LilyUPC"/>
              </a:rPr>
              <a:t>                 </a:t>
            </a:r>
            <a:r>
              <a:rPr b="1" lang="th-TH" sz="3500" spc="-1" strike="noStrike">
                <a:solidFill>
                  <a:srgbClr val="00cc00"/>
                </a:solidFill>
                <a:latin typeface="KodchiangUPC"/>
                <a:cs typeface="LilyUPC"/>
              </a:rPr>
              <a:t>กฎหมาย การสืบสวน การสอบสวน หรือการฟ้องคดี</a:t>
            </a:r>
            <a:r>
              <a:rPr b="1" lang="th-TH" sz="3500" spc="-1" strike="noStrike">
                <a:solidFill>
                  <a:srgbClr val="ffff00"/>
                </a:solidFill>
                <a:latin typeface="KodchiangUPC"/>
                <a:ea typeface="LilyUPC"/>
              </a:rPr>
              <a:t>                            </a:t>
            </a:r>
            <a:endParaRPr b="0" lang="en-US" sz="35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ffff00"/>
                </a:solidFill>
                <a:latin typeface="KodchiangUPC"/>
                <a:ea typeface="LilyUPC"/>
              </a:rPr>
              <a:t>   </a:t>
            </a:r>
            <a:r>
              <a:rPr b="1" lang="th-TH" sz="3500" spc="-1" strike="noStrike">
                <a:solidFill>
                  <a:srgbClr val="ffff00"/>
                </a:solidFill>
                <a:latin typeface="KodchiangUPC"/>
                <a:ea typeface="LilyUPC"/>
              </a:rPr>
              <a:t>	</a:t>
            </a:r>
            <a:r>
              <a:rPr b="1" lang="th-TH" sz="3500" spc="-1" strike="noStrike">
                <a:solidFill>
                  <a:srgbClr val="ffff00"/>
                </a:solidFill>
                <a:latin typeface="KodchiangUPC"/>
                <a:ea typeface="LilyUPC"/>
              </a:rPr>
              <a:t>       </a:t>
            </a:r>
            <a:r>
              <a:rPr b="1" lang="th-TH" sz="3500" spc="-1" strike="noStrike">
                <a:solidFill>
                  <a:srgbClr val="ffff00"/>
                </a:solidFill>
                <a:latin typeface="KodchiangUPC"/>
                <a:ea typeface="LilyUPC"/>
              </a:rPr>
              <a:t>(7)  </a:t>
            </a:r>
            <a:r>
              <a:rPr b="1" lang="th-TH" sz="3500" spc="-1" strike="noStrike">
                <a:solidFill>
                  <a:srgbClr val="ffff00"/>
                </a:solidFill>
                <a:latin typeface="KodchiangUPC"/>
                <a:cs typeface="LilyUPC"/>
              </a:rPr>
              <a:t>เป็นการให้ซึ่งจำเป็นเพื่อการป้องกัน หรือระงับอันตราย</a:t>
            </a:r>
            <a:endParaRPr b="0" lang="en-US" sz="35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ffff00"/>
                </a:solidFill>
                <a:latin typeface="KodchiangUPC"/>
                <a:ea typeface="LilyUPC"/>
              </a:rPr>
              <a:t>                  </a:t>
            </a:r>
            <a:r>
              <a:rPr b="1" lang="th-TH" sz="3500" spc="-1" strike="noStrike">
                <a:solidFill>
                  <a:srgbClr val="ffff00"/>
                </a:solidFill>
                <a:latin typeface="KodchiangUPC"/>
                <a:cs typeface="LilyUPC"/>
              </a:rPr>
              <a:t>ต่อชีวิต หรือสุขภาพของบุคคล   </a:t>
            </a:r>
            <a:endParaRPr b="0" lang="en-US" sz="35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ffff00"/>
                </a:solidFill>
                <a:latin typeface="KodchiangUPC"/>
                <a:ea typeface="LilyUPC"/>
              </a:rPr>
              <a:t>           </a:t>
            </a:r>
            <a:r>
              <a:rPr b="1" lang="th-TH" sz="3500" spc="-1" strike="noStrike">
                <a:solidFill>
                  <a:srgbClr val="00ffff"/>
                </a:solidFill>
                <a:latin typeface="KodchiangUPC"/>
                <a:ea typeface="LilyUPC"/>
              </a:rPr>
              <a:t>(8)  </a:t>
            </a:r>
            <a:r>
              <a:rPr b="1" lang="th-TH" sz="3500" spc="-1" strike="noStrike">
                <a:solidFill>
                  <a:srgbClr val="00ffff"/>
                </a:solidFill>
                <a:latin typeface="KodchiangUPC"/>
                <a:cs typeface="LilyUPC"/>
              </a:rPr>
              <a:t>ต่อศาล และเจ้าหน้าที่ หรือหน่วยงานของรัฐหรือบุคคล</a:t>
            </a:r>
            <a:endParaRPr b="0" lang="en-US" sz="35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ffff"/>
                </a:solidFill>
                <a:latin typeface="KodchiangUPC"/>
                <a:ea typeface="LilyUPC"/>
              </a:rPr>
              <a:t>                  </a:t>
            </a:r>
            <a:r>
              <a:rPr b="1" lang="th-TH" sz="3500" spc="-1" strike="noStrike">
                <a:solidFill>
                  <a:srgbClr val="00ffff"/>
                </a:solidFill>
                <a:latin typeface="KodchiangUPC"/>
                <a:cs typeface="LilyUPC"/>
              </a:rPr>
              <a:t>ที่มีอำนาจตามกฎหมายที่จะขอข้อเท็จจริงดังกล่าว</a:t>
            </a:r>
            <a:r>
              <a:rPr b="1" lang="th-TH" sz="3500" spc="-1" strike="noStrike">
                <a:solidFill>
                  <a:srgbClr val="ffffff"/>
                </a:solidFill>
                <a:latin typeface="KodchiangUPC"/>
                <a:ea typeface="LilyUPC"/>
              </a:rPr>
              <a:t>                                            </a:t>
            </a:r>
            <a:endParaRPr b="0" lang="en-US" sz="35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ffffff"/>
                </a:solidFill>
                <a:latin typeface="KodchiangUPC"/>
                <a:ea typeface="LilyUPC"/>
              </a:rPr>
              <a:t>           </a:t>
            </a:r>
            <a:r>
              <a:rPr b="1" lang="th-TH" sz="3500" spc="-1" strike="noStrike">
                <a:solidFill>
                  <a:srgbClr val="ffffff"/>
                </a:solidFill>
                <a:latin typeface="KodchiangUPC"/>
                <a:ea typeface="LilyUPC"/>
              </a:rPr>
              <a:t>(9)  </a:t>
            </a:r>
            <a:r>
              <a:rPr b="1" lang="th-TH" sz="3500" spc="-1" strike="noStrike">
                <a:solidFill>
                  <a:srgbClr val="ffffff"/>
                </a:solidFill>
                <a:latin typeface="KodchiangUPC"/>
                <a:cs typeface="LilyUPC"/>
              </a:rPr>
              <a:t>กรณีอื่น ๆ ตามที่กำหนดในพระราชกฤษฎีกา</a:t>
            </a:r>
            <a:endParaRPr b="0" lang="en-US" sz="35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ffffff"/>
                </a:solidFill>
                <a:latin typeface="KodchiangUPC"/>
                <a:ea typeface="LilyUPC"/>
              </a:rPr>
              <a:t>                          </a:t>
            </a:r>
            <a:r>
              <a:rPr b="1" lang="th-TH" sz="3500" spc="-1" strike="noStrike">
                <a:solidFill>
                  <a:srgbClr val="ffffff"/>
                </a:solidFill>
                <a:latin typeface="KodchiangUPC"/>
                <a:ea typeface="LilyUPC"/>
              </a:rPr>
              <a:t>....................................</a:t>
            </a:r>
            <a:endParaRPr b="0" lang="en-US" sz="35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KodchiangUPC"/>
              </a:rPr>
              <a:t>	</a:t>
            </a:r>
            <a:r>
              <a:rPr b="1" lang="th-TH" sz="3500" spc="-1" strike="noStrike">
                <a:solidFill>
                  <a:srgbClr val="000000"/>
                </a:solidFill>
                <a:latin typeface="KodchiangUPC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LilyDSE"/>
                <a:ea typeface="LilyUPC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LilyDSE"/>
                <a:ea typeface="LilyUPC"/>
              </a:rPr>
              <a:t>          </a:t>
            </a:r>
            <a:r>
              <a:rPr b="1" lang="th-TH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</a:t>
            </a:r>
            <a:r>
              <a:rPr b="1" lang="th-TH" sz="2800" spc="-1" strike="noStrike">
                <a:solidFill>
                  <a:srgbClr val="ffffff"/>
                </a:solidFill>
                <a:latin typeface="LilyDSE"/>
                <a:ea typeface="LilyUPC"/>
              </a:rPr>
              <a:t> </a:t>
            </a:r>
            <a:r>
              <a:rPr b="1" lang="th-TH" sz="3600" spc="-1" strike="noStrike" u="sng">
                <a:solidFill>
                  <a:srgbClr val="ffffff"/>
                </a:solidFill>
                <a:uFillTx/>
                <a:latin typeface="LilyDSE"/>
                <a:cs typeface="LilyUPC"/>
              </a:rPr>
              <a:t>มาตรา </a:t>
            </a:r>
            <a:r>
              <a:rPr b="1" lang="th-TH" sz="3600" spc="-1" strike="noStrike" u="sng">
                <a:solidFill>
                  <a:srgbClr val="ffffff"/>
                </a:solidFill>
                <a:uFillTx/>
                <a:latin typeface="LilyDSE"/>
                <a:ea typeface="LilyUPC"/>
              </a:rPr>
              <a:t>7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ข้อมูลด้านสุขภาพของบุคคล เป็นความลับ     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ของส่วนบุคคล ผู้ใดจะนำไปเปิดเผย</a:t>
            </a:r>
            <a:r>
              <a:rPr b="1" lang="th-TH" sz="3600" spc="-1" strike="noStrike">
                <a:solidFill>
                  <a:srgbClr val="ffff00"/>
                </a:solidFill>
                <a:latin typeface="LilyDSE"/>
                <a:ea typeface="Lily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ในประการที่น่าจะทำให้ 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บุคคลนั้นเสียหายไม่ได้  เว้นแต่การเปิดเผยนั้น เป็นไปตาม   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ความประสงค์ของบุคคลนั้นโดยตรง หรือมีกฎหมายเฉพาะ 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cs typeface="LilyUPC"/>
              </a:rPr>
              <a:t>บัญญัติให้เปิดเผย</a:t>
            </a:r>
            <a:r>
              <a:rPr b="1" lang="th-TH" sz="3600" spc="-1" strike="noStrike">
                <a:solidFill>
                  <a:srgbClr val="ffffff"/>
                </a:solidFill>
                <a:latin typeface="LilyDSE"/>
                <a:ea typeface="LilyUPC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ffff"/>
                </a:solidFill>
                <a:latin typeface="LilyDSE"/>
                <a:ea typeface="LilyUP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ff00"/>
                </a:solidFill>
                <a:latin typeface="LilyDSE"/>
                <a:ea typeface="LilyUPC"/>
              </a:rPr>
              <a:t>               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66ff33"/>
                </a:solidFill>
                <a:latin typeface="LilyDSE"/>
                <a:ea typeface="LilyUPC"/>
              </a:rPr>
              <a:t>        </a:t>
            </a:r>
            <a:r>
              <a:rPr b="1" lang="th-TH" sz="3600" spc="-1" strike="noStrike">
                <a:solidFill>
                  <a:srgbClr val="ffff00"/>
                </a:solidFill>
                <a:latin typeface="LilyDSE"/>
                <a:ea typeface="LilyUP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611280" y="189000"/>
            <a:ext cx="7921440" cy="647640"/>
          </a:xfrm>
          <a:prstGeom prst="rect">
            <a:avLst/>
          </a:prstGeom>
          <a:solidFill>
            <a:srgbClr val="ffecd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พ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ร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บ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สุขภาพแห่งชาติ พ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ศ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. 2550 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1116000" y="5589720"/>
            <a:ext cx="6912000" cy="57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ศาล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,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พนักงานสอบสวน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.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ขอตาม ป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ิอาญา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3492360" y="2852640"/>
            <a:ext cx="4824720" cy="503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แต่ไม่ว่าในกรณีใดๆ ผู้ใดจะอาศัยอำนาจ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684360" y="3357720"/>
            <a:ext cx="7848360" cy="1079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  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หรือ  สิทธิตามกฎหมายว่าด้วยข้อมูลข่าวสารของราชการ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   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หรือกฎหมายอื่น เพื่อ</a:t>
            </a:r>
            <a:r>
              <a:rPr b="1" lang="th-TH" sz="3600" spc="-1" strike="noStrike" u="sng">
                <a:solidFill>
                  <a:srgbClr val="ffff00"/>
                </a:solidFill>
                <a:uFillTx/>
                <a:latin typeface="Angsana New"/>
              </a:rPr>
              <a:t>ขอเอกสาร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เกี่ยวกับข้อมูลด้านสุขภาพ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826920" y="4437000"/>
            <a:ext cx="4034160" cy="503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</a:rPr>
              <a:t>ของบุคคลที่ไม่ใช่ของตนไม่ได้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4643280" y="4437000"/>
            <a:ext cx="3745080" cy="432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00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00ff00"/>
                </a:solidFill>
                <a:latin typeface="Angsana New"/>
              </a:rPr>
              <a:t>จำคุกไม่เกิน </a:t>
            </a:r>
            <a:r>
              <a:rPr b="1" lang="th-TH" sz="3200" spc="-1" strike="noStrike">
                <a:solidFill>
                  <a:srgbClr val="00ff00"/>
                </a:solidFill>
                <a:latin typeface="Angsana New"/>
              </a:rPr>
              <a:t>6 </a:t>
            </a:r>
            <a:r>
              <a:rPr b="1" lang="th-TH" sz="3200" spc="-1" strike="noStrike">
                <a:solidFill>
                  <a:srgbClr val="00ff00"/>
                </a:solidFill>
                <a:latin typeface="Angsana New"/>
              </a:rPr>
              <a:t>เดือน หรือปรับ</a:t>
            </a:r>
            <a:endParaRPr b="1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826920" y="4941720"/>
            <a:ext cx="7417080" cy="433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00"/>
                </a:solidFill>
                <a:latin typeface="Angsana New"/>
              </a:rPr>
              <a:t>   </a:t>
            </a:r>
            <a:r>
              <a:rPr b="1" lang="th-TH" sz="3200" spc="-1" strike="noStrike">
                <a:solidFill>
                  <a:srgbClr val="00ff00"/>
                </a:solidFill>
                <a:latin typeface="Angsana New"/>
              </a:rPr>
              <a:t>ไม่เกิน </a:t>
            </a:r>
            <a:r>
              <a:rPr b="1" lang="th-TH" sz="3200" spc="-1" strike="noStrike">
                <a:solidFill>
                  <a:srgbClr val="00ff00"/>
                </a:solidFill>
                <a:latin typeface="Angsana New"/>
              </a:rPr>
              <a:t>10,000 </a:t>
            </a:r>
            <a:r>
              <a:rPr b="1" lang="th-TH" sz="3200" spc="-1" strike="noStrike">
                <a:solidFill>
                  <a:srgbClr val="00ff00"/>
                </a:solidFill>
                <a:latin typeface="Angsana New"/>
              </a:rPr>
              <a:t>บาท หรือทั้งจำทั้งปรับ มาตรา </a:t>
            </a:r>
            <a:r>
              <a:rPr b="1" lang="th-TH" sz="3200" spc="-1" strike="noStrike">
                <a:solidFill>
                  <a:srgbClr val="00ff00"/>
                </a:solidFill>
                <a:latin typeface="Angsana New"/>
              </a:rPr>
              <a:t>49..</a:t>
            </a:r>
            <a:r>
              <a:rPr b="1" lang="th-TH" sz="3200" spc="-1" strike="noStrike">
                <a:solidFill>
                  <a:srgbClr val="00ff00"/>
                </a:solidFill>
                <a:latin typeface="Angsana New"/>
              </a:rPr>
              <a:t>ยอมความได้ </a:t>
            </a:r>
            <a:r>
              <a:rPr b="1" lang="th-TH" sz="3200" spc="-1" strike="noStrike">
                <a:solidFill>
                  <a:srgbClr val="00ff00"/>
                </a:solidFill>
                <a:latin typeface="Angsana New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48520" y="326520"/>
            <a:ext cx="1752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    </a:t>
            </a:r>
            <a:r>
              <a:rPr b="1" lang="th-TH" sz="3200" spc="-1" strike="noStrike">
                <a:solidFill>
                  <a:srgbClr val="000000"/>
                </a:solidFill>
                <a:latin typeface="Kodchiang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</a:t>
            </a:r>
            <a:r>
              <a:rPr b="1" lang="th-TH" sz="3200" spc="-1" strike="noStrike">
                <a:solidFill>
                  <a:srgbClr val="000000"/>
                </a:solidFill>
                <a:latin typeface="KodchiangUPC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ผู้ใดมีหน้าที่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  <a:ea typeface="LilyUPC"/>
              </a:rPr>
              <a:t>…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1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ตามกฎหมาย หรือ ตามสัญญา ต้องดูแล            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ผู้ซึ่งพึ่งตนเองมิได้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2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เพราะอายุ ความเจ็บป่วย กายพิการหรือจิตพิการ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3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ทอดทิ้ง ผู้ซึ่งพึ่งตนเองมิได้นั้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4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โดยน่าจะเป็นเหตุให้เกิดอันตรายแก่ชีวิต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....................................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0"/>
            <a:ext cx="6877080" cy="105264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3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การทอดทิ้งคนเจ็บป่วย ม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. 307</a:t>
            </a:r>
            <a:endParaRPr b="1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f3e"/>
          </a:solidFill>
          <a:ln w="2844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ff00"/>
                </a:solidFill>
                <a:latin typeface="Angsana New"/>
                <a:ea typeface="LilyUPC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68360" y="3141720"/>
            <a:ext cx="8280360" cy="2736720"/>
          </a:xfrm>
          <a:prstGeom prst="rect">
            <a:avLst/>
          </a:prstGeom>
          <a:solidFill>
            <a:srgbClr val="281400"/>
          </a:solid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       </a:t>
            </a:r>
            <a:r>
              <a:rPr b="1" lang="th-TH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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</a:rPr>
              <a:t> </a:t>
            </a:r>
            <a:r>
              <a:rPr b="1" lang="th-TH" sz="4400" spc="-1" strike="noStrike">
                <a:solidFill>
                  <a:srgbClr val="ffff00"/>
                </a:solidFill>
                <a:latin typeface="Angsana New"/>
              </a:rPr>
              <a:t>หลักการ</a:t>
            </a:r>
            <a:r>
              <a:rPr b="1" lang="th-TH" sz="4400" spc="-1" strike="noStrike">
                <a:solidFill>
                  <a:srgbClr val="ffff00"/>
                </a:solidFill>
                <a:latin typeface="Angsana New"/>
              </a:rPr>
              <a:t>-</a:t>
            </a:r>
            <a:r>
              <a:rPr b="1" lang="th-TH" sz="4400" spc="-1" strike="noStrike">
                <a:solidFill>
                  <a:srgbClr val="ffff00"/>
                </a:solidFill>
                <a:latin typeface="Angsana New"/>
              </a:rPr>
              <a:t>เจตนารมณ์ ของกฎหมาย </a:t>
            </a:r>
            <a:r>
              <a:rPr b="1" lang="th-TH" sz="4400" spc="-1" strike="noStrike">
                <a:solidFill>
                  <a:srgbClr val="ffff00"/>
                </a:solidFill>
                <a:latin typeface="Angsana New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คือเหตุผลในการประกาศใช้กฎหมายฉบับนั้นๆ ว่า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กฎหมายมีวัตถุประสงค์อะไร ต้องการคุ้มครองใคร หรือ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คุ้มครองสิ่งใด เมื่อรู้วัตถุประสงค์แล้ว  จะได้</a:t>
            </a:r>
            <a:r>
              <a:rPr b="1" lang="th-TH" sz="3600" spc="-1" strike="noStrike">
                <a:solidFill>
                  <a:srgbClr val="00ff00"/>
                </a:solidFill>
                <a:latin typeface="Angsana New"/>
              </a:rPr>
              <a:t>ใช้กฎหมาย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หรือ</a:t>
            </a:r>
            <a:r>
              <a:rPr b="1" lang="th-TH" sz="3600" spc="-1" strike="noStrike">
                <a:solidFill>
                  <a:srgbClr val="00ff00"/>
                </a:solidFill>
                <a:latin typeface="Angsana New"/>
              </a:rPr>
              <a:t>ตีความกฎหมาย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ให้ถูกต้อง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95280" y="260280"/>
            <a:ext cx="8280360" cy="25923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1" lang="th-TH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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KodchiangUPC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การตีความกฎหมาย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ngsana New"/>
              </a:rPr>
              <a:t>       </a:t>
            </a:r>
            <a:r>
              <a:rPr b="1" lang="th-TH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</a:t>
            </a:r>
            <a:r>
              <a:rPr b="1" lang="th-TH" sz="2800" spc="-1" strike="noStrike">
                <a:solidFill>
                  <a:srgbClr val="ffff00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มาตรา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4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</a:rPr>
              <a:t>ประมวลกฎหมายแพ่งและพาณิชย์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                     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กฎหมายนั้น ต้องใช้ในบรรดา</a:t>
            </a:r>
            <a:r>
              <a:rPr b="1" lang="th-TH" sz="3600" spc="-1" strike="noStrike">
                <a:solidFill>
                  <a:srgbClr val="66ffff"/>
                </a:solidFill>
                <a:latin typeface="Angsana New"/>
              </a:rPr>
              <a:t>กรณีซึ่งต้อง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    </a:t>
            </a:r>
            <a:r>
              <a:rPr b="1" lang="th-TH" sz="3600" spc="-1" strike="noStrike">
                <a:solidFill>
                  <a:srgbClr val="66ffff"/>
                </a:solidFill>
                <a:latin typeface="Angsana New"/>
              </a:rPr>
              <a:t>ด้วยบทบัญญัติใดๆ แห่งกฎหมายตามตัวอักษร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 u="sng">
                <a:solidFill>
                  <a:srgbClr val="ffffff"/>
                </a:solidFill>
                <a:uFillTx/>
                <a:latin typeface="Angsana New"/>
              </a:rPr>
              <a:t>หรือ</a:t>
            </a:r>
            <a:endParaRPr b="1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         </a:t>
            </a:r>
            <a:r>
              <a:rPr b="1" lang="th-TH" sz="3600" spc="-1" strike="noStrike">
                <a:solidFill>
                  <a:srgbClr val="66ffff"/>
                </a:solidFill>
                <a:latin typeface="Angsana New"/>
              </a:rPr>
              <a:t>ความมุ่งหมายของบทบัญญัตินั้นๆ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.....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172200" y="433080"/>
            <a:ext cx="2286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000000"/>
              </a:solidFill>
              <a:latin typeface="Angsana New"/>
              <a:ea typeface="Angsana Ne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</a:t>
            </a:r>
            <a:r>
              <a:rPr b="1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</a:t>
            </a:r>
            <a:r>
              <a:rPr b="1" lang="th-TH" sz="3200" spc="-1" strike="noStrike">
                <a:solidFill>
                  <a:srgbClr val="000000"/>
                </a:solidFill>
                <a:latin typeface="Kodchiang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วามผิดฐานไม่ช่วยผู้ตกอยู่ในอันตราย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แห่งชีวิต ม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.374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1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ผู้ใดเห็นผู้อื่นตกอยู่ในอันตรายแห่งชีวิต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2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ซึ่งตนอาจช่วยได้โดยไม่ควรกลัวอันตราย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แก่ตนเองหรือผู้อื่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3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แต่ไม่ช่วยตามความจำเป็น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.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 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0" y="0"/>
            <a:ext cx="5651640" cy="765000"/>
          </a:xfrm>
          <a:prstGeom prst="rect">
            <a:avLst/>
          </a:prstGeom>
          <a:solidFill>
            <a:srgbClr val="4221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KodchiangUPC"/>
              </a:rPr>
              <a:t>4. </a:t>
            </a:r>
            <a:r>
              <a:rPr b="1" lang="th-TH" sz="4800" spc="-1" strike="noStrike">
                <a:solidFill>
                  <a:srgbClr val="ffffff"/>
                </a:solidFill>
                <a:latin typeface="KodchiangUPC"/>
              </a:rPr>
              <a:t>การปฏิเสธการช่วยเหลือ</a:t>
            </a:r>
            <a:endParaRPr b="1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1042920" y="4292640"/>
            <a:ext cx="6842160" cy="1297080"/>
          </a:xfrm>
          <a:prstGeom prst="rect">
            <a:avLst/>
          </a:prstGeom>
          <a:solidFill>
            <a:srgbClr val="000000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กรณี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..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กฎหมายอาญา มาตรา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374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กับ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พ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ร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บ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วิชาชีพเวชกรรม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....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กฎหมายขัดกัน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8.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ความผิดฐานทำให้แท้งลูก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1.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หญิงใดทำให้ตนเองแท้งลูก หรือยอมให้ผู้อื่นทำ ม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.301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2.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ผู้ใดทำให้หญิงแท้งลูกโดยหญิงนั้นยินยอม ม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.302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3.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ผู้ใดทำให้หญิงแท้งลูกโดยหญิงนั้นไม่ยินยอม ม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.303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4.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ถ้าการกระทำความผิดตาม ม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.301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และ ม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.302        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เป็นการกระทำของนายแพทย์ และ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(1)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จำเป็นต้องกระทำเนื่องจากสุขภาพของหญิงนั้น หรือ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(2)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หญิงมีครรภ์เนื่องจากการกระทำความผิดทางอาญา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    </a:t>
            </a:r>
            <a:r>
              <a:rPr b="1" lang="th-TH" sz="28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</a:t>
            </a:r>
            <a:r>
              <a:rPr b="1" lang="th-TH" sz="28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cs typeface="LilyUPC"/>
              </a:rPr>
              <a:t>ผู้นั้นไม่มีความผิด</a:t>
            </a:r>
            <a:r>
              <a:rPr b="1" lang="th-TH" sz="3600" spc="-1" strike="noStrike">
                <a:solidFill>
                  <a:srgbClr val="000000"/>
                </a:solidFill>
                <a:latin typeface="KodchiangUPC"/>
                <a:ea typeface="LilyUPC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0" y="0"/>
            <a:ext cx="6084720" cy="76500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KodchiangUPC"/>
              </a:rPr>
              <a:t>5. </a:t>
            </a:r>
            <a:r>
              <a:rPr b="1" lang="th-TH" sz="4800" spc="-1" strike="noStrike">
                <a:solidFill>
                  <a:srgbClr val="ffffff"/>
                </a:solidFill>
                <a:latin typeface="KodchiangUPC"/>
              </a:rPr>
              <a:t>ความผิดฐานทำให้แท้งลูก</a:t>
            </a:r>
            <a:endParaRPr b="1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629400" y="-282600"/>
            <a:ext cx="18288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dd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</a:t>
            </a:r>
            <a:r>
              <a:rPr b="1" lang="th-TH" sz="3200" spc="-1" strike="noStrike">
                <a:solidFill>
                  <a:srgbClr val="000000"/>
                </a:solidFill>
                <a:latin typeface="KodchiangUPC"/>
                <a:ea typeface="KodchiangUPC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ผู้ใดทำอนาจาร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1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แก่บุคคลอายุกว่า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15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ปี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2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โดยขู่เข็ญด้วยประการใดๆ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3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โดยใช้กำลังประทุษร้าย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4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โดยบุคคลนั้นอยู่ในภาวะที่ไม่สามารถขัดขืนได้ หรือ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5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โดยทำให้บุคคลนั้นเข้าใจผิดว่าตนเป็นบุคคอื่น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……………………………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0" y="0"/>
            <a:ext cx="7308720" cy="76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KodchiangUPC"/>
              </a:rPr>
              <a:t>6. </a:t>
            </a:r>
            <a:r>
              <a:rPr b="1" lang="th-TH" sz="4800" spc="-1" strike="noStrike">
                <a:solidFill>
                  <a:srgbClr val="ffffff"/>
                </a:solidFill>
                <a:latin typeface="KodchiangUPC"/>
              </a:rPr>
              <a:t>ความผิดฐานทำอนาจาร ม</a:t>
            </a:r>
            <a:r>
              <a:rPr b="1" lang="th-TH" sz="4800" spc="-1" strike="noStrike">
                <a:solidFill>
                  <a:srgbClr val="ffffff"/>
                </a:solidFill>
                <a:latin typeface="KodchiangUPC"/>
              </a:rPr>
              <a:t>.278</a:t>
            </a:r>
            <a:endParaRPr b="1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044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KodchiangUPC"/>
              </a:rPr>
              <a:t>             </a:t>
            </a:r>
            <a:r>
              <a:rPr b="1" lang="th-TH" sz="4800" spc="-1" strike="noStrike">
                <a:solidFill>
                  <a:srgbClr val="ffffff"/>
                </a:solidFill>
                <a:latin typeface="KodchiangUPC"/>
                <a:ea typeface="LilyUPC"/>
              </a:rPr>
              <a:t>7. </a:t>
            </a:r>
            <a:r>
              <a:rPr b="1" lang="th-TH" sz="4800" spc="-1" strike="noStrike">
                <a:solidFill>
                  <a:srgbClr val="ffffff"/>
                </a:solidFill>
                <a:latin typeface="KodchiangUPC"/>
                <a:cs typeface="LilyUPC"/>
              </a:rPr>
              <a:t>ความผิดฐานฆ่าผู้อื่น</a:t>
            </a:r>
            <a:r>
              <a:rPr b="1" lang="th-TH" sz="4800" spc="-1" strike="noStrike">
                <a:solidFill>
                  <a:srgbClr val="ffffff"/>
                </a:solidFill>
                <a:latin typeface="KodchiangUPC"/>
                <a:ea typeface="LilyUPC"/>
              </a:rPr>
              <a:t>,</a:t>
            </a:r>
            <a:r>
              <a:rPr b="1" lang="th-TH" sz="4800" spc="-1" strike="noStrike">
                <a:solidFill>
                  <a:srgbClr val="ffffff"/>
                </a:solidFill>
                <a:latin typeface="KodchiangUPC"/>
                <a:cs typeface="LilyUPC"/>
              </a:rPr>
              <a:t>ทำร้ายผู้อื่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66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       </a:t>
            </a:r>
            <a:r>
              <a:rPr b="1" lang="th-TH" sz="4800" spc="-1" strike="noStrike">
                <a:solidFill>
                  <a:srgbClr val="000000"/>
                </a:solidFill>
                <a:latin typeface="KodchiangUPC"/>
                <a:ea typeface="LilyUPC"/>
              </a:rPr>
              <a:t>1. </a:t>
            </a:r>
            <a:r>
              <a:rPr b="1" lang="th-TH" sz="4800" spc="-1" strike="noStrike">
                <a:solidFill>
                  <a:srgbClr val="000000"/>
                </a:solidFill>
                <a:latin typeface="KodchiangUPC"/>
                <a:cs typeface="LilyUPC"/>
              </a:rPr>
              <a:t>ความผิดฐานฆ่าผู้อื่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1.1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ฆ่าผู้อื่นโดยเจตนา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(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ม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.288)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1.2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ฆ่าผู้อื่นโดยมิได้เจตนา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(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ม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.295)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1.3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พยายามฆ่าผู้อื่น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(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ม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.288+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ม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.80)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657600" y="585360"/>
            <a:ext cx="23623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KodchiangUPC"/>
              </a:rPr>
              <a:t>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2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วามผิดฐาน ทำร้ายร่างกายผู้อื่น   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2.1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เป็นอันตรายแก่กายหรือจิตใจ               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ของผู้อื่น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ม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.295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2.2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เป็นอันตรายสาหัส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ม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.297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3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วามผิดฐาน กระทำโดยประมาท            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เป็นเหตุให้ผู้อื่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3.1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ถึงแก่ความตาย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ม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.291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3.2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ได้รับอันตรายสาหัส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ม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.300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3.3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ได้รับอันตรายแก่กายหรือจิตใจ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ม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.390)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......................................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KodchiangUP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KodchiangUPC"/>
              </a:rPr>
              <a:t>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หลักคิดในความผิดเกี่ยวกับชีวิตและร่างกาย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1.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เจตนา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LilyUPC"/>
              </a:rPr>
              <a:t>“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ฆ่า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LilyUPC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2" marL="10627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(1)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ไม่ตาย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=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พยายามฆ่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0627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(2)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ตาย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=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ฆ่าคนตายโดยเจตนา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มาตรา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288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ea typeface="LilyUPC"/>
              </a:rPr>
              <a:t>–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289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062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2.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เจตนา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LilyUPC"/>
              </a:rPr>
              <a:t>“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ทำร้าย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LilyUPC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lvl="2" marL="10627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(1)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ไม่ตาย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=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ทำร้ายร่างกาย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มาตรา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295,297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062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(2)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ตาย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=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ฆ่าคนตายโดยไม่เจตนา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มาตรา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290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062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3.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ไม่มีเจตนา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LilyUPC"/>
              </a:rPr>
              <a:t>“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ฆ่า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LilyUPC"/>
              </a:rPr>
              <a:t>”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และ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LilyUPC"/>
              </a:rPr>
              <a:t>“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ทำร้าย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LilyUPC"/>
              </a:rPr>
              <a:t>”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  <a:ea typeface="LilyUP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=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ประมาท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062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(1)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ประมาท เป็นเหตุให้ผู้อื่นถึงแก่ความตาย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มาตรา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291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062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(2)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ประมาท ได้รับอันตรายสาหัส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มาตรา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300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(3)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ประมาท เป็นเหตุให้ผู้อื่นได้รับอันตรายหรือจิตใจ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มาตรา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390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77080" y="244080"/>
            <a:ext cx="15811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99"/>
          </a:solidFill>
          <a:ln w="57240">
            <a:solidFill>
              <a:srgbClr val="000066"/>
            </a:solidFill>
            <a:miter/>
          </a:ln>
        </p:spPr>
        <p:txBody>
          <a:bodyPr anchor="t">
            <a:normAutofit fontScale="92000"/>
          </a:bodyPr>
          <a:p>
            <a:pPr marL="31536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   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 marL="31536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  <a:cs typeface="LilyUPC"/>
              </a:rPr>
              <a:t>พระราชบัญญัติ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 marL="315360" indent="0">
              <a:lnSpc>
                <a:spcPct val="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LilyUPC"/>
              </a:rPr>
              <a:t>วิชาชีพการพยาบาลและการผดุงครรภ์ พ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.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LilyUPC"/>
              </a:rPr>
              <a:t>ศ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. 2528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153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 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LilyUPC"/>
              </a:rPr>
              <a:t>และที่แก้ไขเพิ่มเติมโดย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LilyUPC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153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         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  <a:cs typeface="LilyUPC"/>
              </a:rPr>
              <a:t>พระราชบัญญัติ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 marL="3153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LilyUPC"/>
              </a:rPr>
              <a:t>วิชาชีพการพยาบาลและการผดุงครรภ์                                                           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	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(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LilyUPC"/>
              </a:rPr>
              <a:t>ฉบับที่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2)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LilyUPC"/>
              </a:rPr>
              <a:t>พ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.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LilyUPC"/>
              </a:rPr>
              <a:t>ศ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. 2540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LilyUPC"/>
              </a:rPr>
              <a:t>หมวด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ea typeface="LilyUPC"/>
              </a:rPr>
              <a:t>5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LilyUPC"/>
              </a:rPr>
              <a:t>: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LilyUPC"/>
              </a:rPr>
              <a:t>การควบคุม</a:t>
            </a:r>
            <a:br>
              <a:rPr sz="4800"/>
            </a:b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LilyUPC"/>
              </a:rPr>
              <a:t>การประกอบวิชาชีพการพยาบาลและการผดุงครรภ์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285480" y="1482840"/>
            <a:ext cx="8429400" cy="52322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มาตรา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27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บุคคลจะทำการพยาบาลหรือการผดุงครรภ์    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หรือแสดงด้วยวิธีการใดๆให้ผู้อื่นเข้าใจว่าตนเป็นผู้มีสิทธิ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ประกอบวิชาชีพดังกล่าว โดยที่ตนมิได้ขึ้นทะเบียนและรับ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ใบอนุญาตไม่ได้ เว้นแต่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....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-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กระทำต่อตนเอง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-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กระทำเพื่อช่วยเหลือผู้ป่วย ตามหน้าที่ตามกฎหมาย หรือ      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ตามธรรมจรรยา  โดยมิได้รับประโยชน์ตอบแทน  และต้อง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มิใช่ เป็นการฉีดยาหรือสารใดๆเข้าสู่ร่างกา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-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ผู้กระทำเป็นนักเรียน นักศึกษาหรือผู้รับการฝึกอบรม              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............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ฯลฯ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.............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380360" y="-96480"/>
            <a:ext cx="1077840" cy="31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Kodchiang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Kodchiang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มาตรา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43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ห้ามผู้ประกอบวิชาชีพ   ประกอบวิชาชีพ        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หรือแสดงด้วยวิธีการใดๆ ให้ผู้อื่นเข้าใจว่า  ตนเป็นผู้มีสิทธิ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ประกอบวิชาชีพ  นับแต่วันที่ถูกพักใช้ใบอนุญาต หรือถูกเพิก        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ถอนใบอนุญาต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</a:t>
            </a:r>
            <a:r>
              <a:rPr b="1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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ผู้ใดฝ่าฝืน ต้องระวางโทษจำคุกไม่เกิน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2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ปี หรือ  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ปรับไม่เกิน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20,000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บาท หรือทั้งจำทั้งปรับ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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เมื่อถูกลงโทษจำคุก ให้คณะกรรมการเพิกถอน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ใบอนุญาต นับแต่วันที่ศาลมีคำพิพากษาถึงที่สุด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.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Kodchiang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Kodchiang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Kodchiang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KodchiangUPC"/>
              </a:rPr>
              <a:t>........................................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LilyUPC"/>
              </a:rPr>
              <a:t>หมวด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6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: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LilyUPC"/>
              </a:rPr>
              <a:t>บทกำหนดโทษ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solidFill>
            <a:srgbClr val="71ffff"/>
          </a:solidFill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1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ผู้ที่มิได้ขึ้นทะเบียนและรับใบอนุญาต หรือ                                       ผู้ถูกพักใช้ใบอนุญาต  ได้ฝ่าฝืน โดยกระทำการพยาบาล                                   หรือผดุงครรภ์ หรือแสดงด้วยวิธีการใดๆให้ผู้อื่นเข้าใจว่า                            ตนเป็นผู้มีสิทธิประกอบวิชาชีพ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ม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. 27, 43)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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ต้องระวางโทษจำคุกไม่เกิน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2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ปี หรือปรับไม่เกิน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20,000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บาท หรือทั้งจำทั้งปรับ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KodchiangUPC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81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2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ผู้ประกอบวิชาที่ขาดสมาชิกภาพแล้วไม่ยอม                                            ส่งคืนใบอนุญาต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ม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. 47)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8116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</a:t>
            </a:r>
            <a:r>
              <a:rPr b="1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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ต้องระวางโทษปรับไม่เกิน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1,000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บาท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                                     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Kodchiang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                             </a:t>
            </a:r>
            <a:r>
              <a:rPr b="0" lang="th-TH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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th-TH" sz="5400" spc="-1" strike="noStrike" u="sng">
                <a:solidFill>
                  <a:srgbClr val="ffffff"/>
                </a:solidFill>
                <a:uFillTx/>
                <a:latin typeface="Angsana New"/>
                <a:cs typeface="LilyUPC"/>
              </a:rPr>
              <a:t>หลักกฎหมาย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ecd9"/>
                </a:solidFill>
                <a:latin typeface="Angsana New"/>
                <a:ea typeface="LilyUPC"/>
              </a:rPr>
              <a:t>                        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ea typeface="LilyUPC"/>
              </a:rPr>
              <a:t>1.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LilyUPC"/>
              </a:rPr>
              <a:t>หลักกฎหมายเอกช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ecd9"/>
                </a:solidFill>
                <a:latin typeface="Angsana New"/>
                <a:ea typeface="LilyUPC"/>
              </a:rPr>
              <a:t>                      </a:t>
            </a:r>
            <a:r>
              <a:rPr b="1" lang="th-TH" sz="4800" spc="-1" strike="noStrike">
                <a:solidFill>
                  <a:srgbClr val="00ffff"/>
                </a:solidFill>
                <a:latin typeface="Angsana New"/>
                <a:ea typeface="LilyUPC"/>
              </a:rPr>
              <a:t>2. </a:t>
            </a:r>
            <a:r>
              <a:rPr b="1" lang="th-TH" sz="4800" spc="-1" strike="noStrike">
                <a:solidFill>
                  <a:srgbClr val="00ffff"/>
                </a:solidFill>
                <a:latin typeface="Angsana New"/>
                <a:cs typeface="LilyUPC"/>
              </a:rPr>
              <a:t>หลักกฎหมายมหาช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ffff"/>
                </a:solidFill>
                <a:latin typeface="Angsana New"/>
                <a:ea typeface="LilyUPC"/>
              </a:rPr>
              <a:t>                      </a:t>
            </a:r>
            <a:r>
              <a:rPr b="1" lang="th-TH" sz="4800" spc="-1" strike="noStrike">
                <a:solidFill>
                  <a:srgbClr val="00ff00"/>
                </a:solidFill>
                <a:latin typeface="Angsana New"/>
                <a:ea typeface="LilyUPC"/>
              </a:rPr>
              <a:t>3. </a:t>
            </a:r>
            <a:r>
              <a:rPr b="1" lang="th-TH" sz="4800" spc="-1" strike="noStrike">
                <a:solidFill>
                  <a:srgbClr val="00ff00"/>
                </a:solidFill>
                <a:latin typeface="Angsana New"/>
                <a:cs typeface="LilyUPC"/>
              </a:rPr>
              <a:t>กฎหมายระหว่างประเทศ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LilyUPC"/>
              </a:rPr>
              <a:t>พ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LilyUPC"/>
              </a:rPr>
              <a:t>ร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LilyUPC"/>
              </a:rPr>
              <a:t>บ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LilyUPC"/>
              </a:rPr>
              <a:t>วิชาชีพเวชกรรม พ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LilyUPC"/>
              </a:rPr>
              <a:t>ศ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LilyUPC"/>
              </a:rPr>
              <a:t>. 2525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</a:t>
            </a:r>
            <a:r>
              <a:rPr b="1" lang="th-TH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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  <a:ea typeface="Lily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มาตรา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26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ห้ามผู้ใดประกอบวิชาชีพเวชกรรม  หรือ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แสดงด้วยวิธีใดๆ  ว่าพร้อมที่จะประกอบวิชาชีพเวชกรรม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โดยมิได้เป็นผู้ประกอบวิชาชีพกรรมตามพ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ร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บ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นี้  เว้นแต่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ในกรณีดังต่อไปนี้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(1)...........(2)...............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(3)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นักเรียน นักศึกษา ผู้รับการฝึกอบรม ในการควบ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คุมของสถาบันการศึกษาของรัฐบาล    สถาบันการศึกษา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ของรัฐบาลอนุมัติ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...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ภายใต้การควบคุมของเจ้าหน้าที่ผู้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ฝึกหัด หรือผู้ให้การฝึกอบรม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.....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ngsana New"/>
                <a:ea typeface="LilyUPC"/>
              </a:rPr>
              <a:t>               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  <a:ea typeface="LilyUPC"/>
              </a:rPr>
              <a:t>(4) 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  <a:cs typeface="LilyUPC"/>
              </a:rPr>
              <a:t>บุคคลซึ่งกระทรวง ทบวง กรม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  <a:ea typeface="LilyUPC"/>
              </a:rPr>
              <a:t>......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  <a:cs typeface="LilyUPC"/>
              </a:rPr>
              <a:t>มอบหมา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ให้ประกอบวิชาชีพเวชกรรม   หรือประโรคศิลปะในความ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ควบคุมของเจ้าหน้าที่ซึ่งเป็นผู้ประกอบวิชาชีพเวชกรรม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หรือผู้ประโรคศิลปะในสาขานั้นๆ 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  <a:cs typeface="LilyUPC"/>
              </a:rPr>
              <a:t>ตามระเบียบที่กำหนด</a:t>
            </a:r>
            <a:r>
              <a:rPr b="1" lang="th-TH" sz="3600" spc="-1" strike="noStrike">
                <a:solidFill>
                  <a:srgbClr val="ffff00"/>
                </a:solidFill>
                <a:latin typeface="Angsana New"/>
                <a:ea typeface="LilyUP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ngsana New"/>
                <a:ea typeface="LilyUPC"/>
              </a:rPr>
              <a:t>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(5).........(6)........(7).........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</a:t>
            </a:r>
            <a:r>
              <a:rPr b="1" lang="th-TH" sz="2400" spc="-1" strike="noStrike">
                <a:solidFill>
                  <a:srgbClr val="ffe0c1"/>
                </a:solidFill>
                <a:latin typeface="Wingdings"/>
                <a:ea typeface="Wingdings"/>
              </a:rPr>
              <a:t></a:t>
            </a:r>
            <a:r>
              <a:rPr b="1" lang="th-TH" sz="2800" spc="-1" strike="noStrike">
                <a:solidFill>
                  <a:srgbClr val="ffe0c1"/>
                </a:solidFill>
                <a:latin typeface="Angsana New"/>
                <a:ea typeface="LilyUPC"/>
              </a:rPr>
              <a:t> 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cs typeface="LilyUPC"/>
              </a:rPr>
              <a:t>มาตรา 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ea typeface="LilyUPC"/>
              </a:rPr>
              <a:t>43 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cs typeface="LilyUPC"/>
              </a:rPr>
              <a:t>ผู้ใดฝ่าฝืนมาตรา 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ea typeface="LilyUPC"/>
              </a:rPr>
              <a:t>26 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cs typeface="LilyUPC"/>
              </a:rPr>
              <a:t>ต้องระวาง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e0c1"/>
                </a:solidFill>
                <a:latin typeface="Angsana New"/>
                <a:ea typeface="LilyUPC"/>
              </a:rPr>
              <a:t>        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cs typeface="LilyUPC"/>
              </a:rPr>
              <a:t>จำคุกไม่เกิน 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ea typeface="LilyUPC"/>
              </a:rPr>
              <a:t>3 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cs typeface="LilyUPC"/>
              </a:rPr>
              <a:t>ปี หรือปรับไม่เกิน 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ea typeface="LilyUPC"/>
              </a:rPr>
              <a:t>30,000 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cs typeface="LilyUPC"/>
              </a:rPr>
              <a:t>บาท หรือ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e0c1"/>
                </a:solidFill>
                <a:latin typeface="Angsana New"/>
                <a:ea typeface="LilyUPC"/>
              </a:rPr>
              <a:t>        </a:t>
            </a:r>
            <a:r>
              <a:rPr b="1" lang="th-TH" sz="4000" spc="-1" strike="noStrike">
                <a:solidFill>
                  <a:srgbClr val="ffe0c1"/>
                </a:solidFill>
                <a:latin typeface="Angsana New"/>
                <a:cs typeface="LilyUPC"/>
              </a:rPr>
              <a:t>ทั้งจำทั้งปรับ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2" name="AutoShape 3"/>
          <p:cNvSpPr/>
          <p:nvPr/>
        </p:nvSpPr>
        <p:spPr>
          <a:xfrm>
            <a:off x="7380360" y="2492280"/>
            <a:ext cx="576360" cy="144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ngsana New"/>
                <a:ea typeface="LilyUPC"/>
              </a:rPr>
              <a:t>                          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  <a:cs typeface="LilyUPC"/>
              </a:rPr>
              <a:t>ระเบียบกระทรวงสาธารณสุข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ว่าด้วยบุคคลซึ่งกระทรวง ทบวง กรม กรุงเทพมหานคร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เมืองพัทยา องค์การบริหารส่วนจังหวัด เทศบาล สุขาภิบาล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องค์การบริหารส่วนท้องถิ่นอื่น หรือสภากาชาดไทย มอบหมา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ให้ประกอบวิชาชีพเวชกรรมในความควบคุมของเจ้าหน้าที่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ซึ่งเป็นผู้ประกอบวิชาชีพเวชกรรม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      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พ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ศ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. 2539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468360" y="333360"/>
            <a:ext cx="8351640" cy="719280"/>
          </a:xfrm>
          <a:prstGeom prst="rect">
            <a:avLst/>
          </a:prstGeom>
          <a:solidFill>
            <a:srgbClr val="66ffcc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ระเบียบการมอบหมายให้ประกอบวิชาชีพเวชกรรม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ngsana New"/>
                <a:ea typeface="LilyUPC"/>
              </a:rPr>
              <a:t>                   </a:t>
            </a:r>
            <a:r>
              <a:rPr b="1" lang="th-TH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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Lily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บุคคลที่ได้รับมอบหมาย ให้เป็นผู้ประกอบวิชา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ชีพเวชกรรมได้คือผู้ที่มีวุฒิประกาศนียบัตร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(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ข้อ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7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</a:t>
            </a:r>
            <a:r>
              <a:rPr b="1" lang="th-TH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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Lily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เจ้าพนักงานสาธารณสุข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พนักงานอนามัย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),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สาธารณสุขศาสตร์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,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ผู้ช่วยพยาบาลและผดุงครรภ์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ผู้ประกอบวิชาชีพการพยาบาลและการผดุงครรภ์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ชั้นหนึ่งและชั้นสอง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  </a:t>
            </a:r>
            <a:r>
              <a:rPr b="1" lang="th-TH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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ผู้ประกอบวิชาชีพการพยาบาลชั้นหนึ่งและชั้นสอง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ผู้ช่วยพยาบาล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,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ผู้ช่วยพยาบาลและจิตเวช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        </a:t>
            </a:r>
            <a:r>
              <a:rPr b="1" lang="th-TH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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Lily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ผู้ประกอบวิชาชีพการผดุงครรภ์ชั้นหนึ่งและชั้นสอง  ซึ่งได้ผ่านการอบรมหลักสูตรของกระทรวงสาธารณสุข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ngsana New"/>
                <a:ea typeface="LilyUPC"/>
              </a:rPr>
              <a:t>          </a:t>
            </a:r>
            <a:r>
              <a:rPr b="1" lang="th-TH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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  <a:ea typeface="LilyUPC"/>
              </a:rPr>
              <a:t>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บุคคลซึ่งได้รับมอบหมาย จะทำการประกอบ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วิชาชีพเวชกรรม ได้เฉพาะ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(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ข้อ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LilyUPC"/>
              </a:rPr>
              <a:t>6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1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เป็นการปฏิบัติราชการ หรืออยู่ในระหว่างปฏิบัติ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ราชการตามหน้าที่ หรือตามที่ได้รับมอบหมาย และ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2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ต้องอยู่ในควบคุมของเจ้าหน้าที่ซึ่งเป็นผู้ประกอบ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วิชาชีพเวชกรรม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cc"/>
                </a:solidFill>
                <a:latin typeface="Angsana New"/>
                <a:ea typeface="LilyUPC"/>
              </a:rPr>
              <a:t>                 </a:t>
            </a:r>
            <a:r>
              <a:rPr b="1" lang="th-TH" sz="3600" spc="-1" strike="noStrike">
                <a:solidFill>
                  <a:srgbClr val="ffcccc"/>
                </a:solidFill>
                <a:latin typeface="Arial"/>
                <a:ea typeface="LilyUPC"/>
              </a:rPr>
              <a:t>“</a:t>
            </a:r>
            <a:r>
              <a:rPr b="1" lang="th-TH" sz="4400" spc="-1" strike="noStrike">
                <a:solidFill>
                  <a:srgbClr val="ffcccc"/>
                </a:solidFill>
                <a:latin typeface="Angsana New"/>
                <a:cs typeface="LilyUPC"/>
              </a:rPr>
              <a:t>ควบคุม</a:t>
            </a:r>
            <a:r>
              <a:rPr b="1" lang="th-TH" sz="3600" spc="-1" strike="noStrike">
                <a:solidFill>
                  <a:srgbClr val="ffcccc"/>
                </a:solidFill>
                <a:latin typeface="Arial"/>
                <a:ea typeface="LilyUPC"/>
              </a:rPr>
              <a:t>”</a:t>
            </a:r>
            <a:r>
              <a:rPr b="1" lang="th-TH" sz="3600" spc="-1" strike="noStrike">
                <a:solidFill>
                  <a:srgbClr val="ffcccc"/>
                </a:solidFill>
                <a:latin typeface="Angsana New"/>
                <a:ea typeface="LilyUPC"/>
              </a:rPr>
              <a:t> </a:t>
            </a:r>
            <a:r>
              <a:rPr b="1" lang="th-TH" sz="4000" spc="-1" strike="noStrike">
                <a:solidFill>
                  <a:srgbClr val="ffcccc"/>
                </a:solidFill>
                <a:latin typeface="Angsana New"/>
                <a:cs typeface="LilyUPC"/>
              </a:rPr>
              <a:t>หมายความว่า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  <a:cs typeface="LilyUPC"/>
              </a:rPr>
              <a:t>การดูแล  </a:t>
            </a:r>
            <a:r>
              <a:rPr b="1" lang="th-TH" sz="4000" spc="-1" strike="noStrike">
                <a:solidFill>
                  <a:srgbClr val="00ffff"/>
                </a:solidFill>
                <a:latin typeface="Angsana New"/>
                <a:cs typeface="LilyUPC"/>
              </a:rPr>
              <a:t>หรือ                             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ffff"/>
                </a:solidFill>
                <a:latin typeface="Angsana New"/>
                <a:ea typeface="LilyUPC"/>
              </a:rPr>
              <a:t>                                    </a:t>
            </a:r>
            <a:r>
              <a:rPr b="1" lang="th-TH" sz="4000" spc="-1" strike="noStrike">
                <a:solidFill>
                  <a:srgbClr val="ffff00"/>
                </a:solidFill>
                <a:latin typeface="Angsana New"/>
                <a:cs typeface="LilyUPC"/>
              </a:rPr>
              <a:t>การกำกับดูแล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ngsana New"/>
                <a:ea typeface="LilyUPC"/>
              </a:rPr>
              <a:t>         </a:t>
            </a:r>
            <a:r>
              <a:rPr b="1" lang="th-TH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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  <a:ea typeface="Lily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LilyUPC"/>
              </a:rPr>
              <a:t>วิชาชีพเวชกรรมที่ได้รับมอบหมายให้ปฏิบัติได้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ข้อ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7)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1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ด้านอายุรกรรม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2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ด้านศัลยกรรม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3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ด้านสูตินรีเวชกรรม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4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การเสริมสร้างภูมิคุ้มกันโรค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5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การวางแผนครอบครัว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6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การเจาะเลือด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7.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ด้านปัจจุบันพยาบาล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                      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.................................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9280" y="476280"/>
            <a:ext cx="7704360" cy="56894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LilyUPC"/>
              </a:rPr>
              <a:t>วิทยากรผู้บรรยาย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LilyUPC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นายเรืองรัตน์ บัวสัมฤทธิ์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LilyUPC"/>
              </a:rPr>
              <a:t>    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LilyUPC"/>
              </a:rPr>
              <a:t>ผอ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LilyUPC"/>
              </a:rPr>
              <a:t>กลุ่มเสริมสร้างวินัยและระบบคุณธรรม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LilyUPC"/>
              </a:rPr>
              <a:t>    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LilyUPC"/>
              </a:rPr>
              <a:t>สำนักงานปลัดกระทรวงสาธารณสุข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LilyUPC"/>
              </a:rPr>
              <a:t>    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LilyUPC"/>
              </a:rPr>
              <a:t>โทร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LilyUPC"/>
              </a:rPr>
              <a:t>. 02 5901314,1316,1417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LilyUPC"/>
              </a:rPr>
              <a:t>     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LilyUPC"/>
              </a:rPr>
              <a:t>โทร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LilyUPC"/>
              </a:rPr>
              <a:t>. 081 4090916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LilyUPC"/>
              </a:rPr>
              <a:t>     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LilyUPC"/>
              </a:rPr>
              <a:t>โทรสาร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LilyUPC"/>
              </a:rPr>
              <a:t>02 5918589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0">
              <a:lnSpc>
                <a:spcPct val="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LilyUPC"/>
              </a:rPr>
              <a:t>เรื่อง  ปัญหาบุคลากรทางการแพทย์ถูกร้องเรียน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LilyUPC"/>
              </a:rPr>
              <a:t>ถูกฟ้องคดี และแนวทางแก้ไข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             </a:t>
            </a:r>
            <a:r>
              <a:rPr b="1" lang="th-T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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      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LilyUPC"/>
              </a:rPr>
              <a:t>โดย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LilyUPC"/>
              </a:rPr>
              <a:t>...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LilyUPC"/>
              </a:rPr>
              <a:t>นายเรืองรัตน์ บัวสัมฤทธิ์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LilyUPC"/>
              </a:rPr>
              <a:t>ผอ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LilyUPC"/>
              </a:rPr>
              <a:t>.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LilyUPC"/>
              </a:rPr>
              <a:t>กลุ่มเสริมสร้างวินัยและระบบคุณธรรม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LilyUPC"/>
              </a:rPr>
              <a:t>สำนักงานปลัดกระทรวงสาธารณสุข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                               </a:t>
            </a:r>
            <a:r>
              <a:rPr b="1" lang="th-TH" sz="4800" spc="-1" strike="noStrike">
                <a:solidFill>
                  <a:srgbClr val="ffffff"/>
                </a:solidFill>
                <a:latin typeface="KodchiangUPC"/>
                <a:cs typeface="LilyUPC"/>
              </a:rPr>
              <a:t>ผู้ประกอบวิชาชีพ</a:t>
            </a: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KodchiangUPC"/>
              </a:rPr>
              <a:t>  </a:t>
            </a:r>
            <a:r>
              <a:rPr b="1" lang="th-TH" sz="4400" spc="-1" strike="noStrike">
                <a:solidFill>
                  <a:srgbClr val="ffffff"/>
                </a:solidFill>
                <a:latin typeface="KodchiangUPC"/>
                <a:cs typeface="LilyUPC"/>
              </a:rPr>
              <a:t>ทางการแพทย์และสาธารณสุขจะถูกฟ้องร้องเรื่องใดบ้าง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241200"/>
          </a:solidFill>
          <a:ln w="381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  </a:t>
            </a:r>
            <a:r>
              <a:rPr b="1" lang="th-TH" sz="3200" spc="-1" strike="noStrike">
                <a:solidFill>
                  <a:srgbClr val="ffffff"/>
                </a:solidFill>
                <a:latin typeface="Webdings"/>
                <a:ea typeface="Webdings"/>
              </a:rPr>
              <a:t></a:t>
            </a:r>
            <a:r>
              <a:rPr b="1" lang="th-TH" sz="3200" spc="-1" strike="noStrike">
                <a:solidFill>
                  <a:srgbClr val="ffffff"/>
                </a:solidFill>
                <a:latin typeface="KodchiangUPC"/>
                <a:ea typeface="KodchiangUPC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KodchiangUPC"/>
                <a:cs typeface="LilyUPC"/>
              </a:rPr>
              <a:t>ผู้ประกอบวิชาชีพฯจะถูกฟ้องร้อง </a:t>
            </a:r>
            <a:r>
              <a:rPr b="1" lang="th-TH" sz="4400" spc="-1" strike="noStrike">
                <a:solidFill>
                  <a:srgbClr val="ffffff"/>
                </a:solidFill>
                <a:latin typeface="KodchiangUPC"/>
                <a:ea typeface="LilyUPC"/>
              </a:rPr>
              <a:t>4 </a:t>
            </a:r>
            <a:r>
              <a:rPr b="1" lang="th-TH" sz="4400" spc="-1" strike="noStrike">
                <a:solidFill>
                  <a:srgbClr val="ffffff"/>
                </a:solidFill>
                <a:latin typeface="KodchiangUPC"/>
                <a:cs typeface="LilyUPC"/>
              </a:rPr>
              <a:t>เรื่อง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KodchiangUPC"/>
                <a:ea typeface="LilyUPC"/>
              </a:rPr>
              <a:t>       </a:t>
            </a:r>
            <a:r>
              <a:rPr b="1" lang="th-TH" sz="4000" spc="-1" strike="noStrike">
                <a:solidFill>
                  <a:srgbClr val="ffff00"/>
                </a:solidFill>
                <a:latin typeface="KodchiangUPC"/>
                <a:ea typeface="LilyUPC"/>
              </a:rPr>
              <a:t>1. </a:t>
            </a:r>
            <a:r>
              <a:rPr b="1" lang="th-TH" sz="4000" spc="-1" strike="noStrike">
                <a:solidFill>
                  <a:srgbClr val="ffff00"/>
                </a:solidFill>
                <a:latin typeface="KodchiangUPC"/>
                <a:cs typeface="LilyUPC"/>
              </a:rPr>
              <a:t>เรื่องวินัย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LilyUPC"/>
              </a:rPr>
              <a:t>        </a:t>
            </a:r>
            <a:r>
              <a:rPr b="1" lang="th-TH" sz="4000" spc="-1" strike="noStrike">
                <a:solidFill>
                  <a:srgbClr val="ffcccc"/>
                </a:solidFill>
                <a:latin typeface="KodchiangUPC"/>
                <a:ea typeface="LilyUPC"/>
              </a:rPr>
              <a:t>2. </a:t>
            </a:r>
            <a:r>
              <a:rPr b="1" lang="th-TH" sz="4000" spc="-1" strike="noStrike">
                <a:solidFill>
                  <a:srgbClr val="ffcccc"/>
                </a:solidFill>
                <a:latin typeface="KodchiangUPC"/>
                <a:cs typeface="LilyUPC"/>
              </a:rPr>
              <a:t>เรื่อง กฎหมายวิชาชีพ</a:t>
            </a:r>
            <a:r>
              <a:rPr b="1" lang="th-TH" sz="4000" spc="-1" strike="noStrike">
                <a:solidFill>
                  <a:srgbClr val="ffcccc"/>
                </a:solidFill>
                <a:latin typeface="KodchiangUPC"/>
                <a:ea typeface="LilyUPC"/>
              </a:rPr>
              <a:t>-</a:t>
            </a:r>
            <a:r>
              <a:rPr b="1" lang="th-TH" sz="4000" spc="-1" strike="noStrike">
                <a:solidFill>
                  <a:srgbClr val="ffcccc"/>
                </a:solidFill>
                <a:latin typeface="KodchiangUPC"/>
                <a:cs typeface="LilyUPC"/>
              </a:rPr>
              <a:t>จริยธรรม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LilyUPC"/>
              </a:rPr>
              <a:t>        </a:t>
            </a:r>
            <a:r>
              <a:rPr b="1" lang="th-TH" sz="4000" spc="-1" strike="noStrike">
                <a:solidFill>
                  <a:srgbClr val="00ffff"/>
                </a:solidFill>
                <a:latin typeface="KodchiangUPC"/>
                <a:ea typeface="LilyUPC"/>
              </a:rPr>
              <a:t>3. </a:t>
            </a:r>
            <a:r>
              <a:rPr b="1" lang="th-TH" sz="4000" spc="-1" strike="noStrike">
                <a:solidFill>
                  <a:srgbClr val="00ffff"/>
                </a:solidFill>
                <a:latin typeface="KodchiangUPC"/>
                <a:cs typeface="LilyUPC"/>
              </a:rPr>
              <a:t>เรื่องความรับผิดทางละเมิด หรือคดีแพ่ง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KodchiangUPC"/>
                <a:ea typeface="LilyUPC"/>
              </a:rPr>
              <a:t>        </a:t>
            </a:r>
            <a:r>
              <a:rPr b="1" lang="th-TH" sz="4000" spc="-1" strike="noStrike">
                <a:solidFill>
                  <a:srgbClr val="00ff00"/>
                </a:solidFill>
                <a:latin typeface="KodchiangUPC"/>
                <a:ea typeface="LilyUPC"/>
              </a:rPr>
              <a:t>4. </a:t>
            </a:r>
            <a:r>
              <a:rPr b="1" lang="th-TH" sz="4000" spc="-1" strike="noStrike">
                <a:solidFill>
                  <a:srgbClr val="00ff00"/>
                </a:solidFill>
                <a:latin typeface="KodchiangUPC"/>
                <a:cs typeface="LilyUPC"/>
              </a:rPr>
              <a:t>เรื่องความรับผิดทางอาญา</a:t>
            </a:r>
            <a:r>
              <a:rPr b="1" lang="th-TH" sz="4000" spc="-1" strike="noStrike">
                <a:solidFill>
                  <a:srgbClr val="00ff00"/>
                </a:solidFill>
                <a:latin typeface="KodchiangUPC"/>
                <a:ea typeface="LilyUPC"/>
              </a:rPr>
              <a:t>.                </a:t>
            </a:r>
            <a:r>
              <a:rPr b="1" lang="th-TH" sz="4000" spc="-1" strike="noStrike">
                <a:solidFill>
                  <a:srgbClr val="00ff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ff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ff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ff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ff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ff00"/>
                </a:solidFill>
                <a:latin typeface="KodchiangUPC"/>
                <a:ea typeface="LilyUPC"/>
              </a:rPr>
              <a:t>.............................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  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84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KodchiangUPC"/>
              </a:rPr>
              <a:t>                  </a:t>
            </a:r>
            <a:r>
              <a:rPr b="1" lang="th-TH" sz="5400" spc="-1" strike="noStrike">
                <a:solidFill>
                  <a:srgbClr val="ffffff"/>
                </a:solidFill>
                <a:latin typeface="KodchiangUPC"/>
                <a:cs typeface="LilyUPC"/>
              </a:rPr>
              <a:t>สาเหตุของการฟ้องร้อง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9b3"/>
              </a:gs>
            </a:gsLst>
            <a:lin ang="5400000"/>
          </a:gradFill>
          <a:ln w="2844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th-TH" sz="2800" spc="-1" strike="noStrike">
                <a:solidFill>
                  <a:srgbClr val="000000"/>
                </a:solidFill>
                <a:latin typeface="KodchiangUPC"/>
                <a:ea typeface="KodchiangUPC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cs typeface="LilyUPC"/>
              </a:rPr>
              <a:t>สาเหตุของการฟ้องร้องเกิดจาก</a:t>
            </a: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....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1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วามสัมพันธ์กับผู้ป่วย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     </a:t>
            </a:r>
            <a:r>
              <a:rPr b="1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</a:t>
            </a:r>
            <a:r>
              <a:rPr b="1" lang="th-TH" sz="2800" spc="-1" strike="noStrike">
                <a:solidFill>
                  <a:srgbClr val="000000"/>
                </a:solidFill>
                <a:latin typeface="KodchiangUPC"/>
                <a:ea typeface="Lily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การดูแลผู้ป่วย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,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การพูดจา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,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การสื่อสาร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2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วามรู้ความสามารถ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3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วามรับผิดชอบ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4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วามชัดเจนในการสั่งการรักษาของแพทย์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5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การปกปิดข้อเท็จจริงต่อผู้ป่วย ญาติ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6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วามขัดแย้งของเจ้าหน้าที่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7.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ต้องการได้รับค่าเสียหาย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.......................................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3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8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3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8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3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8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3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8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9d3"/>
          </a:solidFill>
          <a:ln w="38160">
            <a:solidFill>
              <a:srgbClr val="3333cc"/>
            </a:solidFill>
            <a:miter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Times New Roman"/>
                <a:ea typeface="KodchiangUPC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0852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Times New Roman"/>
                <a:ea typeface="KodchiangUPC"/>
              </a:rPr>
              <a:t>       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  <a:ea typeface="LilyUPC"/>
              </a:rPr>
              <a:t>1.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1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มีวัตถุประสงค์เพื่อประโยชน์ของเอกช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1.2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ความสัมพันธ์ระหว่างเอกชน มีความ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เสมอภาคและมีสิทธิเท่าเทียมกั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1.3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เมื่อเกิดความขัดแย้งกัน ศาลเป็นผู้ตัดสิ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        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1.4 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cs typeface="LilyUPC"/>
              </a:rPr>
              <a:t>หลักกฎหมายเอกชน คือ</a:t>
            </a:r>
            <a:r>
              <a:rPr b="1" lang="th-TH" sz="4000" spc="-1" strike="noStrike">
                <a:solidFill>
                  <a:srgbClr val="000000"/>
                </a:solidFill>
                <a:latin typeface="KodchiangUPC"/>
                <a:ea typeface="LilyUPC"/>
              </a:rPr>
              <a:t>....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08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KodchiangUPC"/>
                <a:ea typeface="KodchiangUPC"/>
              </a:rPr>
              <a:t>                   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68360" y="260280"/>
            <a:ext cx="5832360" cy="696960"/>
          </a:xfrm>
          <a:prstGeom prst="rect">
            <a:avLst/>
          </a:prstGeom>
          <a:solidFill>
            <a:srgbClr val="0033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KodchiangUPC"/>
              </a:rPr>
              <a:t>1. </a:t>
            </a:r>
            <a:r>
              <a:rPr b="1" lang="th-TH" sz="4400" spc="-1" strike="noStrike">
                <a:solidFill>
                  <a:srgbClr val="ffff00"/>
                </a:solidFill>
                <a:latin typeface="KodchiangUPC"/>
              </a:rPr>
              <a:t>กฎหมาย</a:t>
            </a:r>
            <a:r>
              <a:rPr b="1" lang="th-TH" sz="4400" spc="-1" strike="noStrike">
                <a:solidFill>
                  <a:srgbClr val="ffff00"/>
                </a:solidFill>
                <a:latin typeface="Times New Roman"/>
              </a:rPr>
              <a:t>เอกชนมีลักษณะดังนี้  </a:t>
            </a:r>
            <a:endParaRPr b="1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547640" y="4724280"/>
            <a:ext cx="5905800" cy="648000"/>
          </a:xfrm>
          <a:prstGeom prst="rect">
            <a:avLst/>
          </a:prstGeom>
          <a:solidFill>
            <a:srgbClr val="361b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JasmineDSE"/>
                <a:ea typeface="KodchiangUPC"/>
              </a:rPr>
              <a:t>“</a:t>
            </a:r>
            <a:r>
              <a:rPr b="1" lang="th-TH" sz="4000" spc="-1" strike="noStrike">
                <a:solidFill>
                  <a:srgbClr val="ffffff"/>
                </a:solidFill>
                <a:latin typeface="JasmineDSE"/>
              </a:rPr>
              <a:t>ทำได้ ถ้ากฎหมายไม่บัญญัติห้ามไว้</a:t>
            </a:r>
            <a:r>
              <a:rPr b="1" lang="th-TH" sz="4000" spc="-1" strike="noStrike">
                <a:solidFill>
                  <a:srgbClr val="ffffff"/>
                </a:solidFill>
                <a:latin typeface="JasmineDSE"/>
                <a:ea typeface="KodchiangUPC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96360" y="-633240"/>
            <a:ext cx="861840" cy="43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LilyUPC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สรุปเหตุที่นำมาฟ้องและศาลยกมาเป็นประเด็นวินิจฉัย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58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ความประมาท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58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1.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ระบบบริการ  เช่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ขั้นตอนในการรักษา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รับหรือไม่รับผู้ป่วยเป็นผู้ป่วยใ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ส่ง หรือไม่ส่งต่อ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ส่งต่อล่าช้าหรือส่งแผนกภายในโรงพยาบาลล่าช้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2.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ไม่มีแพทย์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/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ไม่พบแพทย์ ในการรักษ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3.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วินิจฉัยหรือรักษาโรคผิดพลาดจากความเป็นจริงหรือสาเหตุอื่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4.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เครื่องมือทางแพทย์บกพร่อง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5.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เกิดผลข้างเคียงและ ภาวะแทรกซ้อ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085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6.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แพ้ย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51640" y="-293040"/>
            <a:ext cx="1006560" cy="37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7.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มาตรฐานการให้บริการ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2" marL="1119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8.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ความสัมพันธ์ระหว่างแพทย์กับผู้ป่วยเปลี่ยนไป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2" marL="111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9.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ความคาดหวังของผู้ป่วย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/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ญาติ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2" marL="1119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10.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เอาใจใส่ดูแล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/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ไม่พบแพทย์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2" marL="1119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11.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สื่อสาร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,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ทำความเข้าใจ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,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อธิบายญาติ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2" marL="111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12.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เผยแพร่ให้ประชาชนรู้ถึงการแพ้ยา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/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เกิดผลข้างเคียง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/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2" marL="111996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ภาวะแทรกซ้อ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51640" y="-293040"/>
            <a:ext cx="1006560" cy="37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2000"/>
          </a:bodyPr>
          <a:p>
            <a:pPr lvl="2" marL="105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05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051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13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ไกล่เกลี่ย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,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ประนีประนอม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,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เยียวยาให้ความ   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2" marL="1051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ช่วยเหลือในการักษาพยาบาล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2" marL="105156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14.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ชดใช้ค่าเสียหายเบื้องต้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2" marL="1051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มาตรา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41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พ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ร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บ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หลักประกันสุขภาพไม่เกิน                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2" marL="1051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370,000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บาท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2" marL="10515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มาตรา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11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พ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ร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บ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ความรับผิดทางละเมิด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+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ระเบียบฯ                               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ไม่เกิน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138,000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บาท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lvl="2" marL="1051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15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ให้ข้อมูลหรือการเป็นพยานของแพทย์ด้วยกั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740360" y="-1512000"/>
            <a:ext cx="717480" cy="61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0000"/>
          </a:bodyPr>
          <a:p>
            <a:pPr lvl="1" marL="594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lvl="1" marL="59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 u="sng">
                <a:solidFill>
                  <a:srgbClr val="000000"/>
                </a:solidFill>
                <a:uFillTx/>
                <a:latin typeface="Angsana New"/>
                <a:cs typeface="LilyUPC"/>
              </a:rPr>
              <a:t>กรณีเด็กอุดฟั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LilyUPC"/>
              </a:rPr>
              <a:t>     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ngsana New"/>
                <a:cs typeface="LilyUPC"/>
              </a:rPr>
              <a:t>ข้อเท็จจริงโดยสรุป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1.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เด็กชาย ช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มีอาการปวดฟัน บิดามารดาได้พามารักษาที่โรงพยาบาล             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2.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เจ้าหน้าที่ แจ้งว่า มีฟันผุหลายซี่ และได้อุดฟันซี่ที่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1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โดยมีทันตแพทย์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จำเลย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เป็นผู้ดูแล ระหว่างนั้นเด็กชาย ช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ร้องจึงขออนุญาตจากบิดาใช้ที่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ห่อตัวเด็ก บิดาอนุญาตและได้อุดฟันซี่ที่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1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จนเสร็จ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3.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ทันตแพทย์ พบว่า ฟันซี่ที่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2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และ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3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ผุอีก จึงรักษาต่อไปอีก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2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ซี่ ด้วย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3.1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  <a:ea typeface="LilyUPC"/>
              </a:rPr>
              <a:t>-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กรอฟันซี่ที่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2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อยู่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10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นาที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  <a:ea typeface="LilyUPC"/>
              </a:rPr>
              <a:t>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กรอฟันซี่ที่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3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ต่อไปอีก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3.2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เด็กชาย ช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มีอาการง่วนนอน ไม่ร้อง จึงอุดฟันต่อจนเสร็จ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LilyUPC"/>
              </a:rPr>
              <a:t>( 30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LilyUPC"/>
              </a:rPr>
              <a:t>นาที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LilyUP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4.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เด็กชาย ช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ไม่รู้สึกตัว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,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ตัวอ่อนปวกเปียก จึงรีบนำส่งห้องฉุกเฉิน                             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ซึ่งอยู่ติดกับห้องทันตกรรม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24360" y="-328320"/>
            <a:ext cx="933480" cy="37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 u="sng">
                <a:solidFill>
                  <a:srgbClr val="ffffff"/>
                </a:solidFill>
                <a:uFillTx/>
                <a:latin typeface="Angsana New"/>
                <a:cs typeface="LilyUPC"/>
              </a:rPr>
              <a:t>ประเด็นที่โจทก์ฟ้องอ้างว่าการที่โดยประมาท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1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อุดฟัน เฉยๆ ไม่ได้ให้ยาอะไรเลย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2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เด็กดิ้นรน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,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ขัดขืน ร้องไห้ ยังมัดแขนมัดข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3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ร้องขัดขืนแล้วหลับไปและยังอุดฟันอยู่ต่อไป ไม่ตรวจดูว่าเด็กชาย ช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เป็นอะไร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 </a:t>
            </a:r>
            <a:r>
              <a:rPr b="1" i="1" lang="th-TH" sz="3200" spc="-1" strike="noStrike" u="sng">
                <a:solidFill>
                  <a:srgbClr val="ffffff"/>
                </a:solidFill>
                <a:uFillTx/>
                <a:latin typeface="Angsana New"/>
                <a:cs typeface="LilyUPC"/>
              </a:rPr>
              <a:t>ประเด็นที่ศาลยกมาพิจารณ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1.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การเบิกความของแพทย์ ซึ่งเป็นกุมารแพทย์ ที่รักษาตัวเด็กชาย ช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ต่อ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สมองขาดออกซิเจ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ไม่มีการประคองชีวิตขึ้นพื้นฐาน ภายใน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4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นาที หลังจากหัวใจหยุดเต้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ทันตแพทย์ยอมรับ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2.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ร้องและขัดขืนแล้ว ยังกรอและอุดฟันต่อเป็นเวลานานกว่า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3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นาที แม้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สามารถทำได้ตามหลักวิชาแต่ต้องทราบว่าเป็นอันตรายมากว่าการรักษา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ในเกณฑ์ที่เด็กให้ความร่วมมือไม่ขัดขื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3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ไม่วิเคราะห์ถึงการรักษาให้เหมาะสมในขั้นพื้นฐานหรือนำส่งห้องฉุกเฉิ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    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ได้ทันท่วงที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67640" y="-670320"/>
            <a:ext cx="790560" cy="43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ngsana New"/>
                <a:cs typeface="LilyUPC"/>
              </a:rPr>
              <a:t>แนวทางปฏิบัติเมื่อถูกฟ้องคดี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สงบ  สมาธิ  ปัญญ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ไม่หลบหนี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ระลึกถึงเหตุการณ์  ตรวจสอบข้อเท็จจริง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ศึกษาการรักษาตามเวชระเบีย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รายงานผู้บังคับบัญชา  สสจ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สป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ปรึกษาผู้มีความรู้ทางกฎหมาย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ให้ความร่วมมือในการให้ข้อเท็จจริง ข้อมูล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*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นิติกร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*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คณะกรรมการสอบสวนข้อเท็จจริง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*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พนักงานสอบสว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*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พนักงานอัยการ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430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*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ศาล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โดยเฉพาะการเป็นพยานศาล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380360" y="-23760"/>
            <a:ext cx="1077840" cy="31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KodchiangUPC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1.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คดีแพ่ง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016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พระราชบัญญัติความรับผิดทางละเมิด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=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ฟ้องเจ้าหน้าที่ไม่ได้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016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คดีแพ่งทั่วไป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016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คดีแพ่งเกี่ยวเนื่องกับคดีอาญ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016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1.1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หมายเรียก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016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1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หมายเรียกไต่สวนอนาถา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กรณียื่นฟ้องอย่างคนอนาถา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016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2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ส่งสำเนาคำฟ้อง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005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3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ให้ทำคำให้การ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016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1.2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แจ้งให้ สป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ส่งเรื่องพนักงานอัยการ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/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ทนายความแก้ต่าง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016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1)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ให้ข้อมูล ข้อเท็จจริง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016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2)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สรุปรายละเอียดของการรักษาพยาบาล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/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วิชาการ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016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3)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ลงนามใบแต่งทนายความ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451640" y="-365400"/>
            <a:ext cx="1006560" cy="37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   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LilyUPC"/>
              </a:rPr>
              <a:t>1.3 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พิจารณาของศาล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1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ระบบการพิจารณาของศาล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ไต่ส่วน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,  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กล่าวหา     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2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นัดพร้อม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3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ชี้สองสถาน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4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สืบพยาน                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ภาระการพิสูจน์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/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หน้าที่นำสืบ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,  -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ไปเป็นพยานศาล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พยานหมาย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/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นำ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,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เตรียมตัว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,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สาบานตัว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ตอบคำถาม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5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ทำคำพิพากษ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6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อุทธรณ์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ฎีกา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ข้อจำกัดการอุทธรณ์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หลักเกณฑ์ของกระทรวงการคลัง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7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บังคับคดี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451640" y="-328320"/>
            <a:ext cx="1006560" cy="37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2.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คดีอาญา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ไม่ฟ้องคดีเอง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ฟ้องคดีเอง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2.1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ผู้เสียหายไม่ฟ้องคดีเอง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ร้องทุกต่อตำรวจ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)        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ก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ชั้นตำรวจ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1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ตกเป็นผู้ต้องห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2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ให้การ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3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ควบคุม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4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ปล่อยชั่วคราว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หลักทรัพย์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บุคคล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ข้าราชการ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=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ประกันตนเอง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+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ผู้อื่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ระดับ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3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  <a:ea typeface="LilyUPC"/>
              </a:rPr>
              <a:t>–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5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วงเงินไม่เกิน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60,000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บาท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ระดับ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6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  <a:ea typeface="LilyUPC"/>
              </a:rPr>
              <a:t>–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8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วงเงินไม่กิน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200,000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บาท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ระดับ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9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  <a:ea typeface="LilyUPC"/>
              </a:rPr>
              <a:t>–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11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วงเงินไม่เกิน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500,000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บาท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ระดับ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11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วงเงินไม่เกิน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1,000,000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บาท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    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5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สั่งของพนักงานสอบสวน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235640" y="281160"/>
            <a:ext cx="12222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KodchiangUP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Kodchiang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ข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ในชั้นของพนักงานอัยการ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1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ให้พนักงานสอบสวนเพิ่มเติม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/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เรียกพยานมาซักถาม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5727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2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สั่งคดี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ฟ้อง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,   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ไม่ฟ้อง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5727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ค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ในชั้นพิจารณาคดีของศาล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5727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1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ภาระการพิสูจน์ในคดีอาญา                                                                                     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2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คำให้การในศาล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5727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3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สืบพยา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2891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4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การพิจารณาต่อหน้าจำเลย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2891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(5)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คำพิพากษา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รอการลงโทษ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ศาลจะลงโทษไม่เกิน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3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ปี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ไม่เคยได้รับโทษจำคุกมาก่อ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-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มีเหตุผลพิเศษ เช่น อาชีพ สิ่งแวดล้อมเหตุอื่น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อันควรปรานี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15:19:06Z</dcterms:created>
  <dc:creator>yai</dc:creator>
  <dc:description/>
  <dc:language>en-US</dc:language>
  <cp:lastModifiedBy>PIM</cp:lastModifiedBy>
  <dcterms:modified xsi:type="dcterms:W3CDTF">2010-06-28T03:17:03Z</dcterms:modified>
  <cp:revision>608</cp:revision>
  <dc:subject/>
  <dc:title>นายเรืองรัตนื</dc:title>
</cp:coreProperties>
</file>